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76D2-2CB3-4AA3-A144-2B5B6BD9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B329-0A71-4374-A5AD-873E89B9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47A-6E33-42D9-9D7C-E1255476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607-3EF1-47FE-AC49-90FA8ABB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88A8-7F57-4C2E-9265-4D75C676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F13-3B85-4ED6-A139-C829EA6C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0CF-CFFF-442A-AB8B-DAC7E423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05D-DE7F-4299-BDD0-890B1942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B8F-7E0D-4322-BE98-87B53F8A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332-1CC8-4DF2-A7AC-A382C60D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F0D-2EC0-4400-919E-D2B8E397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573-CFCB-41B6-A7BE-3F11D1B4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A31A-514D-40B1-ABB7-749336EF7B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800080" cy="3981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7080" y="3789360"/>
            <a:ext cx="190512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780000" y="260280"/>
            <a:ext cx="46288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ff99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Карл Густав </a:t>
            </a:r>
            <a:endParaRPr b="1" i="1" lang="en-US" sz="6000" spc="1" strike="noStrike">
              <a:ln w="9360">
                <a:solidFill>
                  <a:srgbClr val="ff99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ff99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Юнг</a:t>
            </a:r>
            <a:endParaRPr b="1" i="1" lang="en-US" sz="6000" spc="1" strike="noStrike">
              <a:ln w="9360">
                <a:solidFill>
                  <a:srgbClr val="ff99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635280" y="2781360"/>
            <a:ext cx="43912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99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1875-1961г.</a:t>
            </a:r>
            <a:endParaRPr b="1" i="1" lang="en-US" sz="5400" spc="1" strike="noStrike">
              <a:ln w="9360">
                <a:solidFill>
                  <a:srgbClr val="0000ff"/>
                </a:solidFill>
                <a:miter/>
              </a:ln>
              <a:solidFill>
                <a:srgbClr val="ff99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4581360"/>
            <a:ext cx="6480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d60093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"Моя жизнь-это история </a:t>
            </a:r>
            <a:endParaRPr b="0" i="1" lang="en-US" sz="1800" spc="1" strike="noStrike">
              <a:ln w="12600">
                <a:solidFill>
                  <a:srgbClr val="d60093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d60093"/>
                  </a:solidFill>
                  <a:miter/>
                </a:ln>
                <a:solidFill>
                  <a:srgbClr val="cc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амореализации бессознательного."</a:t>
            </a:r>
            <a:endParaRPr b="0" i="1" lang="en-US" sz="1800" spc="1" strike="noStrike">
              <a:ln w="12600">
                <a:solidFill>
                  <a:srgbClr val="d60093"/>
                </a:solidFill>
                <a:miter/>
              </a:ln>
              <a:solidFill>
                <a:srgbClr val="cc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050920" y="476280"/>
            <a:ext cx="550548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Эго-направленность</a:t>
            </a:r>
            <a:endParaRPr b="0" i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1413000"/>
            <a:ext cx="115236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131640" y="1341360"/>
            <a:ext cx="86364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55640" y="2421000"/>
            <a:ext cx="2895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экстраверсия</a:t>
            </a:r>
            <a:endParaRPr b="0" i="1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35640" y="2421000"/>
            <a:ext cx="2771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интроверсия</a:t>
            </a:r>
            <a:endParaRPr b="0" i="1" lang="en-US" sz="1800" spc="1" strike="noStrike">
              <a:ln w="9360">
                <a:solidFill>
                  <a:srgbClr val="6666ff"/>
                </a:solidFill>
                <a:miter/>
              </a:ln>
              <a:solidFill>
                <a:srgbClr val="66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3213000"/>
            <a:ext cx="352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интерес к внешнему</a:t>
            </a:r>
            <a:endParaRPr b="0" i="1" lang="en-US" sz="2800" spc="1" strike="noStrike">
              <a:ln w="0">
                <a:noFill/>
              </a:ln>
              <a:solidFill>
                <a:srgbClr val="cc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миру;</a:t>
            </a:r>
            <a:endParaRPr b="0" i="1" lang="en-US" sz="2800" spc="1" strike="noStrike">
              <a:ln w="0">
                <a:noFill/>
              </a:ln>
              <a:solidFill>
                <a:srgbClr val="cc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4437000"/>
            <a:ext cx="3527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подвижность,</a:t>
            </a:r>
            <a:endParaRPr b="0" i="1" lang="en-US" sz="2800" spc="1" strike="noStrike">
              <a:ln w="0">
                <a:noFill/>
              </a:ln>
              <a:solidFill>
                <a:srgbClr val="cc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разговорчивость;</a:t>
            </a:r>
            <a:endParaRPr b="0" i="1" lang="en-US" sz="2800" spc="1" strike="noStrike">
              <a:ln w="0">
                <a:noFill/>
              </a:ln>
              <a:solidFill>
                <a:srgbClr val="cc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0" y="3213000"/>
            <a:ext cx="4295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погружен во внутренний</a:t>
            </a:r>
            <a:endParaRPr b="0" i="1" lang="en-US" sz="2800" spc="1" strike="noStrike">
              <a:ln w="0">
                <a:noFill/>
              </a:ln>
              <a:solidFill>
                <a:srgbClr val="66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0" i="1" lang="en-US" sz="2800" spc="1" strike="noStrike">
                <a:ln w="0">
                  <a:noFill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мир своих мыслей;</a:t>
            </a:r>
            <a:endParaRPr b="0" i="1" lang="en-US" sz="2800" spc="1" strike="noStrike">
              <a:ln w="0">
                <a:noFill/>
              </a:ln>
              <a:solidFill>
                <a:srgbClr val="66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140360" y="4508640"/>
            <a:ext cx="47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сдержанность,стремление к </a:t>
            </a:r>
            <a:endParaRPr b="0" i="1" lang="en-US" sz="2800" spc="1" strike="noStrike">
              <a:ln w="0">
                <a:noFill/>
              </a:ln>
              <a:solidFill>
                <a:srgbClr val="66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уединению, созерцательность;</a:t>
            </a:r>
            <a:endParaRPr b="0" i="1" lang="en-US" sz="2800" spc="1" strike="noStrike">
              <a:ln w="0">
                <a:noFill/>
              </a:ln>
              <a:solidFill>
                <a:srgbClr val="66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71640" y="476280"/>
            <a:ext cx="75722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Психологические функции</a:t>
            </a:r>
            <a:endParaRPr b="0" i="1" lang="en-US" sz="44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4932360" y="1268280"/>
            <a:ext cx="1150920" cy="1008360"/>
          </a:xfrm>
          <a:prstGeom prst="line">
            <a:avLst/>
          </a:prstGeom>
          <a:ln w="63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203280" y="1268280"/>
            <a:ext cx="1081080" cy="1008360"/>
          </a:xfrm>
          <a:prstGeom prst="line">
            <a:avLst/>
          </a:prstGeom>
          <a:ln w="63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492280"/>
            <a:ext cx="3384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рациональные:</a:t>
            </a:r>
            <a:endParaRPr b="0" i="1" lang="en-US" sz="3200" spc="1" strike="noStrike">
              <a:ln w="0">
                <a:noFill/>
              </a:ln>
              <a:solidFill>
                <a:srgbClr val="66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3429000"/>
            <a:ext cx="287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мышление;</a:t>
            </a:r>
            <a:endParaRPr b="0" i="1" lang="en-US" sz="2800" spc="1" strike="noStrike">
              <a:ln w="0">
                <a:noFill/>
              </a:ln>
              <a:solidFill>
                <a:srgbClr val="66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00000" y="4221000"/>
            <a:ext cx="23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чувство;</a:t>
            </a:r>
            <a:endParaRPr b="0" i="1" lang="en-US" sz="2800" spc="1" strike="noStrike">
              <a:ln w="0">
                <a:noFill/>
              </a:ln>
              <a:solidFill>
                <a:srgbClr val="66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859280" y="2492280"/>
            <a:ext cx="374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иррациональные:</a:t>
            </a:r>
            <a:endParaRPr b="0" i="1" lang="en-US" sz="3200" spc="1" strike="noStrike">
              <a:ln w="9360">
                <a:solidFill>
                  <a:srgbClr val="cc00cc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64000" y="3284640"/>
            <a:ext cx="25927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ощущение;</a:t>
            </a:r>
            <a:endParaRPr b="0" i="1" lang="en-US" sz="2800" spc="1" strike="noStrike">
              <a:ln w="0">
                <a:noFill/>
              </a:ln>
              <a:solidFill>
                <a:srgbClr val="cc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64000" y="4076640"/>
            <a:ext cx="252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интуиция;</a:t>
            </a:r>
            <a:endParaRPr b="0" i="1" lang="en-US" sz="2800" spc="1" strike="noStrike">
              <a:ln w="0">
                <a:noFill/>
              </a:ln>
              <a:solidFill>
                <a:srgbClr val="cc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477120" cy="3157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476360" y="620640"/>
            <a:ext cx="647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Душа состоит из трёх </a:t>
            </a:r>
            <a:endParaRPr b="0" i="1" lang="en-US" sz="32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заимодействующих структур:</a:t>
            </a:r>
            <a:endParaRPr b="0" i="1" lang="en-US" sz="32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920" y="549360"/>
            <a:ext cx="8713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Эго-это комплекс </a:t>
            </a:r>
            <a:endParaRPr b="0" i="1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представлений, которые составляют центр сознания </a:t>
            </a:r>
            <a:endParaRPr b="0" i="1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личности и кажутся ей непрерывными и идентичными.</a:t>
            </a:r>
            <a:endParaRPr b="0" i="1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79640" y="2565360"/>
            <a:ext cx="568944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Личное бессознательное-</a:t>
            </a:r>
            <a:endParaRPr b="0" i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ключает в себя конфликты, </a:t>
            </a:r>
            <a:endParaRPr b="0" i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оспоминания, комплексы.</a:t>
            </a:r>
            <a:endParaRPr b="0" i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9280" y="4797360"/>
            <a:ext cx="874872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Коллективное бессознательное-составляет</a:t>
            </a:r>
            <a:endParaRPr b="0" i="1" lang="en-US" sz="2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основную часть души, </a:t>
            </a:r>
            <a:endParaRPr b="0" i="1" lang="en-US" sz="2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а его содержание принадлежит всему человечеству.</a:t>
            </a:r>
            <a:endParaRPr b="0" i="1" lang="en-US" sz="2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549360"/>
            <a:ext cx="1079280" cy="43164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492280"/>
            <a:ext cx="1008360" cy="50328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3933720"/>
            <a:ext cx="792000" cy="1368360"/>
          </a:xfrm>
          <a:prstGeom prst="uturnArrow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24000" y="981000"/>
            <a:ext cx="8486640" cy="422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Архетипы-это врожденные </a:t>
            </a:r>
            <a:endParaRPr b="0" i="1" lang="en-US" sz="4000" spc="1" strike="noStrike">
              <a:ln w="9360">
                <a:solidFill>
                  <a:srgbClr val="d60093"/>
                </a:solidFill>
                <a:miter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идеи или воспоминания, </a:t>
            </a:r>
            <a:endParaRPr b="0" i="1" lang="en-US" sz="4000" spc="1" strike="noStrike">
              <a:ln w="9360">
                <a:solidFill>
                  <a:srgbClr val="d60093"/>
                </a:solidFill>
                <a:miter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которые предрасполагают людей </a:t>
            </a:r>
            <a:endParaRPr b="0" i="1" lang="en-US" sz="4000" spc="1" strike="noStrike">
              <a:ln w="9360">
                <a:solidFill>
                  <a:srgbClr val="d60093"/>
                </a:solidFill>
                <a:miter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оспринимать, переживать и </a:t>
            </a:r>
            <a:endParaRPr b="0" i="1" lang="en-US" sz="4000" spc="1" strike="noStrike">
              <a:ln w="9360">
                <a:solidFill>
                  <a:srgbClr val="d60093"/>
                </a:solidFill>
                <a:miter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реагировать на события </a:t>
            </a:r>
            <a:endParaRPr b="0" i="1" lang="en-US" sz="4000" spc="1" strike="noStrike">
              <a:ln w="9360">
                <a:solidFill>
                  <a:srgbClr val="d60093"/>
                </a:solidFill>
                <a:miter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определённым образом.</a:t>
            </a:r>
            <a:endParaRPr b="0" i="1" lang="en-US" sz="4000" spc="1" strike="noStrike">
              <a:ln w="9360">
                <a:solidFill>
                  <a:srgbClr val="d60093"/>
                </a:solidFill>
                <a:miter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4360" y="5013360"/>
            <a:ext cx="3400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0">
                  <a:noFill/>
                </a:ln>
                <a:solidFill>
                  <a:srgbClr val="ff66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Архетипы</a:t>
            </a:r>
            <a:endParaRPr b="0" i="1" lang="en-US" sz="5400" spc="1" strike="noStrike">
              <a:ln w="0">
                <a:noFill/>
              </a:ln>
              <a:solidFill>
                <a:srgbClr val="ff66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333360"/>
            <a:ext cx="2808360" cy="1441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Т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4581360"/>
            <a:ext cx="2951280" cy="1224000"/>
          </a:xfrm>
          <a:prstGeom prst="cloudCallout">
            <a:avLst>
              <a:gd name="adj1" fmla="val -45856"/>
              <a:gd name="adj2" fmla="val 8411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Перс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3068640"/>
            <a:ext cx="2592360" cy="1224000"/>
          </a:xfrm>
          <a:prstGeom prst="cloudCallout">
            <a:avLst>
              <a:gd name="adj1" fmla="val -45162"/>
              <a:gd name="adj2" fmla="val 6997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Ан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24280"/>
            <a:ext cx="432108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997360"/>
            <a:ext cx="3024000" cy="1368360"/>
          </a:xfrm>
          <a:prstGeom prst="cloudCallout">
            <a:avLst>
              <a:gd name="adj1" fmla="val -45958"/>
              <a:gd name="adj2" fmla="val 6577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Аним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2637000"/>
            <a:ext cx="2952720" cy="1368360"/>
          </a:xfrm>
          <a:prstGeom prst="cloudCallout">
            <a:avLst>
              <a:gd name="adj1" fmla="val -44675"/>
              <a:gd name="adj2" fmla="val 6577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Са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9640" y="907920"/>
            <a:ext cx="2808000" cy="1440000"/>
          </a:xfrm>
          <a:prstGeom prst="cloudCallout">
            <a:avLst>
              <a:gd name="adj1" fmla="val -44402"/>
              <a:gd name="adj2" fmla="val 8208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уд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00720" y="260280"/>
            <a:ext cx="2521080" cy="1297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omic Sans MS"/>
              </a:rPr>
              <a:t>Бо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2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700"/>
                            </p:stCondLst>
                            <p:childTnLst>
                              <p:par>
                                <p:cTn id="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19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29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3900"/>
                            </p:stCondLst>
                            <p:childTnLst>
                              <p:par>
                                <p:cTn id="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042920" y="620640"/>
            <a:ext cx="28083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0">
                  <a:noFill/>
                </a:ln>
                <a:solidFill>
                  <a:srgbClr val="ff66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Персона</a:t>
            </a:r>
            <a:endParaRPr b="0" i="1" lang="en-US" sz="4800" spc="1" strike="noStrike">
              <a:ln w="0">
                <a:noFill/>
              </a:ln>
              <a:solidFill>
                <a:srgbClr val="ff66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71640" y="1916280"/>
            <a:ext cx="5200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наше публичное лицо;</a:t>
            </a:r>
            <a:endParaRPr b="0" i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60280"/>
            <a:ext cx="3887640" cy="1440000"/>
          </a:xfrm>
          <a:prstGeom prst="bracePair">
            <a:avLst>
              <a:gd name="adj" fmla="val 8333"/>
            </a:avLst>
          </a:prstGeom>
          <a:noFill/>
          <a:ln w="63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71640" y="2852640"/>
            <a:ext cx="6724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обозначает множество ролей;</a:t>
            </a:r>
            <a:endParaRPr b="0" i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3860640"/>
            <a:ext cx="85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необходима нам,чтобы ладить с  </a:t>
            </a:r>
            <a:endParaRPr b="0" i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другими людьми в повседневной жизни;</a:t>
            </a:r>
            <a:endParaRPr b="0" i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300720" y="476280"/>
            <a:ext cx="16779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Тень</a:t>
            </a:r>
            <a:endParaRPr b="0" i="1" lang="en-US" sz="4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404640"/>
            <a:ext cx="2521080" cy="1224000"/>
          </a:xfrm>
          <a:prstGeom prst="bracePair">
            <a:avLst>
              <a:gd name="adj" fmla="val 8333"/>
            </a:avLst>
          </a:pr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773360"/>
            <a:ext cx="80787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представляет подавленную тёмную, </a:t>
            </a:r>
            <a:endParaRPr b="0" i="1" lang="en-US" sz="3200" spc="1" strike="noStrike">
              <a:ln w="0">
                <a:noFill/>
              </a:ln>
              <a:solidFill>
                <a:srgbClr val="d6009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дурную и животную сторону личности;</a:t>
            </a:r>
            <a:endParaRPr b="0" i="1" lang="en-US" sz="3200" spc="1" strike="noStrike">
              <a:ln w="0">
                <a:noFill/>
              </a:ln>
              <a:solidFill>
                <a:srgbClr val="d6009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9280" y="3645000"/>
            <a:ext cx="87537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содержит наши социально неприемлимые </a:t>
            </a:r>
            <a:endParaRPr b="0" i="1" lang="en-US" sz="3200" spc="1" strike="noStrike">
              <a:ln w="0">
                <a:noFill/>
              </a:ln>
              <a:solidFill>
                <a:srgbClr val="d6009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сексуальные и агрессивные импульсы;</a:t>
            </a:r>
            <a:endParaRPr b="0" i="1" lang="en-US" sz="3200" spc="1" strike="noStrike">
              <a:ln w="0">
                <a:noFill/>
              </a:ln>
              <a:solidFill>
                <a:srgbClr val="d6009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5229360"/>
            <a:ext cx="83185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источник жизненной силы, </a:t>
            </a:r>
            <a:endParaRPr b="0" i="1" lang="en-US" sz="3200" spc="1" strike="noStrike">
              <a:ln w="0">
                <a:noFill/>
              </a:ln>
              <a:solidFill>
                <a:srgbClr val="d6009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спонтанности и творческого начала;</a:t>
            </a:r>
            <a:endParaRPr b="0" i="1" lang="en-US" sz="3200" spc="1" strike="noStrike">
              <a:ln w="0">
                <a:noFill/>
              </a:ln>
              <a:solidFill>
                <a:srgbClr val="d6009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5364000" y="549360"/>
            <a:ext cx="22323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0">
                  <a:noFill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Анима</a:t>
            </a:r>
            <a:endParaRPr b="0" i="1" lang="en-US" sz="4800" spc="1" strike="noStrike">
              <a:ln w="0">
                <a:noFill/>
              </a:ln>
              <a:solidFill>
                <a:srgbClr val="66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404640"/>
            <a:ext cx="3097440" cy="1224000"/>
          </a:xfrm>
          <a:prstGeom prst="bracePair">
            <a:avLst>
              <a:gd name="adj" fmla="val 8333"/>
            </a:avLst>
          </a:prstGeom>
          <a:noFill/>
          <a:ln w="63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00000" y="3645000"/>
            <a:ext cx="24973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Анимус</a:t>
            </a:r>
            <a:endParaRPr b="0" i="1" lang="en-US" sz="4800" spc="1" strike="noStrike">
              <a:ln w="0">
                <a:noFill/>
              </a:ln>
              <a:solidFill>
                <a:srgbClr val="d6009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3500280"/>
            <a:ext cx="3311640" cy="1150920"/>
          </a:xfrm>
          <a:prstGeom prst="bracePair">
            <a:avLst>
              <a:gd name="adj" fmla="val 8333"/>
            </a:avLst>
          </a:prstGeom>
          <a:noFill/>
          <a:ln w="63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55640" y="2060640"/>
            <a:ext cx="805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внутренний образ женщины в мужчине;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640" y="5013360"/>
            <a:ext cx="813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solidFill>
                  <a:srgbClr val="d6009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внутренний образ мужчины в женщине;</a:t>
            </a:r>
            <a:endParaRPr b="0" i="1" lang="en-US" sz="3200" spc="1" strike="noStrike">
              <a:ln w="0">
                <a:noFill/>
              </a:ln>
              <a:solidFill>
                <a:srgbClr val="d6009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00000" y="476280"/>
            <a:ext cx="2708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0">
                  <a:noFill/>
                </a:ln>
                <a:solidFill>
                  <a:srgbClr val="ff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Самость</a:t>
            </a:r>
            <a:endParaRPr b="0" i="1" lang="en-US" sz="4800" spc="1" strike="noStrike">
              <a:ln w="0">
                <a:noFill/>
              </a:ln>
              <a:solidFill>
                <a:srgbClr val="ff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333360"/>
            <a:ext cx="3527280" cy="1295280"/>
          </a:xfrm>
          <a:prstGeom prst="bracePair">
            <a:avLst>
              <a:gd name="adj" fmla="val 8333"/>
            </a:avLst>
          </a:prstGeom>
          <a:noFill/>
          <a:ln w="63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2060640"/>
            <a:ext cx="91440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представляет собой серцевину личности,</a:t>
            </a:r>
            <a:endParaRPr b="0" i="1" lang="en-US" sz="3200" spc="1" strike="noStrike">
              <a:ln w="9360">
                <a:solidFill>
                  <a:srgbClr val="6666ff"/>
                </a:solidFill>
                <a:miter/>
              </a:ln>
              <a:solidFill>
                <a:srgbClr val="66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0" i="1" lang="en-US" sz="32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округ которой организованы и объединены </a:t>
            </a:r>
            <a:endParaRPr b="0" i="1" lang="en-US" sz="3200" spc="1" strike="noStrike">
              <a:ln w="9360">
                <a:solidFill>
                  <a:srgbClr val="6666ff"/>
                </a:solidFill>
                <a:miter/>
              </a:ln>
              <a:solidFill>
                <a:srgbClr val="66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се другие элементы;</a:t>
            </a:r>
            <a:endParaRPr b="0" i="1" lang="en-US" sz="3200" spc="1" strike="noStrike">
              <a:ln w="9360">
                <a:solidFill>
                  <a:srgbClr val="6666ff"/>
                </a:solidFill>
                <a:miter/>
              </a:ln>
              <a:solidFill>
                <a:srgbClr val="66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71640" y="4437000"/>
            <a:ext cx="68101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-развитие самости - главная цель </a:t>
            </a:r>
            <a:endParaRPr b="0" i="1" lang="en-US" sz="3200" spc="1" strike="noStrike">
              <a:ln w="9360">
                <a:solidFill>
                  <a:srgbClr val="6666ff"/>
                </a:solidFill>
                <a:miter/>
              </a:ln>
              <a:solidFill>
                <a:srgbClr val="66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человеческой жизни;</a:t>
            </a:r>
            <a:endParaRPr b="0" i="1" lang="en-US" sz="3200" spc="1" strike="noStrike">
              <a:ln w="9360">
                <a:solidFill>
                  <a:srgbClr val="6666ff"/>
                </a:solidFill>
                <a:miter/>
              </a:ln>
              <a:solidFill>
                <a:srgbClr val="66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0:16:42Z</dcterms:created>
  <dc:creator>Alexandr</dc:creator>
  <dc:description/>
  <dc:language>en-US</dc:language>
  <cp:lastModifiedBy>маша</cp:lastModifiedBy>
  <dcterms:modified xsi:type="dcterms:W3CDTF">2009-12-08T19:24:30Z</dcterms:modified>
  <cp:revision>3</cp:revision>
  <dc:subject/>
  <dc:title>Карл  Густав  Юнг   (1875-1961г.)</dc:title>
</cp:coreProperties>
</file>