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3.png" ContentType="image/png"/>
  <Override PartName="/ppt/media/image21.jpeg" ContentType="image/jpeg"/>
  <Override PartName="/ppt/media/image8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3.png" ContentType="image/png"/>
  <Override PartName="/ppt/media/image29.jpeg" ContentType="image/jpeg"/>
  <Override PartName="/ppt/media/image33.wmf" ContentType="image/x-wmf"/>
  <Override PartName="/ppt/media/image30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17B0-4BE2-42B4-B043-81BE9BE27F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821E-6022-414F-86AD-99A321EF56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284-A2E3-4DE5-AE82-1C59BA58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ADE5-E716-41C1-9F08-4E4929A6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2B4A-8EFC-411E-B1B7-FE8E4AA0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A72-1D7E-476E-A968-2DDF2ED8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157A-E7EE-4081-8C58-2EEA429C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573D-D0C2-4BDF-ABBA-2D6D1BEC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730F-7FB3-4CF8-AFD2-B47CB7FB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10DD-0C0B-42D7-8D2F-A2F56100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14B8-BDB9-450B-A73C-A53AD0D4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91AF-CF75-451E-9F5F-FEB7E25D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77AA-2C55-4A7D-B2FC-A54B4205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272C-40A8-4A26-8043-4ADA00F7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DF67-4CC3-4857-86CA-E6B8F5D1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5408-4808-4D8D-A747-F54417E8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76CD-184B-45C9-B04C-4A7BC8DC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3BD4-5822-467D-9A41-D930389AE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F427-4DFB-43FB-95EC-25AFA03B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18E0-1BDF-4F78-94BE-AF946A66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ACE-E7EC-4E05-AF9D-87A71B79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E956-10F9-4468-9664-C5BCD8D9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FE1-8CED-48F0-9024-85D9034F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D939-D42B-4F52-83E0-D7E433D1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6AC4-35B3-4DC0-A9B7-830A22F2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2156-659E-469F-BB66-FC11F2E2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8AA7-9C50-42D0-9747-BBF21CCB8D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559C-7425-4D3C-BB43-BA586CD62CC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5300640"/>
            <a:ext cx="4321080" cy="1557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боту выполнил ученик 11 класса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Горячкин  Александр  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уководитель учитель биологии МКОУ Туруновской СОШ Нарейко Н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0" y="2637000"/>
            <a:ext cx="9144000" cy="1428480"/>
          </a:xfrm>
          <a:prstGeom prst="rect">
            <a:avLst/>
          </a:prstGeom>
          <a:solidFill>
            <a:srgbClr val="606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тип Кольчатые черв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Содержимое 5" descr="4.jpg"/>
          <p:cNvPicPr/>
          <p:nvPr/>
        </p:nvPicPr>
        <p:blipFill>
          <a:blip r:embed="rId1"/>
          <a:stretch/>
        </p:blipFill>
        <p:spPr>
          <a:xfrm>
            <a:off x="0" y="1633680"/>
            <a:ext cx="9043920" cy="501012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6" descr=""/>
          <p:cNvPicPr/>
          <p:nvPr/>
        </p:nvPicPr>
        <p:blipFill>
          <a:blip r:embed="rId2"/>
          <a:stretch/>
        </p:blipFill>
        <p:spPr>
          <a:xfrm>
            <a:off x="281160" y="237960"/>
            <a:ext cx="8296200" cy="12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4"/>
          <p:cNvSpPr/>
          <p:nvPr/>
        </p:nvSpPr>
        <p:spPr>
          <a:xfrm>
            <a:off x="500040" y="428760"/>
            <a:ext cx="71438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ловая систе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560" y="2130120"/>
            <a:ext cx="900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632523"/>
                </a:solidFill>
                <a:latin typeface="Calibri"/>
              </a:rPr>
              <a:t>Класс  малощетинковые  черви</a:t>
            </a:r>
            <a:br>
              <a:rPr sz="8800"/>
            </a:br>
            <a:r>
              <a:rPr b="1" lang="ru-RU" sz="8800" spc="-1" strike="noStrike">
                <a:solidFill>
                  <a:srgbClr val="632523"/>
                </a:solidFill>
                <a:latin typeface="Calibri"/>
              </a:rPr>
              <a:t>(Олигохеты)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wor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0_22e53_466eff98_XL"/>
          <p:cNvPicPr/>
          <p:nvPr/>
        </p:nvPicPr>
        <p:blipFill>
          <a:blip r:embed="rId1"/>
          <a:stretch/>
        </p:blipFill>
        <p:spPr>
          <a:xfrm>
            <a:off x="-28440" y="0"/>
            <a:ext cx="917244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5715000" y="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5357880" y="5943600"/>
            <a:ext cx="3643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Трубоч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ласс пияв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2500200"/>
            <a:ext cx="449568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Выделяет </a:t>
            </a:r>
            <a:r>
              <a:rPr b="1" i="1" lang="ru-RU" sz="7200" spc="-1" strike="noStrike" u="sng">
                <a:solidFill>
                  <a:srgbClr val="c00000"/>
                </a:solidFill>
                <a:uFillTx/>
                <a:latin typeface="Calibri"/>
              </a:rPr>
              <a:t>гирудин </a:t>
            </a: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rcRect l="61143" t="0" r="0" b="0"/>
          <a:stretch/>
        </p:blipFill>
        <p:spPr>
          <a:xfrm>
            <a:off x="0" y="4025880"/>
            <a:ext cx="4572000" cy="2832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2"/>
          <a:stretch/>
        </p:blipFill>
        <p:spPr>
          <a:xfrm>
            <a:off x="285840" y="857160"/>
            <a:ext cx="4000320" cy="31226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5"/>
          <p:cNvSpPr/>
          <p:nvPr/>
        </p:nvSpPr>
        <p:spPr>
          <a:xfrm>
            <a:off x="4572000" y="1143000"/>
            <a:ext cx="435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Медицинская пия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84720" y="642600"/>
            <a:ext cx="454176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ыбья пиявка присасывается к коже рыб, пьет кровь и отцепля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2920" y="571320"/>
            <a:ext cx="36432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алая конская пиявк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4292640"/>
            <a:ext cx="40384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ая конская пивка, поедающая черв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2714760"/>
            <a:ext cx="4414680" cy="3214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rcRect l="0" t="0" r="0" b="27540"/>
          <a:stretch/>
        </p:blipFill>
        <p:spPr>
          <a:xfrm>
            <a:off x="4427640" y="4546440"/>
            <a:ext cx="4476600" cy="2311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3"/>
          <a:stretch/>
        </p:blipFill>
        <p:spPr>
          <a:xfrm>
            <a:off x="4857840" y="2500200"/>
            <a:ext cx="33130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И в шутку, и всерьез.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Разложившимися в вине пиявками подкрашивали волосы в черный цв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Высушенная и растертая в порошок японская пиявка, смешанная с рисовой водкой - от болей при перелом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В секрете слюнных желез медицинской пиявки кроме гирудина -  ингибитора фермента тромбина , содержится ряд других биологически активных соединений . Секрет слюнных желез медицинских пиявок проявляет ярко выраженное бактерицидное действие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Особо ревнивые жены добавляли золу из пиявок в еду соперницам, чтобы у тех  выпадали волос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В Китае в лучших ресторанах в качестве деликатеса подают к столу "Морской огурец" - маринованную рыбью пияв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 По старому народному поверью, пиявки были весьма эффективным средством от привиде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Если у Вас сломался барометр, не отчаивайтесь - его вполне сможет заменить самая обыкновенная пиявка. Она очень чутко реагирует на предстоящее изменение пог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ласс многощетинковые черви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лих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692280"/>
            <a:ext cx="4316400" cy="30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наунк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58920" y="4292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убоч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32000" y="1143000"/>
            <a:ext cx="55548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рпули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6264360" y="4417920"/>
            <a:ext cx="2879640" cy="2440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6480000" y="1714680"/>
            <a:ext cx="2664000" cy="2016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3276720" y="3789360"/>
            <a:ext cx="2303280" cy="2735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4"/>
          <a:stretch/>
        </p:blipFill>
        <p:spPr>
          <a:xfrm>
            <a:off x="3203640" y="1557360"/>
            <a:ext cx="2736720" cy="1924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5"/>
          <a:srcRect l="0" t="17611" r="0" b="0"/>
          <a:stretch/>
        </p:blipFill>
        <p:spPr>
          <a:xfrm>
            <a:off x="395280" y="1197000"/>
            <a:ext cx="2376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4" name="Picture 4" descr="7544_300607100511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8"/>
          <p:cNvSpPr/>
          <p:nvPr/>
        </p:nvSpPr>
        <p:spPr>
          <a:xfrm>
            <a:off x="5643720" y="5929200"/>
            <a:ext cx="35002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Нереи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berkleyalivesandworm_1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4"/>
          <p:cNvSpPr/>
          <p:nvPr/>
        </p:nvSpPr>
        <p:spPr>
          <a:xfrm>
            <a:off x="0" y="5943600"/>
            <a:ext cx="342900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Пескожи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ль многощетинковых черв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Баренцевом море есть участки дна, где 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ом квадратном метре живет до 90 тыся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ощетинковых червей! Их сросшиеся труб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огда образуют настоящие риф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лика их роль и как кормовой базы рыб и беспозвоночных.  В частности, они служат основной, при этом высококалорийной, пищей многих промыслов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ыб. 100 граммов высушенных полихет ви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реис разноцветный содержат свыш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50 кка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сравнения: 100 г мяса тунца содержат 1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кал, сайры – 145 ккал, лосося – 140 ккал, а в 100 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бимой многими копченой колбасы – 270 кка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Применение в хозяйстве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511344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оеобразной пищей служит круп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30-40 см) многощетинковый кольчат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рв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лоло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оторый называют “бачи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ычно червь прячется в расщелин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л, среди рифов, но в стр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енное время всплывает 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ерхность океана для соверш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рачного танца. Палоло ловя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черпывая из воды банкой и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рпаком. Эту густую, извивающую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убками коричневато-зеленую мас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самки - серовато-индиговые и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еленоватые, самцы – свет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ичневые) можно есть, завернув 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стья хлебного дерева, без приправ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 отваривая. По вкусу и запаху пало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оминает свежую рыбью ик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5435640" y="1197000"/>
            <a:ext cx="35370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C:\Program Files (x86)\Microsoft Office\MEDIA\CAGCAT10\j0292982.wmf"/>
          <p:cNvPicPr/>
          <p:nvPr/>
        </p:nvPicPr>
        <p:blipFill>
          <a:blip r:embed="rId1"/>
          <a:stretch/>
        </p:blipFill>
        <p:spPr>
          <a:xfrm>
            <a:off x="3564000" y="2060640"/>
            <a:ext cx="5580000" cy="4626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500040" y="6143760"/>
            <a:ext cx="4929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Arial"/>
              </a:rPr>
              <a:t>6) Реген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4" descr=""/>
          <p:cNvPicPr/>
          <p:nvPr/>
        </p:nvPicPr>
        <p:blipFill>
          <a:blip r:embed="rId1"/>
          <a:stretch/>
        </p:blipFill>
        <p:spPr>
          <a:xfrm>
            <a:off x="878040" y="182520"/>
            <a:ext cx="7467480" cy="19321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3" descr="дльлдь.jpg"/>
          <p:cNvPicPr/>
          <p:nvPr/>
        </p:nvPicPr>
        <p:blipFill>
          <a:blip r:embed="rId2"/>
          <a:stretch/>
        </p:blipFill>
        <p:spPr>
          <a:xfrm>
            <a:off x="142920" y="2000160"/>
            <a:ext cx="9039240" cy="46436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ая соединительная линия 15"/>
          <p:cNvSpPr/>
          <p:nvPr/>
        </p:nvSpPr>
        <p:spPr>
          <a:xfrm>
            <a:off x="785880" y="5000760"/>
            <a:ext cx="1785960" cy="928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7"/>
          <p:cNvSpPr/>
          <p:nvPr/>
        </p:nvSpPr>
        <p:spPr>
          <a:xfrm>
            <a:off x="2856960" y="3429000"/>
            <a:ext cx="285480" cy="12859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9"/>
          <p:cNvSpPr/>
          <p:nvPr/>
        </p:nvSpPr>
        <p:spPr>
          <a:xfrm flipH="1">
            <a:off x="7714800" y="3214800"/>
            <a:ext cx="785880" cy="1214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0"/>
          <p:cNvSpPr/>
          <p:nvPr/>
        </p:nvSpPr>
        <p:spPr>
          <a:xfrm>
            <a:off x="2500200" y="5715000"/>
            <a:ext cx="235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дний 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1"/>
          <p:cNvSpPr/>
          <p:nvPr/>
        </p:nvSpPr>
        <p:spPr>
          <a:xfrm>
            <a:off x="3000240" y="478620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ф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7000920" y="4500720"/>
            <a:ext cx="157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ний 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20840" y="-249120"/>
            <a:ext cx="8242200" cy="1839960"/>
          </a:xfrm>
          <a:prstGeom prst="rect">
            <a:avLst/>
          </a:prstGeom>
          <a:ln w="0">
            <a:noFill/>
          </a:ln>
        </p:spPr>
      </p:pic>
      <p:pic>
        <p:nvPicPr>
          <p:cNvPr id="107" name="Содержимое 4" descr="1.jpg"/>
          <p:cNvPicPr/>
          <p:nvPr/>
        </p:nvPicPr>
        <p:blipFill>
          <a:blip r:embed="rId2"/>
          <a:stretch/>
        </p:blipFill>
        <p:spPr>
          <a:xfrm>
            <a:off x="127080" y="1571760"/>
            <a:ext cx="887400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Содержимое 3" descr="2.jpg"/>
          <p:cNvPicPr/>
          <p:nvPr/>
        </p:nvPicPr>
        <p:blipFill>
          <a:blip r:embed="rId1"/>
          <a:stretch/>
        </p:blipFill>
        <p:spPr>
          <a:xfrm>
            <a:off x="0" y="1357200"/>
            <a:ext cx="9239400" cy="521496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5" descr=""/>
          <p:cNvPicPr/>
          <p:nvPr/>
        </p:nvPicPr>
        <p:blipFill>
          <a:blip r:embed="rId2"/>
          <a:stretch/>
        </p:blipFill>
        <p:spPr>
          <a:xfrm>
            <a:off x="-6480" y="-96840"/>
            <a:ext cx="8942400" cy="25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одержимое 3" descr="3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0" y="1714680"/>
            <a:ext cx="8989920" cy="50004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3714840" y="13572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нной сос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Прямоугольник 5" descr=""/>
          <p:cNvPicPr/>
          <p:nvPr/>
        </p:nvPicPr>
        <p:blipFill>
          <a:blip r:embed="rId2"/>
          <a:stretch/>
        </p:blipFill>
        <p:spPr>
          <a:xfrm>
            <a:off x="268200" y="66600"/>
            <a:ext cx="8425080" cy="120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08:46:04Z</dcterms:created>
  <dc:creator>ViP</dc:creator>
  <dc:description/>
  <dc:language>en-US</dc:language>
  <cp:lastModifiedBy>Admin</cp:lastModifiedBy>
  <dcterms:modified xsi:type="dcterms:W3CDTF">2020-04-02T07:13:43Z</dcterms:modified>
  <cp:revision>37</cp:revision>
  <dc:subject/>
  <dc:title>Многообразие классов типа Кольчатых червей</dc:title>
</cp:coreProperties>
</file>