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29.jpeg" ContentType="image/jpeg"/>
  <Override PartName="/ppt/media/image33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79B-8FC2-4270-AE6F-ED771AB79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6ACB-5FD7-4467-A193-4E614D7A0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FD7-994B-4616-A092-E6912D3A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B22-C116-4365-BFA7-904ED68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43B-E66A-46E9-BCBE-9906C0EC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73A-1E88-46FA-9000-77FF553B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A0C8-A9F1-4BB8-B19F-594ECD65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F76-62A0-4E56-B965-43617D7D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A48D-B024-48E0-8A02-51EB470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E5F-C93A-41E3-A423-B02DD2F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F810-4C79-4F92-93DC-99DBBA0E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14E-3D76-4A0C-853B-4232410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80DE-F9DF-40B4-841F-445F581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114-9ED4-498D-AB6E-017D7F1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C78-E25A-4763-B383-047505A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AD3-F08E-4130-9A00-C2064C06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56D-B6CC-45F5-AC54-CDC6939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6D15-920A-4876-9CE1-5FECCF89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D714-0529-4558-825C-B997CF30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371-C6CB-485B-B3C9-541C0D8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EC4-FF0E-4FB7-9E4D-4785C7EB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9E6-45BF-4152-87EB-6E3764A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3FC-FF28-4B5E-AE54-7452463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1EB-1EA9-4511-ACFD-D90319E0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DD6-94A5-437D-AFD5-1121A4C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7BA-3009-4F68-80D1-5FE7C4F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4B7-D5DF-491A-A0C5-F9304A47A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482-26A2-41E3-97FC-A53667B3FE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300640"/>
            <a:ext cx="4321080" cy="155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у выполнил ученик 11 класса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рячкин  Александр 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 учитель биологии МКОУ Туруновской СОШ Нарейко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0" y="2637000"/>
            <a:ext cx="9144000" cy="1428480"/>
          </a:xfrm>
          <a:prstGeom prst="rect">
            <a:avLst/>
          </a:prstGeom>
          <a:solidFill>
            <a:srgbClr val="606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ип Кольчатые черв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5" descr="4.jpg"/>
          <p:cNvPicPr/>
          <p:nvPr/>
        </p:nvPicPr>
        <p:blipFill>
          <a:blip r:embed="rId1"/>
          <a:stretch/>
        </p:blipFill>
        <p:spPr>
          <a:xfrm>
            <a:off x="0" y="1633680"/>
            <a:ext cx="9043920" cy="50101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6" descr=""/>
          <p:cNvPicPr/>
          <p:nvPr/>
        </p:nvPicPr>
        <p:blipFill>
          <a:blip r:embed="rId2"/>
          <a:stretch/>
        </p:blipFill>
        <p:spPr>
          <a:xfrm>
            <a:off x="281160" y="237960"/>
            <a:ext cx="8296200" cy="12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500040" y="428760"/>
            <a:ext cx="7143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560" y="213012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32523"/>
                </a:solidFill>
                <a:latin typeface="Calibri"/>
              </a:rPr>
              <a:t>Класс  малощетинковые  черви</a:t>
            </a:r>
            <a:br>
              <a:rPr sz="8800"/>
            </a:br>
            <a:r>
              <a:rPr b="1" lang="ru-RU" sz="8800" spc="-1" strike="noStrike">
                <a:solidFill>
                  <a:srgbClr val="632523"/>
                </a:solidFill>
                <a:latin typeface="Calibri"/>
              </a:rPr>
              <a:t>(Олигохеты)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w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0_22e53_466eff98_XL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5715000" y="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357880" y="5943600"/>
            <a:ext cx="36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рубоч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асс пияв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2500200"/>
            <a:ext cx="44956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Выделяет </a:t>
            </a:r>
            <a:r>
              <a:rPr b="1" i="1" lang="ru-RU" sz="7200" spc="-1" strike="noStrike" u="sng">
                <a:solidFill>
                  <a:srgbClr val="c00000"/>
                </a:solidFill>
                <a:uFillTx/>
                <a:latin typeface="Calibri"/>
              </a:rPr>
              <a:t>гирудин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rcRect l="61143" t="0" r="0" b="0"/>
          <a:stretch/>
        </p:blipFill>
        <p:spPr>
          <a:xfrm>
            <a:off x="0" y="4025880"/>
            <a:ext cx="4572000" cy="283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285840" y="857160"/>
            <a:ext cx="4000320" cy="3122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4572000" y="1143000"/>
            <a:ext cx="43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едицинская пия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4720" y="642600"/>
            <a:ext cx="45417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бья пиявка присасывается к коже рыб, пьет кровь и отцепл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920" y="571320"/>
            <a:ext cx="36432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ая конская пияв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429264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конская пивка, поедающая черв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2714760"/>
            <a:ext cx="4414680" cy="32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0" t="0" r="0" b="27540"/>
          <a:stretch/>
        </p:blipFill>
        <p:spPr>
          <a:xfrm>
            <a:off x="4427640" y="4546440"/>
            <a:ext cx="4476600" cy="231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857840" y="2500200"/>
            <a:ext cx="33130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 в шутку, и всерьез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азложившимися в вине пиявками подкрашивали волосы в черный ц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сушенная и растертая в порошок японская пиявка, смешанная с рисовой водкой - от болей при перело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В секрете слюнных желез медицинской пиявки кроме гирудина -  ингибитора фермента тромбина , содержится ряд других биологически активных соединений . Секрет слюнных желез медицинских пиявок проявляет ярко выраженное бактерицидное действие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Особо ревнивые жены добавляли золу из пиявок в еду соперницам, чтобы у тех  выпадали волос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 Китае в лучших ресторанах в качестве деликатеса подают к столу "Морской огурец" - маринованную рыбью пия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По старому народному поверью, пиявки были весьма эффективным средством от приви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Если у Вас сломался барометр, не отчаивайтесь - его вполне сможет заменить самая обыкновенная пиявка. Она очень чутко реагирует на предстоящее изменение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асс многощетинковые черв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их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692280"/>
            <a:ext cx="4316400" cy="30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наунк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8920" y="4292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боч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32000" y="1143000"/>
            <a:ext cx="5554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пули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264360" y="4417920"/>
            <a:ext cx="2879640" cy="244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480000" y="171468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303280" cy="273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203640" y="155736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rcRect l="0" t="17611" r="0" b="0"/>
          <a:stretch/>
        </p:blipFill>
        <p:spPr>
          <a:xfrm>
            <a:off x="395280" y="1197000"/>
            <a:ext cx="237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4" descr="7544_300607100511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8"/>
          <p:cNvSpPr/>
          <p:nvPr/>
        </p:nvSpPr>
        <p:spPr>
          <a:xfrm>
            <a:off x="5643720" y="5929200"/>
            <a:ext cx="35002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ере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berkleyalivesandworm_1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5943600"/>
            <a:ext cx="34290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ескож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многощетинковых чер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аренцевом море есть участки дна, где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ом квадратном метре живет до 90 тыся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щетинковых червей! Их сросшиеся тру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образуют настоящие риф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а их роль и как кормовой базы рыб и беспозвоночных.  В частности, они служат основной, при этом высококалорийной, пищей многих промыслов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б. 100 граммов высушенных полихет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еис разноцветный содержат свыш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50 кк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равнения: 100 г мяса тунца содержат 1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кал, сайры – 145 ккал, лосося – 140 ккал, а в 10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имой многими копченой колбасы – 270 кк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рименение в хозяйств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51134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еобразной пищей служит круп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30-40 см) многощетинковый кольча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в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лол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торый называют “бачи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червь прячется в расщели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л, среди рифов, но в стр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ное время всплывает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рхность океана для совер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ачного танца. Палоло ловя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ерпывая из воды банкой 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паком. Эту густую, извивающую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убками коричневато-зеленую мас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амки - серовато-индиговые 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еленоватые, самцы – свет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ичневые) можно есть, завернув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тья хлебного дерева, без припра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отваривая. По вкусу и запаху пал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минает свежую рыбью ик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537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:\Program Files (x86)\Microsoft Office\MEDIA\CAGCAT10\j0292982.wmf"/>
          <p:cNvPicPr/>
          <p:nvPr/>
        </p:nvPicPr>
        <p:blipFill>
          <a:blip r:embed="rId1"/>
          <a:stretch/>
        </p:blipFill>
        <p:spPr>
          <a:xfrm>
            <a:off x="3564000" y="2060640"/>
            <a:ext cx="5580000" cy="4626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500040" y="6143760"/>
            <a:ext cx="492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6) Реген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4" descr=""/>
          <p:cNvPicPr/>
          <p:nvPr/>
        </p:nvPicPr>
        <p:blipFill>
          <a:blip r:embed="rId1"/>
          <a:stretch/>
        </p:blipFill>
        <p:spPr>
          <a:xfrm>
            <a:off x="878040" y="182520"/>
            <a:ext cx="746748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дльлдь.jpg"/>
          <p:cNvPicPr/>
          <p:nvPr/>
        </p:nvPicPr>
        <p:blipFill>
          <a:blip r:embed="rId2"/>
          <a:stretch/>
        </p:blipFill>
        <p:spPr>
          <a:xfrm>
            <a:off x="142920" y="2000160"/>
            <a:ext cx="9039240" cy="4643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ая соединительная линия 15"/>
          <p:cNvSpPr/>
          <p:nvPr/>
        </p:nvSpPr>
        <p:spPr>
          <a:xfrm>
            <a:off x="785880" y="5000760"/>
            <a:ext cx="1785960" cy="928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2856960" y="3429000"/>
            <a:ext cx="285480" cy="1285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9"/>
          <p:cNvSpPr/>
          <p:nvPr/>
        </p:nvSpPr>
        <p:spPr>
          <a:xfrm flipH="1">
            <a:off x="7714800" y="3214800"/>
            <a:ext cx="78588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2500200" y="571500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н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3000240" y="47862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7000920" y="450072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н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20840" y="-249120"/>
            <a:ext cx="8242200" cy="183996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1.jpg"/>
          <p:cNvPicPr/>
          <p:nvPr/>
        </p:nvPicPr>
        <p:blipFill>
          <a:blip r:embed="rId2"/>
          <a:stretch/>
        </p:blipFill>
        <p:spPr>
          <a:xfrm>
            <a:off x="127080" y="1571760"/>
            <a:ext cx="88740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2.jpg"/>
          <p:cNvPicPr/>
          <p:nvPr/>
        </p:nvPicPr>
        <p:blipFill>
          <a:blip r:embed="rId1"/>
          <a:stretch/>
        </p:blipFill>
        <p:spPr>
          <a:xfrm>
            <a:off x="0" y="1357200"/>
            <a:ext cx="9239400" cy="52149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-96840"/>
            <a:ext cx="894240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0" y="1714680"/>
            <a:ext cx="8989920" cy="5000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714840" y="1357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ой сос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268200" y="66600"/>
            <a:ext cx="8425080" cy="12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8:46:04Z</dcterms:created>
  <dc:creator>ViP</dc:creator>
  <dc:description/>
  <dc:language>en-US</dc:language>
  <cp:lastModifiedBy>Admin</cp:lastModifiedBy>
  <dcterms:modified xsi:type="dcterms:W3CDTF">2020-04-02T07:13:43Z</dcterms:modified>
  <cp:revision>37</cp:revision>
  <dc:subject/>
  <dc:title>Многообразие классов типа Кольчатых червей</dc:title>
</cp:coreProperties>
</file>