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gif" ContentType="image/gif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5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61A46-2D26-47C9-A75A-4A7ACDD099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D4A5F-EF47-481C-8B4A-DD220C36D7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4DDF6-FA16-48D7-97F0-57420E9753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4C549-4CE5-4D6E-B102-46DCB24707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8F2D5-48A4-48C0-94F0-03A9A6178B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4E0E6-D606-4832-8557-E9DFAF8444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C07E2-8B2B-4ABE-86DA-F0472A5F33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04631-249B-48D1-B4C9-4B49C65033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1B3AA-C6BF-4159-BBF3-2970DBDA83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2D108-4D7D-4758-B999-1F52E5B3E8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57DD4-7E40-4EB7-A7FF-7700EC46A2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0C035-3A9C-41CB-AA2A-D4173749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5817F-62B0-4D03-8052-A642EF98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AA152-7293-48C3-B04C-F9974B7309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FE1AB-3B4A-49B4-80EE-8796FA0F05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E3721-7594-4DFD-87E2-9BFBB7CC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C307F-7AB9-42B1-B471-FA46DC57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2E239-5D21-4B94-AF58-EE4F2500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CF331-4C2D-441A-8CAC-D81321BB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61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24B30-A5B0-4C41-8B90-4B6089C0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F396F-D756-40A2-830A-4D31A900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54380-BF07-4E2F-A3AC-E40E8040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80481-34C0-45E0-BA3C-9D216FF5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8B6B9-A5ED-4793-8D4A-B4DB64DE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DBE97-4952-4EC2-84D0-AE7A89BF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A9106-2BA2-46AF-AC72-BB99681F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06179-0D51-4CCB-B414-F11FB69BD5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45264-4696-48E5-8535-6089F01C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C35D4-4EE1-448C-9534-A53AEFBD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9E2F8-3A42-42F2-8AD1-6613F05A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61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8A6FA-E07A-450E-99C7-5C842240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329B2-DAA7-479B-AAED-2D422D16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C5EFF-A448-4ED2-88EA-D3B5A348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B7E42-7ACE-4199-A820-0466833A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11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9234B6-BF81-45D5-91AE-3454BDCC0E6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95480" indent="-221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11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B93E66-51A0-4CC6-A8BF-78224D4942C8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4240" y="1213920"/>
            <a:ext cx="77724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e46c0a"/>
                </a:solidFill>
                <a:latin typeface="Calibri"/>
              </a:rPr>
              <a:t>Тема: Косметика для автомобиля. Загрязнение окружающей среды автомобильным транспорт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50920" y="1484280"/>
            <a:ext cx="864396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 algn="just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7030a0"/>
                </a:solidFill>
                <a:latin typeface="Calibri"/>
              </a:rPr>
              <a:t>Работы в направлении ведутся во всем мире и дают определенные результаты. Автомобили, выпускаемые в настоящее время в промышленно развитых странах, выбрасывают вредных веществ в 10—15 раз меньше, чем 10—15 лет тому назад. Во всех развитых странах происходит ужесточение нормативов на вредные выбросы при работе двигателя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266544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69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сметика для автомобил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5" descr="main_img1980.jpg"/>
          <p:cNvPicPr/>
          <p:nvPr/>
        </p:nvPicPr>
        <p:blipFill>
          <a:blip r:embed="rId1"/>
          <a:stretch/>
        </p:blipFill>
        <p:spPr>
          <a:xfrm>
            <a:off x="714240" y="3929040"/>
            <a:ext cx="3857760" cy="25718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thumb_1448762488-b17bdc4e63.jpg"/>
          <p:cNvPicPr/>
          <p:nvPr/>
        </p:nvPicPr>
        <p:blipFill>
          <a:blip r:embed="rId2"/>
          <a:stretch/>
        </p:blipFill>
        <p:spPr>
          <a:xfrm>
            <a:off x="5072040" y="4357800"/>
            <a:ext cx="3714840" cy="208908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7" descr=""/>
          <p:cNvPicPr/>
          <p:nvPr/>
        </p:nvPicPr>
        <p:blipFill>
          <a:blip r:embed="rId3"/>
          <a:stretch/>
        </p:blipFill>
        <p:spPr>
          <a:xfrm>
            <a:off x="1695600" y="1073160"/>
            <a:ext cx="620532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072040" y="3675240"/>
            <a:ext cx="3887640" cy="3182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"/>
          <p:cNvSpPr/>
          <p:nvPr/>
        </p:nvSpPr>
        <p:spPr>
          <a:xfrm>
            <a:off x="142920" y="928800"/>
            <a:ext cx="864396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егодня производственная деятельность человечества связанна с использованием разнообразных природных ресурсов, охватывающих большинство химических элементов. Усиление техногенного воздействия на природную среду породило ряд экологических проблем. Самые острые связаны с состоянием атмосферы и гидросферы. Некоторые «изменения», такие как загрязнение воздуха или воды, могут непосредственно влиять на здоровье и жизнедеятельность организ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Загрязнение сре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0" y="928800"/>
            <a:ext cx="55008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300" spc="-1" strike="noStrike">
                <a:solidFill>
                  <a:srgbClr val="7030a0"/>
                </a:solidFill>
                <a:latin typeface="Calibri"/>
              </a:rPr>
              <a:t>Угарный газ и окислы азота, столь интенсивно выделяемые на первый взгляд невинным голубоватым дымком глушителя автомобиля — вот одна из основных причин головных болей, усталости, низкой трудоспособности. Сернистый газ способен воздействовать на генетический аппарат, способствуя бесплодию и врожденным уродствам, а все вместе эти факторы ведут к стрессам, нервным проявлениям, стремлению к уединению, безразличию к самым близким людям. В больших городах также более широко распространены заболевания органов кровообращения и дыхания, инфаркты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5572080" y="1643040"/>
            <a:ext cx="3332160" cy="228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311280" cy="23511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214200" y="1143000"/>
            <a:ext cx="4824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800080"/>
                </a:solidFill>
                <a:latin typeface="Calibri"/>
              </a:rPr>
              <a:t>Применение этилированного бензина, имеющего в собственном составе соединения свинца, вызывает загрязнение атмосферного воздуха очень токсичными соединениями свинца. Около 70% свинца, добавленного к бензину с этиловой жидкостью, попадает в атмосферу с отработавшими газами, из них 30% оседает на земле сходу, а 40% остается в атмосфере. Один грузовой кар средней грузоподъемности выделяет 2,5 – 3 кг свинца в год. 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3672000" cy="3672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53964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Загрязнение сред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50920" y="1341360"/>
            <a:ext cx="417816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800080"/>
                </a:solidFill>
                <a:latin typeface="Arial"/>
              </a:rPr>
              <a:t>По расчетам специалистов, «вклад» автомобильного транспорта в атмосферу составляет до 90% по окиси углерода и 70% по окиси азота. Автомобиль также добавляет в почву и воздух тяжелые металлы и другие вредные вещества. Основными источниками загрязнения воздушной среды автомобилей являются отработавшие газы, топливные испарения. Двигатель внутреннего сгорания — это тепловой двигатель, в котором химическая энергия топли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473720" y="1928880"/>
            <a:ext cx="4670280" cy="3619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Calibri"/>
              </a:rPr>
              <a:t>Основные источники загрязнения воздушной сре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Влияние автотранспорта на челове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1500120"/>
            <a:ext cx="507204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          </a:t>
            </a:r>
            <a:r>
              <a:rPr b="0" lang="ru-RU" sz="2300" spc="-1" strike="noStrike">
                <a:solidFill>
                  <a:srgbClr val="800080"/>
                </a:solidFill>
                <a:latin typeface="Calibri"/>
              </a:rPr>
              <a:t>Чувствительность населения к действию загрязнения атмосферы зависит от большого числа факторов, в том числе от возраста, пола, общего состояния здоровья, питания, температуры и влажности и т.д. Лица пожилого возраста, дети, больные, курильщики, страдающие хроническим бронхитом, коронарной недостаточностью, астмой, являются более уязвимыми. Вдыхание озона вызывает кашель, одышку, повреждает легочные ткани и ослабляет иммунную систему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500800" y="1928880"/>
            <a:ext cx="3330360" cy="447048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4643280" y="4572000"/>
            <a:ext cx="4104000" cy="1979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9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Для того чтобы сохранить человечеству автомобиль необходимо если не исключить, то свести к минимуму вредные выбросы. 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98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Основные пути снижения экологического ущерба от транспорта выделятся в следующе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     </a:t>
            </a: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оптимизация движения городского транспор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      </a:t>
            </a: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разработка альтернативных энергоисточ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      </a:t>
            </a: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дожигание и очистка органического топли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      </a:t>
            </a: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создание (модификация) двигателей, использующих альтернативные топли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      </a:t>
            </a: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защита от шу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  </a:t>
            </a: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экономические инициативы по управлению автомобильным пар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539640" y="720720"/>
            <a:ext cx="752472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егодня экологический ущерб автотранспорта огромен и проявляется непосредственно во многих явлениях: загрязнение почвы, воды, атмосферы, автотранспорт создает шумовые и энергетические загрязнения. Все это ведет к значительному ухудшению здоровья и сокращению жизни населения. Человечество губит само себя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160720" cy="2154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ия</cp:lastModifiedBy>
  <dcterms:modified xsi:type="dcterms:W3CDTF">2020-04-02T10:40:13Z</dcterms:modified>
  <cp:revision>6</cp:revision>
  <dc:subject/>
  <dc:title>Влияние автотранспорта на окружающую среду</dc:title>
</cp:coreProperties>
</file>