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3139-53B7-42B7-84A9-067BD9B14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96D1-5511-4E9A-B131-E6E05A81D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6165-7DDE-4480-97C4-E39B7B1D4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10F2-25DA-46EE-8B66-C69411A72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5702-A913-443C-A418-8802B9D7E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5B10-2D5E-4EFC-B9D1-F2EA14069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7A53-CC6D-4565-9611-F5E9B07C6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01C3-9061-45FE-BCBC-1518FC04F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CCB1-BADA-48A0-83FB-FAFF38D4D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04D0-4955-4465-8B62-BF276D3C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D601-F280-4C8B-A11D-1415BAABA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814A-6202-4D3B-BBD5-946CA3801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9E1C7-DE04-4DAA-8533-E7D1B1CB40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28480" y="3857400"/>
            <a:ext cx="59151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8a54"/>
                </a:solidFill>
                <a:latin typeface="Calibri"/>
              </a:rPr>
              <a:t>ПРОБЛЕМАТИКА ПЬЕСЫ </a:t>
            </a:r>
            <a:br>
              <a:rPr sz="3600"/>
            </a:br>
            <a:r>
              <a:rPr b="1" lang="ru-RU" sz="3600" spc="-1" strike="noStrike">
                <a:solidFill>
                  <a:srgbClr val="948a54"/>
                </a:solidFill>
                <a:latin typeface="Calibri"/>
              </a:rPr>
              <a:t>М. ГОРЬКОГО </a:t>
            </a:r>
            <a:br>
              <a:rPr sz="3600"/>
            </a:br>
            <a:r>
              <a:rPr b="1" lang="ru-RU" sz="3600" spc="-1" strike="noStrike">
                <a:solidFill>
                  <a:srgbClr val="948a54"/>
                </a:solidFill>
                <a:latin typeface="Calibri"/>
              </a:rPr>
              <a:t>«НА ДНЕ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4" descr="a01125.bmp"/>
          <p:cNvPicPr/>
          <p:nvPr/>
        </p:nvPicPr>
        <p:blipFill>
          <a:blip r:embed="rId1"/>
          <a:stretch/>
        </p:blipFill>
        <p:spPr>
          <a:xfrm>
            <a:off x="214200" y="428760"/>
            <a:ext cx="284796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0" y="142560"/>
            <a:ext cx="914400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Я учу вас о сверхчеловеке. Человек есть нечто, что должно превзойти. Что сделали вы, чтобы превзойти его?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Сверхчеловек — смысл земли. Пусть же ваша воля говорит: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да будет сверхчеловек смыслом земли! 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Я заклинаю вас, братья мои, оставайтесь верны земле и не верьте тем, кто говорит вам о надземных надеждах! Они отравители, все равно, знают ли они это или нет. 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Они презирают жизнь, эти умирающие и сами себя отравившие, от которых устала земля: пусть же исчезнут они! 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режде хула на Бога была величайшей хулой; но Бог умер, и вместе с ним умерли и эти хулители. Теперь хулить землю — самое ужасное преступление, так же как чтить сущность непостижимого выше, чем смысл земли! 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Некогда смотрела душа на тело с презрением: и тогда не было ничего выше, чем это презрение, — она хотела видеть тело тощим, отвратительным и голодным. Так думала она бежать от тела и от земли. 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О, эта душа сама была еще тощей, отвратительной и голодной; и жестокость был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жделением этой души!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о и теперь еще, братья мои, скажите мне: что говорит ваше тело о вашей душе? Разве ваша душа не есть бедность и грязь и жалкое довольство собою?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истине, человек — это грязный поток. Надо быть морем, чтобы принять в себя грязный поток и не сделаться нечистым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мотрите, я учу вас о сверхчеловеке: он — это море, где может потонуть ваше великое презрение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есть тело (сверхчеловек) без души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3" descr="05S0093i.bmp"/>
          <p:cNvPicPr/>
          <p:nvPr/>
        </p:nvPicPr>
        <p:blipFill>
          <a:blip r:embed="rId1"/>
          <a:stretch/>
        </p:blipFill>
        <p:spPr>
          <a:xfrm>
            <a:off x="500040" y="1500120"/>
            <a:ext cx="4592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ажнейшая смысловая категория -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13840" y="1928880"/>
            <a:ext cx="4038840" cy="61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Правда - лож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785840" y="1928880"/>
            <a:ext cx="4038840" cy="61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Правда - ве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4"/>
          <p:cNvSpPr/>
          <p:nvPr/>
        </p:nvSpPr>
        <p:spPr>
          <a:xfrm>
            <a:off x="3165840" y="857160"/>
            <a:ext cx="229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  <a:ea typeface="Arial"/>
              </a:rPr>
              <a:t>прав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5"/>
          <p:cNvSpPr/>
          <p:nvPr/>
        </p:nvSpPr>
        <p:spPr>
          <a:xfrm>
            <a:off x="3643200" y="1428840"/>
            <a:ext cx="23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2 оппози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6"/>
          <p:cNvSpPr/>
          <p:nvPr/>
        </p:nvSpPr>
        <p:spPr>
          <a:xfrm>
            <a:off x="285840" y="2643120"/>
            <a:ext cx="8501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Разное понимание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правд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и разное отношение к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вер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определяет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позицию и место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каждого из ночлежников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(а не их социальная биографи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7"/>
          <p:cNvSpPr/>
          <p:nvPr/>
        </p:nvSpPr>
        <p:spPr>
          <a:xfrm>
            <a:off x="4643280" y="3714840"/>
            <a:ext cx="4214880" cy="265428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ера объединяет Актёра, Анну, Наташу, Настю, близки к ним Васька Пепел и Клещ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х вера (пусть и иллюзорная) поддерживает их жиз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а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ЕР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и есть для них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АВ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8"/>
          <p:cNvSpPr/>
          <p:nvPr/>
        </p:nvSpPr>
        <p:spPr>
          <a:xfrm>
            <a:off x="428760" y="3929040"/>
            <a:ext cx="2357280" cy="825480"/>
          </a:xfrm>
          <a:prstGeom prst="rect">
            <a:avLst/>
          </a:prstGeom>
          <a:solidFill>
            <a:srgbClr val="c4bd9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убн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арон, Сат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Прямая со стрелкой 10"/>
          <p:cNvCxnSpPr/>
          <p:nvPr/>
        </p:nvCxnSpPr>
        <p:spPr>
          <a:xfrm flipH="1">
            <a:off x="2857320" y="1571760"/>
            <a:ext cx="71496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2" name="Прямая со стрелкой 12"/>
          <p:cNvCxnSpPr/>
          <p:nvPr/>
        </p:nvCxnSpPr>
        <p:spPr>
          <a:xfrm>
            <a:off x="5357880" y="1571760"/>
            <a:ext cx="100080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Правда реальности и правда мечты –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две грани проблемы пьес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убнов, Сатин и Актёр далеки от иллюзий. Они им не нужн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ля Актёра, Наташи, Насти, Анны и других ВЕРА важнее ПРАВД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этому так горячо откликнулись на реплику Луки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«Во что веришь, то и есть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правд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42920" y="1428840"/>
            <a:ext cx="3000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Calibri"/>
              </a:rPr>
              <a:t>Лука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«Во что веришь, то и есть» –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Человек – правд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оброта Луки утешающая.он снисходителен к слабостям, терпим к чужим грехам, отзывчив на просьбу о помощи, Неподделен его интерес к людям. Он нужен «страдальцам», т.к. ободряет и утешает их, поддерживая уже сложившуюся мечту, не предлагая своих рецептов. Даёт веру, надежду, согревает сочувствием души людей слабых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071520" y="1500120"/>
            <a:ext cx="2857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Calibri"/>
              </a:rPr>
              <a:t>Бубно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Человек зависит от сред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Правда «злая»,не одушевлённая добром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6286680" y="1428840"/>
            <a:ext cx="271440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  <a:ea typeface="Arial"/>
              </a:rPr>
              <a:t>Сат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Человеку нужна мечт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Двигаться к ней он ДОЛЖЕН СА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Ему нужна деятельная любовь, уважение вместо жал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«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Человек – вот правд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Прямая со стрелкой 6"/>
          <p:cNvCxnSpPr/>
          <p:nvPr/>
        </p:nvCxnSpPr>
        <p:spPr>
          <a:xfrm flipH="1">
            <a:off x="2142720" y="784800"/>
            <a:ext cx="1572480" cy="57204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triangle" w="med"/>
          </a:ln>
        </p:spPr>
      </p:cxnSp>
      <p:cxnSp>
        <p:nvCxnSpPr>
          <p:cNvPr id="61" name="Прямая со стрелкой 8"/>
          <p:cNvCxnSpPr>
            <a:stCxn id="56" idx="2"/>
          </p:cNvCxnSpPr>
          <p:nvPr/>
        </p:nvCxnSpPr>
        <p:spPr>
          <a:xfrm>
            <a:off x="4542480" y="857160"/>
            <a:ext cx="29160" cy="57240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triangle" w="med"/>
          </a:ln>
        </p:spPr>
      </p:cxnSp>
      <p:cxnSp>
        <p:nvCxnSpPr>
          <p:cNvPr id="62" name="Прямая со стрелкой 10"/>
          <p:cNvCxnSpPr/>
          <p:nvPr/>
        </p:nvCxnSpPr>
        <p:spPr>
          <a:xfrm>
            <a:off x="5428800" y="714240"/>
            <a:ext cx="1715400" cy="64332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triangle" w="med"/>
          </a:ln>
        </p:spPr>
      </p:cxnSp>
      <p:sp>
        <p:nvSpPr>
          <p:cNvPr id="63" name="TextBox 11"/>
          <p:cNvSpPr/>
          <p:nvPr/>
        </p:nvSpPr>
        <p:spPr>
          <a:xfrm>
            <a:off x="214200" y="5929200"/>
            <a:ext cx="842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ЫВОД: 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Arial"/>
              </a:rPr>
              <a:t>Правда текучая, подвижна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Arial"/>
              </a:rPr>
              <a:t>Тонки переходы добра в равнодушное бессилие, правды – в лож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ая соединительная линия 13"/>
          <p:cNvSpPr/>
          <p:nvPr/>
        </p:nvSpPr>
        <p:spPr>
          <a:xfrm>
            <a:off x="2286000" y="2571840"/>
            <a:ext cx="4500720" cy="2786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пор о человеке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Лука – Сатин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Человека пожалеть нужно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Человек может верить и не верить… он за всё платит сам… и потому он свободен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5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ук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Рисунок 5" descr="L01_06_01_07__45_p.jpg"/>
          <p:cNvPicPr/>
          <p:nvPr/>
        </p:nvPicPr>
        <p:blipFill>
          <a:blip r:embed="rId1"/>
          <a:srcRect l="22501" t="20762" r="54776" b="0"/>
          <a:stretch/>
        </p:blipFill>
        <p:spPr>
          <a:xfrm>
            <a:off x="0" y="0"/>
            <a:ext cx="2863800" cy="4643280"/>
          </a:xfrm>
          <a:prstGeom prst="rect">
            <a:avLst/>
          </a:prstGeom>
          <a:ln w="0">
            <a:noFill/>
          </a:ln>
        </p:spPr>
      </p:pic>
      <p:sp>
        <p:nvSpPr>
          <p:cNvPr id="69" name="TextBox 8"/>
          <p:cNvSpPr/>
          <p:nvPr/>
        </p:nvSpPr>
        <p:spPr>
          <a:xfrm>
            <a:off x="3000240" y="1571760"/>
            <a:ext cx="60008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ложный, противоречивый гер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 одной стороны как бы даёт импульс пробуждающемуся сознанию Сати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 другой – его доброта, снисходительность, желание помочь могут обернуться роковыми последствиями для слабых дух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Правда, вина за это падает на них сам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Лука утешает людей, прибегая ко лж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н просто не очерствел душою, творит реальное, деятельное добро, не просто утешает, а философски обосновывает свою позицию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«Человека может спасти и научить добру не насилие, не тюрьма, а только добр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57760" y="785520"/>
            <a:ext cx="4829040" cy="37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поря со своим героем, Горький показывает, что «спасительная» ложь ещё никого не спасала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Нельзя вечно жить в плену иллюзий, так как выход из них – всегда трагедия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А, главное, человек, живущий в мире иллюзий, </a:t>
            </a:r>
            <a:r>
              <a:rPr b="1" lang="ru-RU" sz="2200" spc="-1" strike="noStrike" u="sng">
                <a:solidFill>
                  <a:srgbClr val="0070c0"/>
                </a:solidFill>
                <a:uFillTx/>
                <a:latin typeface="Calibri"/>
              </a:rPr>
              <a:t>ПРИМИРЯЕТСЯ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со своей унылой жизнью, то есть </a:t>
            </a:r>
            <a:r>
              <a:rPr b="1" lang="ru-RU" sz="2200" spc="-1" strike="noStrike" u="sng">
                <a:solidFill>
                  <a:srgbClr val="0070c0"/>
                </a:solidFill>
                <a:uFillTx/>
                <a:latin typeface="Calibri"/>
              </a:rPr>
              <a:t>СОГЛАШАЕТСЯ ТЕРПЕТЬ.</a:t>
            </a:r>
            <a:br>
              <a:rPr sz="2200"/>
            </a:br>
            <a:r>
              <a:rPr b="1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Этого Горький не приемлет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Содержимое 3" descr="L01_06_01_07__14_p.jpg"/>
          <p:cNvPicPr/>
          <p:nvPr/>
        </p:nvPicPr>
        <p:blipFill>
          <a:blip r:embed="rId1"/>
          <a:stretch/>
        </p:blipFill>
        <p:spPr>
          <a:xfrm>
            <a:off x="214200" y="142920"/>
            <a:ext cx="310212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Горькому удалось показать одну из самых опасных черт сознания и психологии социальных низов России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удовлетворённость реальностью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нархический критицизм этой реальност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месте с тем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зависимост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о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нешней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омощ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Вера в «чудесное» спасен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Неготовность к самостоятельному жизненному творчеств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бсудим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2920" y="785520"/>
            <a:ext cx="8858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Мнение исследователя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: «В основе драмы лежит глубоко религиозная проблема. Понятие «дно» имеет не только социальное, но и духовно-нравственное содержание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Вопросы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: Может ли человек жить без веры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Утверждение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: «Ради правды нужно жертвовать всем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Цитату: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з книги Ф. Ницше «Так говорил Заратустра»: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14:06:59Z</dcterms:created>
  <dc:creator>иван</dc:creator>
  <dc:description/>
  <dc:language>en-US</dc:language>
  <cp:lastModifiedBy>Пользователь</cp:lastModifiedBy>
  <dcterms:modified xsi:type="dcterms:W3CDTF">2020-03-26T07:10:00Z</dcterms:modified>
  <cp:revision>12</cp:revision>
  <dc:subject/>
  <dc:title>ФИЛОСОФСКО-ЭТИЧЕСКАЯ ПРОБЛЕМАТИКА ПЬЕСЫ м.Горького «На дне»</dc:title>
</cp:coreProperties>
</file>