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8A99-C295-4ADC-B4A6-ABD893B7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F020-86DC-4386-BC40-FE18B783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6F21-6B74-4CB0-8656-C801BDAC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DF2C-FA0F-436A-9504-4444FAE3D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E645-2212-40F9-A23B-B7FF258F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A9B1-398B-461F-83D8-AAB0F4DF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E87B-8206-4F6A-8918-60BA3E51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3BB6-5675-4849-A017-1E4DD9E6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0D72-D603-47AC-8A3E-437CFDF7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A76B-2469-4CA5-ADBA-55B9B2B2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A89F-B682-41DC-90B9-0635F33C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232A-889F-42C6-98A6-CB43F951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D023-B752-4248-9669-7E4ADAD41B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28480" y="3857400"/>
            <a:ext cx="5915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8a54"/>
                </a:solidFill>
                <a:latin typeface="Calibri"/>
              </a:rPr>
              <a:t>ПРОБЛЕМАТИКА ПЬЕСЫ </a:t>
            </a:r>
            <a:br>
              <a:rPr sz="3600"/>
            </a:br>
            <a:r>
              <a:rPr b="1" lang="ru-RU" sz="3600" spc="-1" strike="noStrike">
                <a:solidFill>
                  <a:srgbClr val="948a54"/>
                </a:solidFill>
                <a:latin typeface="Calibri"/>
              </a:rPr>
              <a:t>М. ГОРЬКОГО </a:t>
            </a:r>
            <a:br>
              <a:rPr sz="3600"/>
            </a:br>
            <a:r>
              <a:rPr b="1" lang="ru-RU" sz="3600" spc="-1" strike="noStrike">
                <a:solidFill>
                  <a:srgbClr val="948a54"/>
                </a:solidFill>
                <a:latin typeface="Calibri"/>
              </a:rPr>
              <a:t>«НА ДНЕ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4" descr="a01125.bmp"/>
          <p:cNvPicPr/>
          <p:nvPr/>
        </p:nvPicPr>
        <p:blipFill>
          <a:blip r:embed="rId1"/>
          <a:stretch/>
        </p:blipFill>
        <p:spPr>
          <a:xfrm>
            <a:off x="214200" y="428760"/>
            <a:ext cx="284796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0" y="1425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Я учу вас о сверхчеловеке. Человек есть нечто, что должно превзойти. Что сделали вы, чтобы превзойти его?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верхчеловек — смысл земли. Пусть же ваша воля говорит: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да будет сверхчеловек смыслом земли!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Я заклинаю вас, братья мои, оставайтесь верны земле и не верьте тем, кто говорит вам о надземных надеждах! Они отравители, все равно, знают ли они это или нет.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ни презирают жизнь, эти умирающие и сами себя отравившие, от которых устала земля: пусть же исчезнут они!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ежде хула на Бога была величайшей хулой; но Бог умер, и вместе с ним умерли и эти хулители. Теперь хулить землю — самое ужасное преступление, так же как чтить сущность непостижимого выше, чем смысл земли!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екогда смотрела душа на тело с презрением: и тогда не было ничего выше, чем это презрение, — она хотела видеть тело тощим, отвратительным и голодным. Так думала она бежать от тела и от земли.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, эта душа сама была еще тощей, отвратительной и голодной; и жестокость был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жделением этой души!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 и теперь еще, братья мои, скажите мне: что говорит ваше тело о вашей душе? Разве ваша душа не есть бедность и грязь и жалкое довольство собою?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истине, человек — это грязный поток. Надо быть морем, чтобы принять в себя грязный поток и не сделаться нечистым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мотрите, я учу вас о сверхчеловеке: он — это море, где может потонуть ваше великое презрение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есть тело (сверхчеловек) без душ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3" descr="05S0093i.bmp"/>
          <p:cNvPicPr/>
          <p:nvPr/>
        </p:nvPicPr>
        <p:blipFill>
          <a:blip r:embed="rId1"/>
          <a:stretch/>
        </p:blipFill>
        <p:spPr>
          <a:xfrm>
            <a:off x="500040" y="1500120"/>
            <a:ext cx="4592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ажнейшая смысловая категория -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3840" y="1928880"/>
            <a:ext cx="403884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равда - лож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785840" y="1928880"/>
            <a:ext cx="403884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равда - ве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3165840" y="857160"/>
            <a:ext cx="22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Arial"/>
              </a:rPr>
              <a:t>прав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3643200" y="142884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 оппози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285840" y="2643120"/>
            <a:ext cx="850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Разное понимани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равд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и разное отношение к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ер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определяет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озицию и мест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каждого из ночлежников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(а не их социальная биограф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4643280" y="3714840"/>
            <a:ext cx="4214880" cy="26542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ра объединяет Актёра, Анну, Наташу, Настю, близки к ним Васька Пепел и Кле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х вера (пусть и иллюзорная) поддерживает их жи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ЕР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есть для них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АВ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428760" y="3929040"/>
            <a:ext cx="2357280" cy="825480"/>
          </a:xfrm>
          <a:prstGeom prst="rect">
            <a:avLst/>
          </a:prstGeom>
          <a:solidFill>
            <a:srgbClr val="c4bd9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убн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арон, Сат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Прямая со стрелкой 10"/>
          <p:cNvCxnSpPr/>
          <p:nvPr/>
        </p:nvCxnSpPr>
        <p:spPr>
          <a:xfrm flipH="1">
            <a:off x="2857320" y="1571760"/>
            <a:ext cx="7149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Прямая со стрелкой 12"/>
          <p:cNvCxnSpPr/>
          <p:nvPr/>
        </p:nvCxnSpPr>
        <p:spPr>
          <a:xfrm>
            <a:off x="5357880" y="1571760"/>
            <a:ext cx="100080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равда реальности и правда мечты –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ве грани проблемы пьес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убнов, Сатин и Актёр далеки от иллюзий. Они им не нуж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Актёра, Наташи, Насти, Анны и других ВЕРА важнее ПРАВ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этому так горячо откликнулись на реплику Лук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«Во что веришь, то и есть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рав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2920" y="1428840"/>
            <a:ext cx="3000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Calibri"/>
              </a:rPr>
              <a:t>Лук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Во что веришь, то и есть» –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Человек – правд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оброта Луки утешающая.он снисходителен к слабостям, терпим к чужим грехам, отзывчив на просьбу о помощи, Неподделен его интерес к людям. Он нужен «страдальцам», т.к. ободряет и утешает их, поддерживая уже сложившуюся мечту, не предлагая своих рецептов. Даёт веру, надежду, согревает сочувствием души людей слабы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71520" y="1500120"/>
            <a:ext cx="285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Calibri"/>
              </a:rPr>
              <a:t>Бубн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еловек зависит от сред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равда «злая»,не одушевлённая добром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6286680" y="1428840"/>
            <a:ext cx="271440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Сат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Человеку нужна меч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Двигаться к ней он ДОЛЖЕН СА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Ему нужна деятельная любовь, уважение вместо жал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«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Человек – вот прав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Прямая со стрелкой 6"/>
          <p:cNvCxnSpPr/>
          <p:nvPr/>
        </p:nvCxnSpPr>
        <p:spPr>
          <a:xfrm flipH="1">
            <a:off x="2142720" y="784800"/>
            <a:ext cx="1572480" cy="57204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triangle" w="med"/>
          </a:ln>
        </p:spPr>
      </p:cxnSp>
      <p:cxnSp>
        <p:nvCxnSpPr>
          <p:cNvPr id="61" name="Прямая со стрелкой 8"/>
          <p:cNvCxnSpPr>
            <a:stCxn id="56" idx="2"/>
          </p:cNvCxnSpPr>
          <p:nvPr/>
        </p:nvCxnSpPr>
        <p:spPr>
          <a:xfrm>
            <a:off x="4542480" y="857160"/>
            <a:ext cx="29160" cy="57240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triangle" w="med"/>
          </a:ln>
        </p:spPr>
      </p:cxnSp>
      <p:cxnSp>
        <p:nvCxnSpPr>
          <p:cNvPr id="62" name="Прямая со стрелкой 10"/>
          <p:cNvCxnSpPr/>
          <p:nvPr/>
        </p:nvCxnSpPr>
        <p:spPr>
          <a:xfrm>
            <a:off x="5428800" y="714240"/>
            <a:ext cx="1715400" cy="64332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triangle" w="med"/>
          </a:ln>
        </p:spPr>
      </p:cxnSp>
      <p:sp>
        <p:nvSpPr>
          <p:cNvPr id="63" name="TextBox 11"/>
          <p:cNvSpPr/>
          <p:nvPr/>
        </p:nvSpPr>
        <p:spPr>
          <a:xfrm>
            <a:off x="214200" y="5929200"/>
            <a:ext cx="842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ЫВОД: 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Правда текучая, подвижн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Тонки переходы добра в равнодушное бессилие, правды – в лож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13"/>
          <p:cNvSpPr/>
          <p:nvPr/>
        </p:nvSpPr>
        <p:spPr>
          <a:xfrm>
            <a:off x="2286000" y="2571840"/>
            <a:ext cx="4500720" cy="2786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пор о человеке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Лука – Сатин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Человека пожалеть нужн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Человек может верить и не верить… он за всё платит сам… и потому он свободен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у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5" descr="L01_06_01_07__45_p.jpg"/>
          <p:cNvPicPr/>
          <p:nvPr/>
        </p:nvPicPr>
        <p:blipFill>
          <a:blip r:embed="rId1"/>
          <a:srcRect l="22501" t="20762" r="54776" b="0"/>
          <a:stretch/>
        </p:blipFill>
        <p:spPr>
          <a:xfrm>
            <a:off x="0" y="0"/>
            <a:ext cx="2863800" cy="4643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8"/>
          <p:cNvSpPr/>
          <p:nvPr/>
        </p:nvSpPr>
        <p:spPr>
          <a:xfrm>
            <a:off x="3000240" y="1571760"/>
            <a:ext cx="6000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ложный, противоречивый ге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 одной стороны как бы даёт импульс пробуждающемуся сознанию Сати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 другой – его доброта, снисходительность, желание помочь могут обернуться роковыми последствиями для слабых дух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Правда, вина за это падает на них сам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Лука утешает людей, прибегая ко лж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н просто не очерствел душою, творит реальное, деятельное добро, не просто утешает, а философски обосновывает свою позици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«Человека может спасти и научить добру не насилие, не тюрьма, а только добр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57760" y="785520"/>
            <a:ext cx="4829040" cy="37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поря со своим героем, Горький показывает, что «спасительная» ложь ещё никого не спасала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Нельзя вечно жить в плену иллюзий, так как выход из них – всегда трагедия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, главное, человек, живущий в мире иллюзий, </a:t>
            </a:r>
            <a:r>
              <a:rPr b="1" lang="ru-RU" sz="2200" spc="-1" strike="noStrike" u="sng">
                <a:solidFill>
                  <a:srgbClr val="0070c0"/>
                </a:solidFill>
                <a:uFillTx/>
                <a:latin typeface="Calibri"/>
              </a:rPr>
              <a:t>ПРИМИРЯЕТСЯ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со своей унылой жизнью, то есть </a:t>
            </a:r>
            <a:r>
              <a:rPr b="1" lang="ru-RU" sz="2200" spc="-1" strike="noStrike" u="sng">
                <a:solidFill>
                  <a:srgbClr val="0070c0"/>
                </a:solidFill>
                <a:uFillTx/>
                <a:latin typeface="Calibri"/>
              </a:rPr>
              <a:t>СОГЛАШАЕТСЯ ТЕРПЕТЬ.</a:t>
            </a:r>
            <a:br>
              <a:rPr sz="2200"/>
            </a:br>
            <a:r>
              <a:rPr b="1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Этого Горький не приемлет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3" descr="L01_06_01_07__14_p.jpg"/>
          <p:cNvPicPr/>
          <p:nvPr/>
        </p:nvPicPr>
        <p:blipFill>
          <a:blip r:embed="rId1"/>
          <a:stretch/>
        </p:blipFill>
        <p:spPr>
          <a:xfrm>
            <a:off x="214200" y="142920"/>
            <a:ext cx="31021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Горькому удалось показать одну из самых опасных черт сознания и психологии социальных низов Росси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удовлетворённость реальностью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архический критицизм этой реально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месте с тем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зависим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нешней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мощ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ера в «чудесное» спас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еготовность к самостоятельному жизненному творчеств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судим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2920" y="785520"/>
            <a:ext cx="8858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Мнение исследовател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: «В основе драмы лежит глубоко религиозная проблема. Понятие «дно» имеет не только социальное, но и духовно-нравственное содержание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Вопросы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: Может ли человек жить без веры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Утверждение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: «Ради правды нужно жертвовать всем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Цитату: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 книги Ф. Ницше «Так говорил Заратустра»: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4:06:59Z</dcterms:created>
  <dc:creator>иван</dc:creator>
  <dc:description/>
  <dc:language>en-US</dc:language>
  <cp:lastModifiedBy>Пользователь</cp:lastModifiedBy>
  <dcterms:modified xsi:type="dcterms:W3CDTF">2020-03-26T07:10:00Z</dcterms:modified>
  <cp:revision>12</cp:revision>
  <dc:subject/>
  <dc:title>ФИЛОСОФСКО-ЭТИЧЕСКАЯ ПРОБЛЕМАТИКА ПЬЕСЫ м.Горького «На дне»</dc:title>
</cp:coreProperties>
</file>