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439-223C-4D1E-81FB-018E9825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DF2-3300-4B1D-8182-12A1DACF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A4F-DAFF-4A38-85EB-F99E1B49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74A-FF19-475B-A123-BFCC459D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E737-A0DC-4010-93B7-C881CC83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4A43-630A-4865-BCAF-041C8D5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95D5-4191-4889-A617-BA9D8D9D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C2D1-B815-4CD4-B4AD-76BC4B2C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E2F8-9937-4A86-ABED-1CDB034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1E65-06FA-462C-A3D2-8A0BD54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EF7-62C5-4F9E-8DBF-E1BE8C5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789-5678-431C-A8BF-E112749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FA29-677A-48BF-8652-4D8A884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5939-381E-4C87-B0BB-4FDF524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C9B4-BDD1-424A-9BBC-42811B27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0093-9316-40AF-BAA1-FC9E029D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DE1B-7545-47F1-9DA7-30D8D774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D35-FC97-43D5-82C6-2929E05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EFF-31B9-4F8F-B545-0A8E35D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41B-1E8E-49F7-8BCB-D98BAFCD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FC3-1707-4AED-9E80-8BA6E195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EDD-EC32-432A-87C4-00D538E8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19B-EDD7-498E-8822-4C8B887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90B-66E4-40EC-BE13-D31765F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40AB-AE72-4D2D-BBC3-6AF61BC073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8596-47EB-4E12-9FE9-BC51471D5E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6312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Нравственно-философский смысл Маленьких трагедий А.С. Пушкина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Скупой рыцарь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аков Скупой (барон) у Пушкин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 ищет в золоте Барон?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ищет в золоте Альбер, сын Скупого рыцар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хранения своей власти и независимости, но царствует он в подвал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арон думает, что ему все подвласт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езависим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се попытки иметь деньги честно терпят неудачу. Честь и любовь к деньгам несовместимы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оглядно предавшись своей роковой страсти, живя только для нее и только ею одною, барон тем самы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здал для себя противоестественные, антиобщественные условия существования, отделил себя не переступаемой чертой, как бы магическим кругом от всех остальных людей с их естественными потребностями, взаимоотношениями и с обычными человеческими желаниями и интерес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эта выделенность, одинокость льстит барону, полна для него особой услады. Недаром он приравнивает себя к царю, с недоступной другим «вышины» взирающему на весь мир, «демону», в гордом одиночестве наслаждающемуся своим неограниченным могуще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асный век, ужасные серд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500"/>
            </a:b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6633"/>
                </a:solidFill>
                <a:uFillTx/>
                <a:latin typeface="Garamond"/>
              </a:rPr>
              <a:t>«Моцарт и Сальер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6680" indent="0">
              <a:spcBef>
                <a:spcPts val="7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дея этой трагедии - вопрос о сущности и взаимных отношениях таланта и г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6680" indent="0">
              <a:spcBef>
                <a:spcPts val="7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Г. Белинск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6680" indent="0">
              <a:spcBef>
                <a:spcPts val="7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«Произведения Моцарта восхищают Сальери совершенством формы. Но душа его остается равнодушной».</a:t>
            </a:r>
            <a:br>
              <a:rPr sz="2400"/>
            </a:br>
            <a:r>
              <a:rPr b="0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(литературовед М. Бабинский)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чего, едва явившись на сцену, Сальери начинает вдруг припоминать свою жизнь с самого детства?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о нарушило мир в его душ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Вы согласны с мнением критика? Подтвердите свое мнение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сомниться в Божьей справедливости верующий человек может лишь в самой край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Сальери и Моцарт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уша его равнодушна, так как преступный замысел становится его окончательным решением, искусство не действует на нее очищающе. Душевное очищение, которое не смогло доставить искусство, он испытывает, совершив убийст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и слезы: и больно, и приятно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будто тяжкий совершил я дол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ений и злодейство - две вещи несовмест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ыво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агедия Сальери в том, что он отделил не только музыку от жизни, но и композитора от человека. Убивая Моцарта-человека, он и убивает гения и превращается в человека-убийцу. </a:t>
            </a:r>
            <a:br>
              <a:rPr sz="2600"/>
            </a:b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царт, в отличие от Сальери, наделен гениальностью, так как умеет радоваться жизни, не деля себя на человека и композитор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шкин сам был Моцартом в искусстве, он знал легкую и изящную радость твор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Что есть истина с точки зрения Пушкина, и как он раскрывает эту проблему в своих Маленьких трагедиях?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ленькие трагедии явили читателю новаторские опыты драматического  исследования «крупных характеров» и философских проблем, вскрывающих вечные законы человеческого бытия. И эти темы перекликаются, объясняя друг друга, здесь всё время вершится суд под знаком высшей Правды и Сове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Алчность, жадность, скупость, человеконенавистничество, праздность, трусость, зависть и др.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8480" indent="-3427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-моему, Пушкина мы еще и не начинали узнавать: это гений, опередивший русское сознание. Он обладал духовной силой, позволяющей ему брать на себя напор всей бездуховной, темной мировой нечисти. Он служил истине и Красоте, а не моде. Для него духовность, духовная жизнь - это не культурное времяпровождение, а неустанная, напряженная работа над своей душо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68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.М.Достоевск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68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68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ый вопро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есть истина с точки зрения Пушкина, и как он раскрывает эту проблему в своих «Маленьких трагедиях»?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В письме к П.А. Плетневу он писа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«1830 год - печальный для нас! Какие события!.. Народ подавлен и раздражен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шкин стал свидетелем июльской революции во Франции, восстания в Польше, крестьянских волнений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временный век рождает у Пушкина впечатление бесовского кружен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чатся тучи, вьются тучи;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видимкою лун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вещает снег летучий;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утно небо, ночь мут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чатся бесы рой за роем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беспредельной вышине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згом жалобным и воем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дрывая сердце мн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храню ль к судьбе презренье?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есу ль навстречу ей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преклонность и терпенье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едной юности моей?</a:t>
            </a:r>
            <a:br>
              <a:rPr sz="2100"/>
            </a:b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1830 г. - </a:t>
            </a:r>
            <a:r>
              <a:rPr b="0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Болдинская осень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3 окт. – «Скупой рыцарь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6 окт. – «Моцарт и Сальери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 ноября – «Каменный гос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 ноября – «Пир во время чумы 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Что объединяет все трагедии в сборник?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сихологизм человеческой души, охваченной всепоглощающей, но эгоистичной и потому разрушительной страстью: скупостью, завистью, чувственностью. Каждый из носителей этой страсти - натура незаурядная, человек большого ума и, главное, огромной силы во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Маленьких трагедиях разрываются родственные, дружеские, любовные и вообще человеческие связи. Это разрушение цельности личности и человечества тревожило Пушкина. В этом он увидел трагедию своего времени. «Жестокий век, жестокие сердца!» - говорит один из его героев.(Герцог- «Скупой рыцарь»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илософский смыс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едонизм (греч.) - этическое учение, первоначально развитое древнегреческой философской школой (4 век до н.э.), целью жизни и высшим благом признает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слажд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Лишь немногие из персонажей Маленьких трагедий отвергают себялюбивые жизненные принципы, но и им грозит железный век, и их подстерегает опасность и гиб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500" spc="-1" strike="noStrike" u="sng">
                <a:solidFill>
                  <a:srgbClr val="006633"/>
                </a:solidFill>
                <a:uFillTx/>
                <a:latin typeface="Garamond"/>
              </a:rPr>
              <a:t>Общность «Маленьких трагедий» с художественной точки зрения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ушкин писал в основном стихи в ту пору, это помогло ему выработать особую манеру - давать исключительно большое содержание в предельно сжатом объеме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олдинские драмы удивительны: предельно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рот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в каждой - лишь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несколько действующих лиц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стрый сюжет, личность обнаруживает себя глубоко и пол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основе названий часто лежит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ксюморон - контрастные понятия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 соединенные воедино, дающие новый образ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Скупой - рыцар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ир - и чума, все равно что жизнь - и смер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Каменный – г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оцарт и Сальери (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ссоциации непримиримого конфлик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6633"/>
                </a:solidFill>
                <a:uFillTx/>
                <a:latin typeface="Garamond"/>
              </a:rPr>
              <a:t>Скупой рыцарь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ерестань и ты жить в погребах,</a:t>
            </a:r>
            <a:br>
              <a:rPr sz="3000"/>
            </a:b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        Как крот в ущельях подземель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Г.Р.Державин( «Скупой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5280" y="367992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а, созданные Шекспиром, не суть, как у Мольера, типы такой-то страсти, такого-то порока, но существа живые, исполненные многих страстей, многих пороков. У Мольера Скупой скуп - и только, у Шекспира  Шай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куп, мстителен, сметлив, чадолюбив, остр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.Пушкин. Болди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13:02:53Z</dcterms:created>
  <dc:creator>I`m</dc:creator>
  <dc:description/>
  <dc:language>en-US</dc:language>
  <cp:lastModifiedBy>Пользователь</cp:lastModifiedBy>
  <dcterms:modified xsi:type="dcterms:W3CDTF">2020-03-26T07:12:52Z</dcterms:modified>
  <cp:revision>3</cp:revision>
  <dc:subject/>
  <dc:title>Нравственно-философский смысл Маленьких трагедий А.С. Пушкина  </dc:title>
</cp:coreProperties>
</file>