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A22-0F92-40A2-9622-BBA31F30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9DA-D3C3-4417-86C4-06E7F911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691-722A-4C3A-B04F-B7335300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FE3-B8A5-4C5A-AFFC-445755B1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6AB4-CDCD-45EB-AAD3-F41EB4AF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3DC6-8AC0-408F-BA14-5EE1805F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FBC1-464E-42B7-9768-E39FECCA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D51E-A849-4EFE-BD2A-49A7F61C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366D-4491-4C6A-89A9-77F2C076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2382-4984-4DEE-899B-BA3BD869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222B-3622-4B36-B319-6D2AF017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345-C82D-4697-80FE-F6E233F6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9ABB-DE3E-4B23-B935-F2ED0224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C454-1562-404B-835A-5CF220D0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C97B-5251-4A84-A52F-46014789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7A85-777D-4A79-AFC7-D96608EF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2E64-C3A5-46FC-B917-EC4CE5E1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D91-960D-42C5-B1FE-11E2AD56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8B3-11F4-4111-B007-F0F651BE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F14-761E-442B-BBBD-7DA28D23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C1B-5023-4D4A-B810-2B4C8EA4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923-EF1F-4915-A12A-11CA2167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66A-9746-43F7-9E69-68E9DD6B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F7C-3C1F-43E8-878A-740D442A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817E-D735-4880-A206-E160C826C2F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AE37-0022-4FAF-84AA-102A5F7746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астер-класс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пользование проектно- исследов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236000" y="5445000"/>
            <a:ext cx="944280" cy="1133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72120" y="551664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читель МБО СОШ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илатова Г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1840" y="333360"/>
            <a:ext cx="8497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ведение технологии организации исследовательской деятельности в сочетании с информационными технологиями  позволит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    Интенсифицировать все уровни учебно-воспитательного процесса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 Построить открытую систему образования, обеспечивающую каждому индивиду собственную траекторию обуче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 Изучать явления и процессы внутри сложных биологических систем на основе использования средств компьютерной графики и компьютерного моделирова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 Представлять в удобном для изучения масштабе времени различные биологические процесс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588000" y="5157720"/>
            <a:ext cx="165276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79516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ходе выполнения этих заданий учащиеся постигают определенные представления, развивают фантазию, наблюдательность, внимание и способности, а для некоторых тем им приходится искать дополнительную литератур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ектная и исследовательская деятельность ориентирована на самостоятельную деятельность учащихся - индивидуальную, парную, групповую; на развитие творческих способностей, логического мышления, она формирует у детей способности самостоятельно применять знания из разных областей, учебных предмет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18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ыли определены требования к научно-исследовательской деятельности В.Н. Борздун, Л.А. Борздун в 2003 году, которых можно придерживатьс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      Актуальность выбранного исследов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      Сформулированность и аргументированность собственного мн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      Чёткость выводов, обобщающих исследова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      Умение использовать известные результаты и факты, знания сверх школьной программ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.      Качественный анализ состояния проблемы, отражающий степень знакомства автора с современным состоянием проблем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.      Грамотность оформления и защиты результатов исследов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.      Соответствие содержания работы поставленной цели и сформулированной тем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.      Умение вести дискуссию по тем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9. Технологичность и техничность исполн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0.   Художественный вку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443640" y="4437000"/>
            <a:ext cx="2354400" cy="22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7696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к же осуществляется работа над проектами?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жде всего, учащимися определяется актуальная для них проблема, над которой в течение определенного времени, индивидуально или в группе, ребята будут работать. На этом этапе учащиеся формируют умения выявлять проблемы в различных областях знани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становка задачи и составление плана работы развивает умение искать возможные пути решения выбранной проблемы, определять объекты исследовани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ыполнение данного проекта в соответствии с поставленными задачами. Здесь у учащихся развиваются умения выдвигать гипотезы, ставить эксперименты с природными объектами, систематизировать и обобщать полученные данные, анализировать информацию, полученную из разных источников, исследовать биологические процессы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ведение итогов работы. Этот этап дает возможность учителю выработать у ребят умения делать аргументированные выводы, обрабатывать данные экспериментальной и опытной работы, оформлять полученные результаты, научить решать познавательные и творческие задачи, работать в сотрудничестве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готовка защиты работы. Ребята самостоятельно готовят презентацию проекта с использованием компьютера, мультимедийного оборудования, выстраивают систему доказательств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зентация проекта. Данный этап имеет цель: представить результат своей деятельности, довести до общественности проблему, способы ее решения, доказать правильность решений, что позволяет развивать умения у школьников владеть искусством и культурой коммуникаци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96360" y="2565360"/>
            <a:ext cx="1292040" cy="12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130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лассификация проектов по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доминирующе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1. Практико-ориентированный проект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нацелен на социальные интересы самих участников проекта или внешнего заказчика. Продукт заранее определён и может быть использован в жизни класса, школы, города, сел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2. Исследовательский проект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по структуре напоминает подлинно научное исследование. Оно включает обоснование актуальности избранной темы, обозначение задач исследования, обязательное выдвижение гипотезы с последующей её проверкой, обсуждение полученных результатов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3. Информационный проект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направлен на сбор информации о каком-то объекте, явлении с целью её анализа, обобщения и представления для широкой аудитор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4. Творческий проект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предполагает максимально свободный и нетрадиционный подход к оформлению результатов. Это могут быть альманахи, театрализации, спортивные игры, произведения изобразительного или декоративно-прикладного искусства, видеофильмы и т.п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5. Ролевой проект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является наиболее сложным в разработке и реализации. Участвуя в нём, проектанты берут на себя роли литературных или исторических персонажей, выдуманных героев. Результат проекта остаётся открытым до самого окончани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68520" y="5346720"/>
            <a:ext cx="420696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52280"/>
            <a:ext cx="651348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Электронные адре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04000" y="5445000"/>
            <a:ext cx="1430280" cy="1181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4000" y="1711440"/>
            <a:ext cx="8297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зентации- prezentacii poisk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фициальный сайт Министерства образования и науки    Россий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едерации - http://www.mon.gov.r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едеральный портал "Российское образование" - http://www.edu.r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нформационная система "Единое окно доступа к   образовате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сурсам" - http://window.edu.r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диная    коллекция    цифровых    образовательных       ресурсов 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http://school-collection.edu.r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едеральный   центр   информационно-образовательных      ресурсов -http://fcior.edu.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62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Этапы деятель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98984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ормулировка проблемы и цели исследов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ыдвижение гипотезы исследов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тановка задач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иксация экспериментальных дан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нализ и обработка экспериментальных дан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ыводы и рекоменд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42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Общие требования к оформлению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Исследовательская работа, заявляемая на конкурс, должна быть оформлена в соответствии с едиными стандартными требованиями, предъявляемыми к данному виду научных работ. Текст представляется на белой бумаге форматом А4 (297x210) на одной стороне лис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ри написании и печати следует соблюдать следующие правила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размер полей: левое - 30 мм, правое - 15 мм, верхнее - 20 мм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ижнее -25 мм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нумерация страниц: по центру внизу страниц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текст печатается через 1,5 интервала (5 знаков), 14 шрифтом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умерация страниц начинается с титульного листа, которому присваивается номер 1, но на страницу он не ставитс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алее весь последующий объем работ, включая библиографический список и приложения, нумеруются по порядку до последней страниц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укопись перепечатывается строго в последовательном порядке. Не допускаются разного рода текстовые вставки и дополнения. Расстояние между названием главы и последующим текстом должно быть равно трем интервалам. Такое же расстояние задерживается между заголовками главы и параграфа. Точку в конце заголовка, располагаемого посредине строки, не ставят. Подчеркивать заголовки и переносить слова в заголовке не допускаетс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Фразы, начинающиеся с новой (красной) строки, печатаются с абзацным отступом от начала строки, равным 1 см 10 м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ачало каждой главы печатается с новой страницы. Это относится также к введению, заключению, библиографическому списку, приложения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6:07:09Z</dcterms:created>
  <dc:creator>Admin</dc:creator>
  <dc:description/>
  <dc:language>en-US</dc:language>
  <cp:lastModifiedBy>Admin</cp:lastModifiedBy>
  <dcterms:modified xsi:type="dcterms:W3CDTF">2013-01-11T06:49:43Z</dcterms:modified>
  <cp:revision>5</cp:revision>
  <dc:subject/>
  <dc:title>Слайд 1</dc:title>
</cp:coreProperties>
</file>