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23BA-2D44-4090-9629-467ECDE95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0893-D731-4976-B55B-909F87F39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63F7-4AEF-4D85-8E29-08A6F7835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3B6C-656B-4348-9634-1EB16C67F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4386C-6A91-47CA-89BE-E36990625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DFC6E-54CF-458C-9D94-F1ECCCB2E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EF92F-694D-40B7-A4CC-FB509EE71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FFE8E-83C8-4B2D-A84D-0B792A37F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BB800-6864-475A-895A-55EBEC556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9CA06-697F-42E1-98AC-0DDA96B3C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18AF4-A291-4AF3-9C81-6FF85F5F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A0DE-6FB3-42C8-BA82-55E58CECB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4D840-5424-4657-972D-FA28A71B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E5EF1-D7C7-43D0-901A-A9E8A403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650BE-CF06-46CD-BDC9-EAFF4652B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2945C-C2B7-4A01-9F6A-E8D05D9EB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1FEF1-F2E3-4061-AF56-6F1190DD4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F1E2-4565-4CFE-A076-54C681994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421E-02F5-44C7-80AA-A1ADDA48A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F55F-185E-4949-9A01-04727A9A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00F1-AD6A-45A6-B14D-650EAEEB6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26E6-D06E-458F-BF0B-1979AAF5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89FB-0CB0-4336-B968-A62B8833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289F-B2F1-4947-975E-6059B892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00b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51854-8552-4225-9721-44566DF4DD6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00b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37C78-846C-4318-9048-16B38B9EB5D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00b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Мастер-класс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спользование проектно- исследовательской деятельност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236000" y="5445000"/>
            <a:ext cx="944280" cy="11336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272120" y="5516640"/>
            <a:ext cx="27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Учитель МБО СОШ №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Филатова Г.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00b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21840" y="333360"/>
            <a:ext cx="84978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ведение технологии организации исследовательской деятельности в сочетании с информационными технологиями  позволит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      Интенсифицировать все уровни учебно-воспитательного процесса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   Построить открытую систему образования, обеспечивающую каждому индивиду собственную траекторию обучения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   Изучать явления и процессы внутри сложных биологических систем на основе использования средств компьютерной графики и компьютерного моделирования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   Представлять в удобном для изучения масштабе времени различные биологические процессы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588000" y="5157720"/>
            <a:ext cx="1652760" cy="14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00b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79516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 ходе выполнения этих заданий учащиеся постигают определенные представления, развивают фантазию, наблюдательность, внимание и способности, а для некоторых тем им приходится искать дополнительную литературу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роектная и исследовательская деятельность ориентирована на самостоятельную деятельность учащихся - индивидуальную, парную, групповую; на развитие творческих способностей, логического мышления, она формирует у детей способности самостоятельно применять знания из разных областей, учебных предметов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00b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-360" y="189000"/>
            <a:ext cx="838188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Были определены требования к научно-исследовательской деятельности В.Н. Борздун, Л.А. Борздун в 2003 году, которых можно придерживаться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.      Актуальность выбранного исследова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2.      Сформулированность и аргументированность собственного мне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3.      Чёткость выводов, обобщающих исследовани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4.      Умение использовать известные результаты и факты, знания сверх школьной программ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5.      Качественный анализ состояния проблемы, отражающий степень знакомства автора с современным состоянием проблем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6.      Грамотность оформления и защиты результатов исследова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7.      Соответствие содержания работы поставленной цели и сформулированной тем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8.      Умение вести дискуссию по тем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9. Технологичность и техничность исполне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0.   Художественный вкус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443640" y="4437000"/>
            <a:ext cx="2354400" cy="223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00b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0920" y="-360"/>
            <a:ext cx="76960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Как же осуществляется работа над проектами?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ежде всего, учащимися определяется актуальная для них проблема, над которой в течение определенного времени, индивидуально или в группе, ребята будут работать. На этом этапе учащиеся формируют умения выявлять проблемы в различных областях знания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становка задачи и составление плана работы развивает умение искать возможные пути решения выбранной проблемы, определять объекты исследования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ыполнение данного проекта в соответствии с поставленными задачами. Здесь у учащихся развиваются умения выдвигать гипотезы, ставить эксперименты с природными объектами, систематизировать и обобщать полученные данные, анализировать информацию, полученную из разных источников, исследовать биологические процессы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дведение итогов работы. Этот этап дает возможность учителю выработать у ребят умения делать аргументированные выводы, обрабатывать данные экспериментальной и опытной работы, оформлять полученные результаты, научить решать познавательные и творческие задачи, работать в сотрудничестве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дготовка защиты работы. Ребята самостоятельно готовят презентацию проекта с использованием компьютера, мультимедийного оборудования, выстраивают систему доказательств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езентация проекта. Данный этап имеет цель: представить результат своей деятельности, довести до общественности проблему, способы ее решения, доказать правильность решений, что позволяет развивать умения у школьников владеть искусством и культурой коммуникации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7596360" y="2565360"/>
            <a:ext cx="1292040" cy="120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00b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250920" y="188640"/>
            <a:ext cx="813096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Классификация проектов по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доминирующей деятельности учащихс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1. Практико-ориентированный проект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нацелен на социальные интересы самих участников проекта или внешнего заказчика. Продукт заранее определён и может быть использован в жизни класса, школы, города, села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2. Исследовательский проект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по структуре напоминает подлинно научное исследование. Оно включает обоснование актуальности избранной темы, обозначение задач исследования, обязательное выдвижение гипотезы с последующей её проверкой, обсуждение полученных результатов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3. Информационный проект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направлен на сбор информации о каком-то объекте, явлении с целью её анализа, обобщения и представления для широкой аудитории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4. Творческий проект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предполагает максимально свободный и нетрадиционный подход к оформлению результатов. Это могут быть альманахи, театрализации, спортивные игры, произведения изобразительного или декоративно-прикладного искусства, видеофильмы и т.п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5. Ролевой проект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является наиболее сложным в разработке и реализации. Участвуя в нём, проектанты берут на себя роли литературных или исторических персонажей, выдуманных героев. Результат проекта остаётся открытым до самого окончания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468520" y="5346720"/>
            <a:ext cx="4206960" cy="15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00b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42560" y="152280"/>
            <a:ext cx="651348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Электронные адрес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804000" y="5445000"/>
            <a:ext cx="1430280" cy="11811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24000" y="1711440"/>
            <a:ext cx="8297640" cy="33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езентации- prezentacii poisk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фициальный сайт Министерства образования и науки    Россий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Федерации - http://www.mon.gov.ru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Федеральный портал "Российское образование" - http://www.edu.ru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нформационная система "Единое окно доступа к   образователь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есурсам" - http://window.edu.ru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  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Единая    коллекция    цифровых    образовательных       ресурсов 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http://school-collection.edu.ru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  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Федеральный   центр   информационно-образовательных      ресурсов -http://fcior.edu.r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00b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6229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Этапы деятельност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98984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Формулировка проблемы и цели исследован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ыдвижение гипотезы исследован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остановка задач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Фиксация экспериментальных данных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нализ и обработка экспериментальных данных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ыводы и рекомендаци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00b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24000" y="189000"/>
            <a:ext cx="842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Общие требования к оформлению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Исследовательская работа, заявляемая на конкурс, должна быть оформлена в соответствии с едиными стандартными требованиями, предъявляемыми к данному виду научных работ. Текст представляется на белой бумаге форматом А4 (297x210) на одной стороне листа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ри написании и печати следует соблюдать следующие правила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 размер полей: левое - 30 мм, правое - 15 мм, верхнее - 20 мм,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нижнее -25 мм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 нумерация страниц: по центру внизу страницы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 текст печатается через 1,5 интервала (5 знаков), 14 шрифтом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нумерация страниц начинается с титульного листа, которому присваивается номер 1, но на страницу он не ставится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Далее весь последующий объем работ, включая библиографический список и приложения, нумеруются по порядку до последней страницы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Рукопись перепечатывается строго в последовательном порядке. Не допускаются разного рода текстовые вставки и дополнения. Расстояние между названием главы и последующим текстом должно быть равно трем интервалам. Такое же расстояние задерживается между заголовками главы и параграфа. Точку в конце заголовка, располагаемого посредине строки, не ставят. Подчеркивать заголовки и переносить слова в заголовке не допускается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Фразы, начинающиеся с новой (красной) строки, печатаются с абзацным отступом от начала строки, равным 1 см 10 мм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Начало каждой главы печатается с новой страницы. Это относится также к введению, заключению, библиографическому списку, приложениям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8T06:07:09Z</dcterms:created>
  <dc:creator>Admin</dc:creator>
  <dc:description/>
  <dc:language>en-US</dc:language>
  <cp:lastModifiedBy>Admin</cp:lastModifiedBy>
  <dcterms:modified xsi:type="dcterms:W3CDTF">2013-01-11T06:49:43Z</dcterms:modified>
  <cp:revision>5</cp:revision>
  <dc:subject/>
  <dc:title>Слайд 1</dc:title>
</cp:coreProperties>
</file>