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6E0C-354C-44B6-AF0E-745ADFDB6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8E31-3CA4-4864-80C2-AE7C2F7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A8DE-3437-4EE7-879E-03DC05B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96AF-DAF2-4D44-856A-262414CD8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A98A-4E79-4863-9CE6-1BA5D95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E716-7103-4DE7-A31B-FC28971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133B-8CF0-4550-B661-C6296294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349C-513C-4DD0-B5E1-EA1FB463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1BAE-5688-4ED8-B60C-B1938E97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3746-A9E4-4247-8D48-A360481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4207-8DCA-4951-A39D-E19266E1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F67D-9272-4A03-93E3-ED471F3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6274"/>
                </a:srgbClr>
              </a:gs>
              <a:gs pos="100000">
                <a:srgbClr val="c90b00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6274"/>
                </a:srgbClr>
              </a:gs>
              <a:gs pos="100000">
                <a:srgbClr val="5480d1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4F7A18-4087-4669-B838-358B14562DD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61280" cy="646200"/>
              <a:chOff x="-19080" y="203040"/>
              <a:chExt cx="91612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89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62110"/>
                </a:solidFill>
                <a:latin typeface="Constantia"/>
              </a:rPr>
              <a:t> </a:t>
            </a:r>
            <a:r>
              <a:rPr b="1" lang="ru-RU" sz="4800" spc="-1" strike="noStrike">
                <a:solidFill>
                  <a:srgbClr val="862110"/>
                </a:solidFill>
                <a:latin typeface="Constantia"/>
              </a:rPr>
              <a:t>«МЫ В ОТВЕТЕ ЗА СВОИ ПОСТУПКИ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лиганство (Ст. 213 Уголовного Кодекса РФ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грубое нарушение общественного порядка, выражающее явное неуважение к обществу, сопровождающееся применением насилия к гражданам, либо угрозой его применения, а равно уничтожением или повреждением чужого имущества». Наказывается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м свободы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81" name="111.mp4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ымогательство (ст. 163 Уголовного Кодекса  РФ),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е передачи чужого имущества или права на имущество ... под угрозой применение насилия, либо уничтожения или повреждения чужого имущества». Наказывается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граничением свободы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естом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шением свободы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86" name="22222.mp4" descr=""/>
          <p:cNvPicPr/>
          <p:nvPr/>
        </p:nvPicPr>
        <p:blipFill>
          <a:blip r:embed="rId1"/>
          <a:stretch/>
        </p:blipFill>
        <p:spPr>
          <a:xfrm>
            <a:off x="0" y="285840"/>
            <a:ext cx="9023400" cy="657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жа» 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онное изъятие чужого материального имущества. При этом изъятие тайное и обязательно ненасильственное. В России уголовная ответственность за кражу подпадает по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ью 158.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вается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ом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ми работам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наступает с 16 лет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0040" y="-100008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714240"/>
            <a:ext cx="82296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итие спиртных напитков в общественных  местах или появление в общественных местах в пьяном виде    (ст. 20.20 части 1 Кодекса об административных правонарушениях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азание в виде штрафа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286080" y="3714840"/>
            <a:ext cx="47862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-42876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0520" y="63360"/>
            <a:ext cx="8980560" cy="665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95280" y="357120"/>
            <a:ext cx="843588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9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ступления, за которые осуждаются подростки 14-16 лет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ие убийства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ышленное причинение вреда здоровью, похищение человека, изнасилование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ой, грабеж, кража, вымогательство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н и приведение в негодность транспорта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ндализм, хулиганство при отягощающих обстоятельствах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ышленное уничтожение и похищение чужого имущества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щение оружия, наркотиков, взрывчатых веществ;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b32c16"/>
              </a:buClr>
              <a:buFont typeface="Symbol" charset="2"/>
              <a:buChar char="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роризм, захват заложника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Цели: 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осознованного правового повед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  <a:ea typeface="Arial"/>
              </a:rPr>
              <a:t>Задачи: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buClr>
                <a:srgbClr val="b32c1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Arial"/>
              </a:rPr>
              <a:t>Научиться оценивать поступки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buClr>
                <a:srgbClr val="b32c1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Arial"/>
              </a:rPr>
              <a:t>Выявить причины плохих поступков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buClr>
                <a:srgbClr val="b32c1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Arial"/>
              </a:rPr>
              <a:t>Познакомиться с видами правонарушений и меры ответственности за них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-71424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928800"/>
            <a:ext cx="77580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лковый словарь Ушакова Д.Н.: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йствие, нарушающее право, закон и идущее вразрез с общественными отношениями, нормируемыми правом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288432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овное законодательство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нолетни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знает лиц, которым ко времени совершения преступления исполнилось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4 ле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о не исполнилось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8 ле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786200" y="3643200"/>
            <a:ext cx="3571920" cy="284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786200" y="1000080"/>
            <a:ext cx="3643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-42876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520" y="63360"/>
            <a:ext cx="8980560" cy="665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-71424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71680" y="785880"/>
            <a:ext cx="82296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головная ответствен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нарушение законов, предусмотренных Уголовным кодексом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бийство, грабеж, оскорбления, мелкие хищения, хулиганство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наступает с 18 лет, в тяжелых случаях с 14 лет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286000" y="3786120"/>
            <a:ext cx="47149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-78588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857160"/>
            <a:ext cx="78296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Административная ответственность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за нарушения, предусмотренные кодексом об административных правонарушениях (нарушение правил дорожного движения, мелкое хулиганство, появление в нетрезвом виде в общественных местах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наступает с 16 ле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863960" y="3571920"/>
            <a:ext cx="3327480" cy="25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857160" y="3571920"/>
            <a:ext cx="371484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исциплинарная ответствен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руш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х обязан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нарушени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ой, учебной или воинской дисциплины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42908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-785880"/>
            <a:ext cx="8229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714240"/>
            <a:ext cx="79725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Гражданско–правовая          ответственност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е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Наказания к правонарушителю: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щение вреда, уплата ущерб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714240" y="3286080"/>
            <a:ext cx="428652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500800" y="2857680"/>
            <a:ext cx="2857320" cy="37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7:00:50Z</dcterms:created>
  <dc:creator>Wlad</dc:creator>
  <dc:description/>
  <dc:language>en-US</dc:language>
  <cp:lastModifiedBy>Александр</cp:lastModifiedBy>
  <dcterms:modified xsi:type="dcterms:W3CDTF">2020-04-02T06:20:21Z</dcterms:modified>
  <cp:revision>127</cp:revision>
  <dc:subject/>
  <dc:title>Правовая ответственность и меры наказания</dc:title>
</cp:coreProperties>
</file>