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EE1-CA93-4CFC-B269-C7A162A9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D65-915B-4431-BCD1-6F1B5F8B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8E553-4E13-4D07-846B-A9C44E0D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B3854-E96B-4AEF-8D50-59B16DA1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0A2CD-0C61-4F70-BC35-C26D9A92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F7EE7-E2CA-48E6-A89D-3DEF0868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C31FA-6EF8-4330-A0C1-039B9531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73637-EE38-4BD6-8FC4-9430875A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6B0F1-3AB5-4EE6-A6D0-07D36590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74801-E346-427A-A904-3674B2D2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A1214-D129-4662-B045-B3B6FF47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187CB-1B78-4F14-BFA8-3F9DBBCC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9AB-8688-45F2-B6EC-91ABF2B4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094B0-C223-45AE-A94E-3BFCB144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A8B94-B123-492A-B1F5-9535A88E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6C3B7-3D25-48DB-A634-701A4352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A56FA-F37C-4E86-9F1F-37A8CA83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298D3-AFB2-468D-8DD4-808B90D5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9F683-6CC9-49B3-8FFB-C686C9DC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0B9E5-4BFA-49FE-A816-C5C1F85C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3EC42-7754-4389-AB89-0F3CB91B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B1061-ABEA-4CF6-9E9C-5B46E0A0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26DD3-B2BF-4F03-8E22-C3E4DEA2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4ED-E6D5-4FC0-8CB7-9BCB2BC2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352F6-05E8-47ED-B5F9-BD38290D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93550-3E3C-47EB-9109-5F7BA521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791DA-1FF1-4468-802D-DAD951EA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3DD85-40D2-47D0-9FBA-31F74310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633FB-D095-46BE-A3CF-8C731C0E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7EFD2-9266-4D75-9265-10A7ACB9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2E29E-17DA-461D-9944-ADEA262D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71348-3B5A-46FB-B4CF-E96E81D5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90E78-E771-49AF-8AC6-DD51BD5B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29DB5-99C5-4E71-B3A2-A571673A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ED1B-95F1-4F8F-8849-D812FC3B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435D4-5F7E-44A7-AADC-3764DAF4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2A432-1494-4B54-939A-F459F8CA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E94DA-0159-42F3-97A8-4D9B1B79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B784C-B515-4948-ADE4-396296F1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3BCBF-ED8C-4D72-85B7-E10AED0E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B685B-F76B-4744-A223-5FE393AA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0E41D-DA2B-4A86-9BAD-9B595929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5148D-A5A9-4DE1-B221-D3788669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B8F54-337A-4BFD-A879-81B03AFF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7E7A2-DE62-4C8B-8662-8DBA866C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9E4B-D97B-45D3-BB17-A08DCB11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A2B73-BF37-4225-A89D-33D43981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21981-B429-4FB1-9F76-979BB4C8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A8129-DEC4-48D2-BCDA-FCCA8A85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3F77D-F97E-4A99-BF7B-30C5E679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950D6-C057-41A9-985E-9A22BDF4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A24CB-8ACF-4D90-86AE-B0E8D04F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2749D-FF4E-44D2-AE09-C39F9BF8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D8113-C312-499D-A85C-D5D1CA31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F664A-A486-464D-99B8-022B0310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C32F0-B488-46FA-9D4C-FCA0DD28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DA3F-CF9B-4CDF-ACA3-8B736ADD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8760E-7D19-4A82-BB18-7DD29545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2292E-6FFF-4A1C-BF87-91313762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E963A-14F4-414A-BD61-19911918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476AB5-0ED7-4A00-B7E8-FD920574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E5EA5-075A-490A-9438-12166994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DF024-318E-4651-8664-EFD38577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72558-0FA4-43D5-B2C3-2459F8B7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7AFF3C-3EAB-489A-87CB-142F91C3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05816-E130-48E1-9A1C-EEB745A8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8C456-6716-4279-95F9-472CEFF0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04F3-4FB7-4482-BFC6-F7BF03C4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73B739-F062-4FB5-9BE5-A760D5B8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B83D2-A6A9-4E06-92D9-1DF6781A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C469E-693D-47A3-8E34-235C9778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29626-3653-4713-B5F1-75002530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FB677-C60D-4051-9F8C-CE8FD074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77BAA-5805-4D69-8DA9-BAAA4A01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0656D-0B2A-4651-AC11-EA94281A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E6DCD-D8DE-49C1-B0AB-19D81C48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434FA-21F6-4550-9C15-9A3DD30E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990FA-F04F-4C48-BDAA-67F50B1A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B235-1B2A-48CB-9DBF-CD5A1A12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116607-A394-44F6-8468-838A7194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1A09A8-0E09-4FD7-8710-68BFC714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3361E6-7DB1-4372-BE47-760690CF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0BFEC-3123-4C1E-940F-B1CA27C8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5203B-A3AB-477A-8A1E-C6F85BDB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BEFBC-8E22-4403-B05E-44852908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6236F9-639E-401A-9E9D-294BD6BE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45EB7-A2C7-49AA-8E6B-5B0DA65E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1347B4-CE96-4DA7-83EF-186982E9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77FBF-A568-41F1-99B5-C24B8EC4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962D-A5FD-4233-B15A-2A327D6F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FC9F2-B13A-4518-9419-520ACBA1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FB37B-E4CA-4522-8BC9-1F319722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B8458-3C60-4208-B87C-17C607B5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A13D6C-FD66-439F-B006-C29AD1B3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70025-4F17-40D7-89BC-01A5D5C7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ABB575-E00E-4248-816D-FE8AA73E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821E0-7AA9-420D-92DD-D12062D3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75EF6-D4AE-4DD5-B345-D6AE6A98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D5F849-282F-49A1-9354-B62C6C0B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BF7663-2608-42C7-887A-A378AC10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9D65-CAF1-4176-AEBB-07FD7FF6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641AA5-30E0-45AE-9426-A592CA40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F4B957-008D-45D4-8FEB-B1D32C13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88883A-7E51-4DC6-A52C-5FA6C9CE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630EC-45E2-44E3-A291-57ED24EF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B37647-12C7-4C83-9348-60DA8779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EF997-A666-4789-AB8E-F1633D72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A8DB60-5E82-45B2-9C1C-8CF1F60C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1BC85B-9E1D-443A-AF46-6191E90E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2DA279-779D-4972-A2BC-27EFC707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008989-13E7-4E02-8B76-66985BF3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ADC-B93D-4D87-B430-F7629B61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A4CE-B3CE-464C-BF9D-33706ECA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46C89D-33A6-4C22-B703-14EEBC7A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8BB36-DC02-46C9-A86F-941AFB9E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43117-F8F9-42B0-984B-88B4DC20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FB2FB6-9200-410A-A383-AC26AD10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0511CA-5288-4E4B-BA9B-57696167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204474-E403-4113-B2C9-77F16F5F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898DC1-C19F-4DB3-A896-032E6D48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4B2D40-7627-48F0-BAE6-19D0B3D5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1BABC-05FB-4689-AC84-8674B349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C5EFD-3EF6-4F3C-8C26-523E9E2E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1A90-DE51-44B9-8FD2-6535F90B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527D78-2E6B-4CA0-8874-7FF1CE81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223BF-63C9-456D-B6FD-89A2277C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F3FAF3-6227-4109-8704-CB4FD36E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DF7FE7-20BA-45CC-8E6F-A6CD21E8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2C282-DB31-48FF-9E69-53CC873E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3487F0-AB76-4B21-B188-CDFD5662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7E58AF-E2BC-43B8-805E-65214C16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26C3-A1DD-4444-B92E-D178D3BD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0B72-B5CC-436D-B2D2-E0A465E8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5B2B-8E7E-4006-A914-6FC6BFD4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1A113-6D89-464A-8575-11DDBF05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A1E6-D1E0-469F-91E3-A1380E32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E986-78D6-42D7-8F6D-A99BBC00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E4F33-A2F2-41CD-B9A5-FD86604E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90F17-93F1-42A7-AC45-C4AC6150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7DD-4D25-44A9-8966-0945FA11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3FA14-2DEC-4EF9-8262-977FBF93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ECC74-4872-45E6-AC74-E5A937C9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8505-5645-4F1D-B4B9-E39C612F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8118F-D4F2-43B0-8BE6-5D675264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DF932-2714-4F9A-8E41-1F9C7407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F8D9A-E7E7-4CD7-BD6D-C3E87B49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C5977-73D8-4594-903B-6A8066BD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C089C-96EE-46F7-AEC8-293C6EDD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19EDF-CEAC-403B-9CBB-7DF4AF70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77DD2-9965-41D1-BFB6-1ECAB48E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58A-C2EC-4117-AB09-DA6A13D1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A153A-3925-4449-BC8D-39ACA814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DF7BA-3861-4ED1-83E5-9307D0EB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EBE2C-8A0D-45AA-A198-DEC77982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9B89E-59AC-45F5-9DDC-431FFBCD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95BBA-71B7-4482-ACC4-7E33F167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CF23-649F-4E31-B86C-A4C9A4F3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664DA-1102-4CB7-AB9B-FD5B4A3D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C0ABF-84AC-408D-90A8-30815646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78C6-8EDB-4E34-950E-E4364A40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7DE64-B6CC-4CFD-AE09-F79568B5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916-E7D2-43D8-92EF-D493E27F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AAB68-B4C4-40BA-8744-5BA7FB46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909A5-1848-42EF-868F-A0F4BF71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6120A-A68C-4025-ADD4-F1FC16C8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60B59-5DB1-4DCA-95A4-54B982EA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7B87B-2FAB-4584-9BBC-8E227396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449F1-39E3-486E-B800-EC303113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1E065-B567-4A0B-AAB3-BE20D38E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FFCD8-4F4C-4A32-B23C-8964A9D9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45A81-A5DF-4301-AEBE-3BD4BDFC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370A7-29AD-4E39-B4BB-DB016EAA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D12-E450-401F-9A6D-31E8E8B8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369B3-3F3D-4596-A036-A685D2ED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CD29C-C016-4FF6-8C2A-5AB453EA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7E14D-1E79-416E-8D6E-9EB5283D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0D6AF-D877-44D1-A6CC-4744C929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5FDDF-705A-4DA2-8A3D-647B8A85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99570-2C55-40A6-A86A-ABF7E700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3A805-2826-4318-B165-1B8493F9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1B5B0-A6E6-46D0-801B-4B070197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37D25-158C-4BFE-9A99-0BD91931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F704A-70AF-4903-B0EF-F2C22216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C86-FBE6-4D86-A1AC-44BC86CE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AC6D3-1DCF-4784-A33C-D3A396C3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E3D10-BB15-4EE0-96C0-72FB3E4F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3D152-1E70-42C1-BCDB-1244B7DC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B6AE6-C722-410B-9EA6-37DFC356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F7A78-BC71-4E7C-B1F7-2D710F44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C94C6-CB72-4E35-AF98-C7230BD4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7AE12-39FF-4F46-ABE2-2D189C28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9CF67-2A6E-48BC-95B0-26189BE3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DB5E0-852D-447B-AB2D-433BDC07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B8387-2FD0-4BD5-8B89-C6AEAE88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194E-567D-4132-B61C-04D3F211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6EE0C-8D1D-4553-9E42-9CD71513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7ED4D-5DCB-4815-8E54-15F0B645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95D55-B2C9-4D41-95E3-D422084F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A8F41-9AF6-47C9-A7C1-0400CD17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F25A0-4EFC-49D2-9507-6D55A92B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14EAF-A258-4D44-B331-14104862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D0F5A-2F3D-45DE-BD29-03E9A127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E90D6-13A9-489C-AAD7-64A8A8BC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1D3EA-7E40-4030-AC78-5CB086FF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930F5-46B7-46FE-A345-85C6C196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091-D7A1-4115-A2FA-D51F18F7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78CE2-AD5C-4944-9C4C-EA33FB43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F1588-45D0-4B9E-97D6-44EB0FA2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C848A-79A0-4575-937C-5E510C77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0B686-C574-4338-BCD0-6AEFF039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51EA0-22B5-498E-BE0C-A47D5F9A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A2535-D0AB-4866-8418-2754161A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A2160-989A-4AC5-A9EC-9B789F53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544FF-9EBE-4000-9B35-F2BF9238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CCF50-A12F-46E5-AFF1-587D169B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C1D89-E7F5-4FC5-9077-72F335EA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60CED-F3E6-49F8-B112-9237611888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F8655-046A-4937-9E35-75F6C1C1BF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06F72-976D-48DF-B29F-7B76DF05C6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F27C5-2243-4DD2-A3E8-D3C0D53E1B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518A7-2609-440E-A678-1C2E2B7148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76CF4-495A-467A-B8D3-219ED6C81A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AC131-DA15-4DBD-BDAB-578B6C8057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35ED7-9029-44E6-91B6-AA9F2FCE3C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47E7F-17BF-466C-AACF-4A78D3DC0B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B208A-BB95-4614-B55B-FE173B71B8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3ACDF-6300-476A-82C8-941BAF1D59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E6BD1-FFE0-4998-8598-8EEA4C73EF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D9429-AFA4-40ED-B932-17DDCC83FD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4AB08-A7EF-4953-B2BA-B8333E8F25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D5F3D-C338-457B-90BA-565A05433E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489D0-2E30-4D6D-8870-9F41C27D21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59582-4299-4690-BC27-51D262AC94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CD37D-F6E2-486B-B1A6-585592CF75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300320"/>
            <a:ext cx="8690040" cy="115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w Cen MT"/>
              </a:rPr>
              <a:t>ОБМЕН ОПЫТОМ – 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Tw Cen MT"/>
              </a:rPr>
              <a:t>ФОТООТЧЕТ</a:t>
            </a:r>
            <a:endParaRPr b="0" lang="en-US" sz="4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804600" y="2455920"/>
            <a:ext cx="1046772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w Cen MT"/>
              </a:rPr>
              <a:t>«ИНФОШКОЛА – КАК УДОБНЫЙ ИНСТРУМЕНТ ДЛЯ  ПРОВЕДЕНИЯ ДИСТАНЦИОННЫХ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w Cen MT"/>
              </a:rPr>
              <a:t>ЗАНЯТИЙ С ДОШКОЛЬНИКАМИ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w Cen MT"/>
              </a:rPr>
              <a:t>ВОСПИТАТЕЛЬ: ДЕНИСОВА Т.В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w Cen MT"/>
              </a:rPr>
              <a:t>МБДОУ Д/С «ЗВЕЗДОЧКА» СП 148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w Cen MT"/>
              </a:rPr>
              <a:t>Г. НИЖНИЙ ТАГИЛ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w Cen MT"/>
              </a:rPr>
              <a:t>2020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040" y="45900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914040" y="1282680"/>
            <a:ext cx="103633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КОМАНДА «ИНФОУРОК» РЕШИЛА ПОМОЧЬ РОССИЙСКИМ ПЕДАГОГАМ И ВОСПИТАТЕЛЯМ И ОБЪЕДИНИЛА УЖЕ ПРИВЫЧНЫЕ ПОЛЬЗОВАТЕЛЯМ ИНСТРУМЕНТЫ И ДОПОЛНИЛИ ИХ НОВЫМИ РЕШЕНИЯМИ, ЧТОБЫ СДЕЛАТЬ ЭТОТ ПЕРЕХОД МАКСИМАЛЬНО БЫСТРЫМ И КОМФОРТНЫМ. 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ПОЛУЧИЛОСЬ ЗАМЕЧАТЕЛЬНО:  ДИСТАНЦИОННОЕ ПРОСТРАНСТВО НЕ ТРЕБУЕТ ОТ ПЕДАГОГОВ ОСОБЫХ НАВЫКОВ И ПРОДВИНУТОГО ВЛАДЕНИЯ КОМПЬЮТЕРНЫМИ ПРОГРАММАМИ. ВСЕ НЕОБХОДИМЫЕ ДЕЙСТВИЯ МОЖНО СОВЕРШИТЬ В ЛИЧНОМ КАБИНЕТЕ ВСЕГО В НЕСКОЛЬКО КЛИКОВ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ХОЧУ СКАЗАТЬ </a:t>
            </a:r>
            <a:r>
              <a:rPr b="1" lang="ru-RU" sz="2000" spc="-1" strike="noStrike">
                <a:solidFill>
                  <a:srgbClr val="ff0000"/>
                </a:solidFill>
                <a:latin typeface="Tw Cen MT"/>
              </a:rPr>
              <a:t>«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w Cen MT"/>
              </a:rPr>
              <a:t>СПАСИБО»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КОМАНДЕ «ИНФОУРОКА» И ПОДЕЛИТЬСЯ СВОИМ ОПЫТОМ ЗАНЯТИЙ С ДЕТЬМИ СТАРШЕЙ ГРУППЫ «ЗВЕЗДОЧКИ»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040" y="47952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0" name="Объект 3" descr=""/>
          <p:cNvPicPr/>
          <p:nvPr/>
        </p:nvPicPr>
        <p:blipFill>
          <a:blip r:embed="rId1"/>
          <a:stretch/>
        </p:blipFill>
        <p:spPr>
          <a:xfrm>
            <a:off x="8862840" y="2146320"/>
            <a:ext cx="2281320" cy="4065480"/>
          </a:xfrm>
          <a:prstGeom prst="rect">
            <a:avLst/>
          </a:prstGeom>
          <a:ln w="0">
            <a:noFill/>
          </a:ln>
        </p:spPr>
      </p:pic>
      <p:pic>
        <p:nvPicPr>
          <p:cNvPr id="781" name="Объект 3" descr=""/>
          <p:cNvPicPr/>
          <p:nvPr/>
        </p:nvPicPr>
        <p:blipFill>
          <a:blip r:embed="rId2"/>
          <a:stretch/>
        </p:blipFill>
        <p:spPr>
          <a:xfrm>
            <a:off x="436680" y="1160640"/>
            <a:ext cx="829764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3" name="Объект 3" descr=""/>
          <p:cNvPicPr/>
          <p:nvPr/>
        </p:nvPicPr>
        <p:blipFill>
          <a:blip r:embed="rId1"/>
          <a:stretch/>
        </p:blipFill>
        <p:spPr>
          <a:xfrm>
            <a:off x="8210520" y="2133720"/>
            <a:ext cx="2841480" cy="4157640"/>
          </a:xfrm>
          <a:prstGeom prst="rect">
            <a:avLst/>
          </a:prstGeom>
          <a:ln w="0">
            <a:noFill/>
          </a:ln>
        </p:spPr>
      </p:pic>
      <p:pic>
        <p:nvPicPr>
          <p:cNvPr id="784" name="Объект 4" descr=""/>
          <p:cNvPicPr/>
          <p:nvPr/>
        </p:nvPicPr>
        <p:blipFill>
          <a:blip r:embed="rId2"/>
          <a:stretch/>
        </p:blipFill>
        <p:spPr>
          <a:xfrm>
            <a:off x="709560" y="619200"/>
            <a:ext cx="715176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6" name="Объект 3" descr=""/>
          <p:cNvPicPr/>
          <p:nvPr/>
        </p:nvPicPr>
        <p:blipFill>
          <a:blip r:embed="rId1"/>
          <a:stretch/>
        </p:blipFill>
        <p:spPr>
          <a:xfrm>
            <a:off x="6480000" y="2120760"/>
            <a:ext cx="4291200" cy="4376880"/>
          </a:xfrm>
          <a:prstGeom prst="rect">
            <a:avLst/>
          </a:prstGeom>
          <a:ln w="0">
            <a:noFill/>
          </a:ln>
        </p:spPr>
      </p:pic>
      <p:pic>
        <p:nvPicPr>
          <p:cNvPr id="787" name="Объект 4" descr=""/>
          <p:cNvPicPr/>
          <p:nvPr/>
        </p:nvPicPr>
        <p:blipFill>
          <a:blip r:embed="rId2"/>
          <a:stretch/>
        </p:blipFill>
        <p:spPr>
          <a:xfrm>
            <a:off x="382680" y="928800"/>
            <a:ext cx="584028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9" name="Объект 4" descr=""/>
          <p:cNvPicPr/>
          <p:nvPr/>
        </p:nvPicPr>
        <p:blipFill>
          <a:blip r:embed="rId1"/>
          <a:stretch/>
        </p:blipFill>
        <p:spPr>
          <a:xfrm>
            <a:off x="368280" y="619200"/>
            <a:ext cx="10909440" cy="600084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 txBox="1"/>
          <p:nvPr/>
        </p:nvSpPr>
        <p:spPr>
          <a:xfrm>
            <a:off x="9363240" y="4898520"/>
            <a:ext cx="191448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2T09:31:17Z</dcterms:created>
  <dc:creator>11</dc:creator>
  <dc:description/>
  <dc:language>en-US</dc:language>
  <cp:lastModifiedBy>11</cp:lastModifiedBy>
  <dcterms:modified xsi:type="dcterms:W3CDTF">2020-04-02T10:03:09Z</dcterms:modified>
  <cp:revision>4</cp:revision>
  <dc:subject/>
  <dc:title>Обмен опытом –  ФОТООТЧЕТ</dc:title>
</cp:coreProperties>
</file>