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225-AD2F-43B4-8786-A15354C6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E4B-26A9-4BDD-9915-8AD3DFE3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E98B7-9F58-44C7-BE4A-56335B3F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F6D2C-ADD2-4B37-B9BF-81B579B1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2E319-6616-489D-8981-29D409B2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2AB39-3F41-4A35-A2EF-80C248C2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6C7CE-7888-4721-81C7-9400939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E2182-3803-46DB-BAC0-7B5D1EF6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5BA5C-E750-46A6-9EE0-D8C20226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609C5-B488-46A0-A3CA-F0281A85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21293-BDAC-481C-9154-83A9CB5B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522D8-8E74-4C4D-9C01-1FE6C295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EB5-D96C-4829-9C3B-163646B5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3327F-B1A2-41CA-8340-66090D9F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1A716-EB68-4C43-9125-6FCAA3AD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E5C1C-9204-445F-B6A8-901DA0C1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AAB79-C164-41E4-806E-4B4B0981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C793F-EDD7-4AD8-81CC-6F73A854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5078D-ED7E-47F3-A9D3-896643E6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50493-BE2D-4D81-A3E8-101015C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C6AEC-D630-4C68-83A4-26636B9A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D5523-C106-42AF-8F42-2828DC8A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7B0EE-0557-42A1-8498-04071BFE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396-5EAC-4095-B437-E7831C00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290B2-FD3B-451B-BB58-5ECC20D6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45171-BECC-4209-81CF-C1D3F8B5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59126-BA6A-441C-9262-6F29E3E5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0A7A6-E8A9-48ED-AAA0-5770549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B4169-29EA-4429-89D3-06C1D6E8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2DCAF-3503-4788-A65F-0E630C3E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8042B-EA0E-4B76-9FED-7AC73988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0D016-7598-4C34-A8E4-6D8CCAF2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488FD-5A40-419E-9F22-D8EEA549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C00E9-41F0-497D-9960-78F8DB20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868F-E16C-4ECC-9D5D-08AE08EB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A6B5E-317D-453B-B365-EBEF6F5D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9BFAB-02E7-4E73-A47E-DA1325F9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A3404-223F-4377-8AEF-C0A16100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9F58B-2456-4923-A24E-81970EB2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19882-6CE4-4848-A870-CEBEAE56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FD99C-E732-4F8E-B733-A46BDB23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6B859-401D-49B0-9D58-CF88661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FFFFB-8275-4059-B505-D2744DE9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7A971-4B82-4C10-9760-169FFAFE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8A805-A750-4B58-BD18-25223BB8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9113-5719-4250-BED7-EF38A833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0359A-4C7E-48C1-A705-16F031F1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86A2E-3759-454B-BC44-0C7419F5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E964D-4A11-4116-B6AF-FCECAE0D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90FC6-299C-4370-B068-6B18F849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E317F-1A18-40DD-82F7-1E3E62D3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B1C7C-8FF0-4968-BFC2-B149172D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928FB-E1AB-48B9-94D9-071A9929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EBE60-F676-48C9-8A2B-0A4BB3AB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8F955-C870-4AD9-A35E-DCD504D7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0EFDD-E39D-4AE7-8D70-AB836B96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3A16-5926-4E1F-BE51-BDD37803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31B2A-1EF6-4BCB-911D-823B8379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477FA-0DAC-426F-8E4E-D7A92619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802DE-EC11-46B4-962B-8D254E96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AFE99-56EE-47FF-AAC1-AE9E7057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64D25-6DF0-42D7-BD5A-B097CA75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234A0-D91F-4D0A-8B68-23B71C23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4144E-D3FF-43EF-A771-E2109746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F4DEE-B0C6-4055-8E1D-1F19A933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68DCD-929E-4880-B827-FA4908C3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C17E7-4F7E-4440-90F1-871FE45C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DAC8-A009-47DD-BDE2-B5D0098F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B0AAF6-83D9-4BE5-B02B-714EB575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10592-9552-4AF2-B79F-1B508125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D1C47-0E05-45BA-9C59-4F39626C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3BACF-430D-4704-BADC-84044FE1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EDC88-9CF6-4650-A9D4-08239CBB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176DF-E4EB-4091-8DBD-2900A252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95594-C8E7-44DA-A5BD-5FC2FCBD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10B9E-AFCC-4633-8801-F259B933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060E5-510B-472F-A28A-B45BAB7A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4889E-3B4D-496D-B49D-C6EB3E6A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2715-4252-4B4C-8620-48D6697C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A9451-9A91-4770-933B-CD8D8817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66EFC-266C-4956-9DCE-6AC51054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9411A-8DF2-403E-97B6-20A54670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02FB2-5582-488D-897D-ACBC68C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91C5A-826E-4A92-B8A0-D0D61022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25F3D-5A6C-4D50-82F4-8F39178D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CF2360-693D-4E0A-BD4C-C0D69416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D3EFE-CA66-46BD-AA87-DAA02C2B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0F155-C988-4A0C-A5B3-95D0636E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3F6D8-74FF-47E5-9D26-974C1F8D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011F-8D30-4044-AFBC-707AEA79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425DB-9AF7-4163-9BA1-3A54FA80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0F8EC-DB84-4D64-B8A3-189BD5AF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07888-2A3C-42F2-A133-69689A75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E140F-40B1-4DA8-A6DD-E66E6187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88940-E179-4BBD-8243-0CB186D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C3A35-BBC2-45B9-AD24-EA9FB949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75A0B-F861-4E0D-B70A-5EF9407E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FBCDD-AF33-4AC9-B59D-C1092218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3A11D-B5FA-4E04-9707-A971D139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980C5C-29E4-4B00-B691-FFFF3719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8D62-1642-46C0-9462-DAB87F0B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C94ADE-A0CC-4502-AF8D-E0C58AB1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40BF1-7037-417E-B647-63CC4016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0AC69-B262-4693-8483-D0DB0B1C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4CFF1-4BB0-4F6B-B23E-C5E2CF33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19618-3807-429C-A257-A1B4FB2D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B60BD-EB1E-4D93-A3BD-C4B702A9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06D187-4AD8-4DAE-85CF-6CBDB379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51E8D3-4720-483E-AA40-95456030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E41DB-AD76-4CA4-9653-2F8FF03E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5DF8A-E622-49B4-92CD-7EDE1187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4CE-ADEA-4B42-A531-D7D14DDF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61DE-A35E-44F6-8285-00D44A8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230D8-354C-43EF-84AD-C03C199E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807BA5-AA0C-4DA7-8C6E-B8B73B6C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F10B3-CE09-4573-99E2-2A5EC11D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596005-07CC-43D2-93E3-3788D6C3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EB41E-AD5A-430A-BF54-29D6099A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D8316-60C7-4D71-B2BE-37CCEB97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563FA2-9B4D-4B9E-ADA9-F5C2FCE4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F18CB9-6208-4C70-8C88-19B6C684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FE58E-C5E3-4D3E-8DC4-B3D2F219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B0BBF-9BC4-41C6-9D30-8CA98543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EDF3-474F-4C26-9707-37B95D0E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61650-6829-4834-9F87-83AF57E4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A97E29-86AB-4AFC-B490-00AA25FE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603073-F3D6-4A39-8108-B1832D29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3BB0C0-D9BA-4B5B-B3E5-00931119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D55E0-9724-4344-831B-DCFAA8F8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42483-81CF-4C52-87A2-59C6A31B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7119E-4618-4C74-BD2A-7256F594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C16E-94F8-40EF-9E31-0AE15631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84B4-3426-4EA7-8ECA-8F27C5F9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9DA8-354A-422E-B928-AF507B0B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5B06-7545-4E2A-99DD-3480ECD4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A639A-5C4E-4228-A519-5EFE6A1A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7B6AD-FDEC-4334-87B3-80D23AFE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10DE-0A1B-4EE7-8D37-D009F401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9468-163B-410B-8E64-E17C6678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A75-0897-4829-ACDD-00279139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6C67B-FB80-44D9-BE26-CC590002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89E9-D101-4EC6-A836-775F5B0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9103-87C8-46F6-B99C-6F24E433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B7EB-FB86-4956-85F7-A04789A7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ED392-0C79-4A32-9446-12F11150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D332-1F77-4154-841F-6D50C779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40AD9-1E01-4880-8D03-551FFCFB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B7C5C-DD4F-4899-A1EF-C8F5F0B3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262D1-861F-47C8-BE04-34198247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83F9-849D-49B6-B43D-E3438F5C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A8E-B437-4758-B9BB-8DE2C67D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ECEA-3D6F-4C65-B084-A7D7F547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B307-CA3D-42E7-96B4-6F1E43FD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D150-A231-46F6-A943-417DDC58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B0CDC-0603-4120-9A4E-EA8B0962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D3FDE-0518-4FA1-9F5F-EE0CFD05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F8EF-4B13-4749-83DE-4D57C94B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6DEA-628F-4363-A9D6-4A25DE0B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A8153-86C9-4177-BEFB-A692EC79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1AF16-CCDE-4BF0-80BE-AD48C0B4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1317D-65BB-4B68-BFA9-B6071F22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C7E-9626-4160-9C00-6C33A27E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9D003-1620-4A43-9B14-22DFEAA9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F9796-89C4-4B81-B608-CAE0A575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C8DE-FE3C-4F6A-8B57-3CA94F4E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B517E-56F8-4504-B460-D49819F9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83428-567C-4ECE-8551-526D7E4F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2F8E-E681-424D-AAB2-AAB08FB1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D320-4862-476B-A2BB-074F6941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0D625-C931-4DB5-B4AE-CF609497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6C3A4-ED61-451B-81D8-29531AA5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D7D0D-FAB7-4338-A02E-5A5B9331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A98-BC9B-4CFF-972B-A889A788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1800A-3888-4C59-B715-F338D7CB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49BEB-4CDB-43E4-9CBB-775F4266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F3396-FA13-40C0-B2F6-FB430933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5322-ED96-4429-806E-ED7BCAE5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89C3D-2CF8-449C-A388-4560460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72002-61BE-4E77-9552-D85F1B16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A10AA-49BC-4008-9B94-F55A2AEF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E8E8F-E341-4F43-8CBB-DC551BE3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45720-F568-4BAF-95ED-1BA83A1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289BF-517A-4186-BE76-DE2FF63F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D1E-5926-4A87-8AA5-63F3DCA2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B329E-53EC-4CED-BBBD-EF3D5CB5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85D83-B9C7-4368-9B95-83D1E04C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960E6-8548-4F10-9800-77197515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52FB3-B263-49AF-B6F7-88DF36C3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3C029-1465-4BE2-A8F5-91A759F9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AE8D5-D132-4D24-87DC-A2F4B4BD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AD945-E4F6-434A-AE55-6B6E4C5A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1E661-3FD7-4916-B763-D2734865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07B14-A7A2-4008-932A-5074195B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07D9E-5469-468A-BFCE-11A23FA4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E9C-3AD9-48B9-A3AA-BADC9F2D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92540-BC3D-453C-AB68-F339F895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9588B-CAC4-4E33-A09A-6CEEC442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8259F-9E00-4E55-A5BF-0A2B50AA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46753-3F25-43A5-8606-F9A94775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08EF5-FF5B-43E5-91D8-679906F6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BB8C3-6EC5-4F9A-8AFE-1C05A43F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CCE37-195B-4FCB-A8C9-FFA6E094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6D19B-D584-4559-9405-F937246A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5F87C-2D5A-4776-B6EB-EFB2631C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8532E-A718-4164-8B63-7400EBFC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141-AE3F-408E-8F60-05BAD1C2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B1E49-D755-46ED-9F73-9E3FA1DB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C5BDE-40BE-47E5-A327-2293C036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8F40C-15EF-4681-BC2C-01FB59C7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B056E-E385-4B04-851E-792009E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4FBC9-C3B1-4E2C-B658-B91AB167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49C8C-2FD9-454A-8F3C-67A55DA8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D84BE-9041-4592-8F62-68B4FD22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CE258-E4EE-4113-A9F1-78FAE5E7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AADE9-BDD8-4ACB-B14F-8FC4AE55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073AD-9136-40D0-941F-B45CCFC4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10E43-AA24-4005-A218-0A7D417C0E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A47F3-8272-4A07-9A73-605655DFA7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BE339-1FA7-47DC-84AD-DBDEA9AF9B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A603A-72D4-459C-9647-4E68B7BF98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39065-11FA-4BD4-A1D5-7C4B620AD9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5E0C0-66BC-438B-AE71-FF9302ACB2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9380D-FFD2-4EDF-8E7E-FDE9BC19DC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5D640-D2B8-438A-8F2E-63AB7D4BDB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3B2AB-2E58-42EC-AC7F-CC89F7497D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8354D-2BC9-4E3A-BB16-51F7053150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D4E7F-2599-4719-8318-B2F5DCCE71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7CB1D-66DB-48D0-B0B3-2BA625655C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1F7D1-5822-416F-8253-24439B0C6E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6BA93-6131-4C66-A83F-CDD14CA3EA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5C715-C6A9-4728-BFAC-DF116FEBB5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04B67-3720-4AF6-B3BF-E65ED33900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EBE60-AA37-4E6C-92A7-D7E46A134C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D814E-D862-4888-B44B-BAAE670AAB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300320"/>
            <a:ext cx="8690040" cy="115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w Cen MT"/>
              </a:rPr>
              <a:t>ОБМЕН ОПЫТОМ – 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Tw Cen MT"/>
              </a:rPr>
              <a:t>ФОТООТЧЕТ</a:t>
            </a:r>
            <a:endParaRPr b="0" lang="en-US" sz="4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804600" y="2455920"/>
            <a:ext cx="1046772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w Cen MT"/>
              </a:rPr>
              <a:t>«ИНФОШКОЛА – КАК УДОБНЫЙ ИНСТРУМЕНТ ДЛЯ  ПРОВЕДЕНИЯ ДИСТАНЦИОННЫХ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w Cen MT"/>
              </a:rPr>
              <a:t>ЗАНЯТИЙ С ДОШКОЛЬНИКАМИ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w Cen MT"/>
              </a:rPr>
              <a:t>ВОСПИТАТЕЛЬ: ДЕНИСОВА Т.В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w Cen MT"/>
              </a:rPr>
              <a:t>МБДОУ Д/С «ЗВЕЗДОЧКА» СП 148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w Cen MT"/>
              </a:rPr>
              <a:t>Г. НИЖНИЙ ТАГИЛ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w Cen MT"/>
              </a:rPr>
              <a:t>2020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040" y="45900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1282680"/>
            <a:ext cx="10363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КОМАНДА «ИНФОУРОК» РЕШИЛА ПОМОЧЬ РОССИЙСКИМ ПЕДАГОГАМ И ВОСПИТАТЕЛЯМ И ОБЪЕДИНИЛА УЖЕ ПРИВЫЧНЫЕ ПОЛЬЗОВАТЕЛЯМ ИНСТРУМЕНТЫ И ДОПОЛНИЛИ ИХ НОВЫМИ РЕШЕНИЯМИ, ЧТОБЫ СДЕЛАТЬ ЭТОТ ПЕРЕХОД МАКСИМАЛЬНО БЫСТРЫМ И КОМФОРТНЫМ. 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ОЛУЧИЛОСЬ ЗАМЕЧАТЕЛЬНО:  ДИСТАНЦИОННОЕ ПРОСТРАНСТВО НЕ ТРЕБУЕТ ОТ ПЕДАГОГОВ ОСОБЫХ НАВЫКОВ И ПРОДВИНУТОГО ВЛАДЕНИЯ КОМПЬЮТЕРНЫМИ ПРОГРАММАМИ. ВСЕ НЕОБХОДИМЫЕ ДЕЙСТВИЯ МОЖНО СОВЕРШИТЬ В ЛИЧНОМ КАБИНЕТЕ ВСЕГО В НЕСКОЛЬКО КЛИКОВ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ХОЧУ СКАЗАТЬ </a:t>
            </a:r>
            <a:r>
              <a:rPr b="1" lang="ru-RU" sz="2000" spc="-1" strike="noStrike">
                <a:solidFill>
                  <a:srgbClr val="ff0000"/>
                </a:solidFill>
                <a:latin typeface="Tw Cen MT"/>
              </a:rPr>
              <a:t>«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w Cen MT"/>
              </a:rPr>
              <a:t>СПАСИБО»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КОМАНДЕ «ИНФОУРОКА» И ПОДЕЛИТЬСЯ СВОИМ ОПЫТОМ ЗАНЯТИЙ С ДЕТЬМИ СТАРШЕЙ ГРУППЫ «ЗВЕЗДОЧКИ»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040" y="47952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0" name="Объект 3" descr=""/>
          <p:cNvPicPr/>
          <p:nvPr/>
        </p:nvPicPr>
        <p:blipFill>
          <a:blip r:embed="rId1"/>
          <a:stretch/>
        </p:blipFill>
        <p:spPr>
          <a:xfrm>
            <a:off x="8862840" y="2146320"/>
            <a:ext cx="2281320" cy="4065480"/>
          </a:xfrm>
          <a:prstGeom prst="rect">
            <a:avLst/>
          </a:prstGeom>
          <a:ln w="0">
            <a:noFill/>
          </a:ln>
        </p:spPr>
      </p:pic>
      <p:pic>
        <p:nvPicPr>
          <p:cNvPr id="781" name="Объект 3" descr=""/>
          <p:cNvPicPr/>
          <p:nvPr/>
        </p:nvPicPr>
        <p:blipFill>
          <a:blip r:embed="rId2"/>
          <a:stretch/>
        </p:blipFill>
        <p:spPr>
          <a:xfrm>
            <a:off x="436680" y="1160640"/>
            <a:ext cx="829764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3" name="Объект 3" descr=""/>
          <p:cNvPicPr/>
          <p:nvPr/>
        </p:nvPicPr>
        <p:blipFill>
          <a:blip r:embed="rId1"/>
          <a:stretch/>
        </p:blipFill>
        <p:spPr>
          <a:xfrm>
            <a:off x="8210520" y="2133720"/>
            <a:ext cx="2841480" cy="4157640"/>
          </a:xfrm>
          <a:prstGeom prst="rect">
            <a:avLst/>
          </a:prstGeom>
          <a:ln w="0">
            <a:noFill/>
          </a:ln>
        </p:spPr>
      </p:pic>
      <p:pic>
        <p:nvPicPr>
          <p:cNvPr id="784" name="Объект 4" descr=""/>
          <p:cNvPicPr/>
          <p:nvPr/>
        </p:nvPicPr>
        <p:blipFill>
          <a:blip r:embed="rId2"/>
          <a:stretch/>
        </p:blipFill>
        <p:spPr>
          <a:xfrm>
            <a:off x="709560" y="619200"/>
            <a:ext cx="715176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6" name="Объект 3" descr=""/>
          <p:cNvPicPr/>
          <p:nvPr/>
        </p:nvPicPr>
        <p:blipFill>
          <a:blip r:embed="rId1"/>
          <a:stretch/>
        </p:blipFill>
        <p:spPr>
          <a:xfrm>
            <a:off x="6480000" y="2120760"/>
            <a:ext cx="4291200" cy="4376880"/>
          </a:xfrm>
          <a:prstGeom prst="rect">
            <a:avLst/>
          </a:prstGeom>
          <a:ln w="0">
            <a:noFill/>
          </a:ln>
        </p:spPr>
      </p:pic>
      <p:pic>
        <p:nvPicPr>
          <p:cNvPr id="787" name="Объект 4" descr=""/>
          <p:cNvPicPr/>
          <p:nvPr/>
        </p:nvPicPr>
        <p:blipFill>
          <a:blip r:embed="rId2"/>
          <a:stretch/>
        </p:blipFill>
        <p:spPr>
          <a:xfrm>
            <a:off x="382680" y="928800"/>
            <a:ext cx="584028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9" name="Объект 4" descr=""/>
          <p:cNvPicPr/>
          <p:nvPr/>
        </p:nvPicPr>
        <p:blipFill>
          <a:blip r:embed="rId1"/>
          <a:stretch/>
        </p:blipFill>
        <p:spPr>
          <a:xfrm>
            <a:off x="368280" y="619200"/>
            <a:ext cx="10909440" cy="600084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 txBox="1"/>
          <p:nvPr/>
        </p:nvSpPr>
        <p:spPr>
          <a:xfrm>
            <a:off x="9363240" y="4898520"/>
            <a:ext cx="191448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2T09:31:17Z</dcterms:created>
  <dc:creator>11</dc:creator>
  <dc:description/>
  <dc:language>en-US</dc:language>
  <cp:lastModifiedBy>11</cp:lastModifiedBy>
  <dcterms:modified xsi:type="dcterms:W3CDTF">2020-04-02T10:03:09Z</dcterms:modified>
  <cp:revision>4</cp:revision>
  <dc:subject/>
  <dc:title>Обмен опытом –  ФОТООТЧЕТ</dc:title>
</cp:coreProperties>
</file>