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7116-97A6-4D1D-AEEB-DF6909493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7F7B-F543-48F7-A872-3B03D02C9E9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F05-FEBA-4C09-A4D6-ECCD72BDBABB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14E6-DEF2-41E8-A2B7-19970C933ABA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3352680"/>
            <a:ext cx="6019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Microsoft Sans Serif"/>
              </a:rPr>
              <a:t>Позитивная деятельность школьного сообщества, как основа профилактики дивиантного поведения детей и подростков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icrosoft Sans Serif"/>
              </a:rPr>
              <a:t>2019 год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9" name="Фильм Быкова.mp4" descr=""/>
          <p:cNvPicPr/>
          <p:nvPr/>
        </p:nvPicPr>
        <p:blipFill>
          <a:blip r:embed="rId1"/>
          <a:stretch/>
        </p:blipFill>
        <p:spPr>
          <a:xfrm>
            <a:off x="368280" y="93600"/>
            <a:ext cx="8623440" cy="6612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Microsoft Sans Serif"/>
              </a:rPr>
              <a:t>Факторы риска: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1" name="Объект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6168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Скругленный прямоугольник 3"/>
          <p:cNvSpPr/>
          <p:nvPr/>
        </p:nvSpPr>
        <p:spPr>
          <a:xfrm>
            <a:off x="838080" y="685800"/>
            <a:ext cx="775512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137124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crosoft Sans Serif"/>
              </a:rPr>
              <a:t>Нарушения в физическом и психологическом здоровье</a:t>
            </a:r>
            <a:r>
              <a:rPr b="0" lang="ru-RU" sz="4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4" name="Объект 1" descr=""/>
          <p:cNvPicPr/>
          <p:nvPr/>
        </p:nvPicPr>
        <p:blipFill>
          <a:blip r:embed="rId1"/>
          <a:stretch/>
        </p:blipFill>
        <p:spPr>
          <a:xfrm>
            <a:off x="-19080" y="2419200"/>
            <a:ext cx="8613720" cy="4273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1"/>
          <p:cNvSpPr/>
          <p:nvPr/>
        </p:nvSpPr>
        <p:spPr>
          <a:xfrm>
            <a:off x="1143000" y="685800"/>
            <a:ext cx="716292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052640"/>
            <a:ext cx="73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crosoft Sans Serif"/>
              </a:rPr>
              <a:t>Проблемы подросткового возраста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536400" y="2352600"/>
            <a:ext cx="7540920" cy="4492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2"/>
          <p:cNvSpPr/>
          <p:nvPr/>
        </p:nvSpPr>
        <p:spPr>
          <a:xfrm>
            <a:off x="1523880" y="380880"/>
            <a:ext cx="624852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3880" y="6854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crosoft Sans Serif"/>
              </a:rPr>
              <a:t>Взаимоотношения со сверстникам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0" name="Объект 3" descr=""/>
          <p:cNvPicPr/>
          <p:nvPr/>
        </p:nvPicPr>
        <p:blipFill>
          <a:blip r:embed="rId1"/>
          <a:stretch/>
        </p:blipFill>
        <p:spPr>
          <a:xfrm>
            <a:off x="341280" y="1689120"/>
            <a:ext cx="8461440" cy="527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1"/>
          <p:cNvSpPr/>
          <p:nvPr/>
        </p:nvSpPr>
        <p:spPr>
          <a:xfrm>
            <a:off x="685800" y="685800"/>
            <a:ext cx="7696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crosoft Sans Serif"/>
              </a:rPr>
              <a:t>Деструктивное поведение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622440" y="1828800"/>
            <a:ext cx="8124840" cy="480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2"/>
          <p:cNvSpPr/>
          <p:nvPr/>
        </p:nvSpPr>
        <p:spPr>
          <a:xfrm>
            <a:off x="1828800" y="77760"/>
            <a:ext cx="5562720" cy="6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icrosoft Sans Serif"/>
              </a:rPr>
              <a:t>Алгоритм действий: 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-304920" y="895320"/>
            <a:ext cx="9637920" cy="5938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1343160" y="0"/>
            <a:ext cx="780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"/>
          <p:cNvSpPr/>
          <p:nvPr/>
        </p:nvSpPr>
        <p:spPr>
          <a:xfrm>
            <a:off x="457200" y="1295280"/>
            <a:ext cx="8305920" cy="472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6761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icrosoft Sans Serif"/>
              </a:rPr>
              <a:t>Помните: 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icrosoft Sans Serif"/>
              </a:rPr>
              <a:t>дети - это большое счастье. В наших руках сделать их счастливыми, ведь каждый ребенок рождается для счастья.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crosoft Sans Serif"/>
              </a:rPr>
              <a:t>ЗАДАЧ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47" name="Объект 1" descr=""/>
          <p:cNvPicPr/>
          <p:nvPr/>
        </p:nvPicPr>
        <p:blipFill>
          <a:blip r:embed="rId1"/>
          <a:stretch/>
        </p:blipFill>
        <p:spPr>
          <a:xfrm>
            <a:off x="609480" y="1352520"/>
            <a:ext cx="8004240" cy="534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1" descr=""/>
          <p:cNvPicPr/>
          <p:nvPr/>
        </p:nvPicPr>
        <p:blipFill>
          <a:blip r:embed="rId1"/>
          <a:stretch/>
        </p:blipFill>
        <p:spPr>
          <a:xfrm>
            <a:off x="414360" y="609480"/>
            <a:ext cx="851040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Microsoft Sans Serif"/>
              </a:rPr>
              <a:t>Девиантное поведение - 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0" name="Объект 1" descr=""/>
          <p:cNvPicPr/>
          <p:nvPr/>
        </p:nvPicPr>
        <p:blipFill>
          <a:blip r:embed="rId1"/>
          <a:stretch/>
        </p:blipFill>
        <p:spPr>
          <a:xfrm>
            <a:off x="858960" y="2408400"/>
            <a:ext cx="7426080" cy="4290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crosoft Sans Serif"/>
              </a:rPr>
              <a:t>3 формы девиантного поведения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2" name="Объект 1" descr=""/>
          <p:cNvPicPr/>
          <p:nvPr/>
        </p:nvPicPr>
        <p:blipFill>
          <a:blip r:embed="rId1"/>
          <a:stretch/>
        </p:blipFill>
        <p:spPr>
          <a:xfrm>
            <a:off x="0" y="2438280"/>
            <a:ext cx="9010800" cy="419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3"/>
          <p:cNvSpPr/>
          <p:nvPr/>
        </p:nvSpPr>
        <p:spPr>
          <a:xfrm>
            <a:off x="914400" y="3886200"/>
            <a:ext cx="7315200" cy="274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Скругленный прямоугольник 1"/>
          <p:cNvSpPr/>
          <p:nvPr/>
        </p:nvSpPr>
        <p:spPr>
          <a:xfrm>
            <a:off x="1295280" y="2514600"/>
            <a:ext cx="6705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Microsoft Sans Serif"/>
              </a:rPr>
              <a:t>Антисоциальное поведение</a:t>
            </a:r>
            <a:r>
              <a:rPr b="0" i="1" lang="ru-RU" sz="4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icrosoft Sans Serif"/>
              </a:rPr>
              <a:t>–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поведение, противоречащее правовым нормам и угрожающее социальному порядку и благополучию окружающих</a:t>
            </a:r>
            <a:r>
              <a:rPr b="0" lang="ru-RU" sz="2000" spc="-1" strike="noStrike">
                <a:solidFill>
                  <a:srgbClr val="80808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Насилие над более младшими и слабыми сверстниками, животными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Воровство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Мелкое хулиганство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Вандализм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Порча чужого имущества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Торговля наркотиками</a:t>
            </a:r>
            <a:r>
              <a:rPr b="0" i="1" lang="ru-RU" sz="20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914400" y="3505320"/>
            <a:ext cx="7620120" cy="2895480"/>
          </a:xfrm>
          <a:prstGeom prst="rect">
            <a:avLst/>
          </a:prstGeom>
          <a:gradFill rotWithShape="0">
            <a:gsLst>
              <a:gs pos="0">
                <a:srgbClr val="fc84ff"/>
              </a:gs>
              <a:gs pos="100000">
                <a:srgbClr val="fedcff"/>
              </a:gs>
            </a:gsLst>
            <a:lin ang="16200000"/>
          </a:gradFill>
          <a:ln w="9360">
            <a:solidFill>
              <a:srgbClr val="c200e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066680" y="2514600"/>
            <a:ext cx="7010640" cy="914400"/>
          </a:xfrm>
          <a:prstGeom prst="rect">
            <a:avLst/>
          </a:prstGeom>
          <a:gradFill rotWithShape="0">
            <a:gsLst>
              <a:gs pos="0">
                <a:srgbClr val="a875ba"/>
              </a:gs>
              <a:gs pos="100000">
                <a:srgbClr val="de99f5"/>
              </a:gs>
            </a:gsLst>
            <a:lin ang="16200000"/>
          </a:gradFill>
          <a:ln w="9360">
            <a:solidFill>
              <a:srgbClr val="daa4e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Microsoft Sans Serif"/>
              </a:rPr>
              <a:t>Асоциальное поведени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icrosoft Sans Serif"/>
              </a:rPr>
              <a:t>–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Уклонение от выполнения морально-нравственных норм, принятых в обществе, угрожающее благополучию межличностных отношений: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Побеги из дому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Систематические пропуски в школе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Агрессивное поведение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Ложь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Вымогательство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Беспорядочные половые связи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Настенные надписи и рисунки непристойного характера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Ненормативная лексика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Овал 5"/>
          <p:cNvSpPr/>
          <p:nvPr/>
        </p:nvSpPr>
        <p:spPr>
          <a:xfrm>
            <a:off x="3276720" y="3429000"/>
            <a:ext cx="2971800" cy="2895480"/>
          </a:xfrm>
          <a:prstGeom prst="ellipse">
            <a:avLst/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371600" y="2438280"/>
            <a:ext cx="66294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icrosoft Sans Serif"/>
              </a:rPr>
              <a:t>Аутодеструктивное поведение –</a:t>
            </a:r>
            <a:r>
              <a:rPr b="1" lang="ru-RU" sz="4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Поведение, отклоняющееся от медицинских и психологических норм, угрожающее целостности и развитию личности: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Курение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Токсикомания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Наркомания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Вскрытие вен,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Алкоголизм,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icrosoft Sans Serif"/>
              </a:rPr>
              <a:t>Суицид.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кругленный прямоугольник 1"/>
          <p:cNvSpPr/>
          <p:nvPr/>
        </p:nvSpPr>
        <p:spPr>
          <a:xfrm>
            <a:off x="1066680" y="609480"/>
            <a:ext cx="731520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4ed"/>
              </a:gs>
              <a:gs pos="100000">
                <a:srgbClr val="0120bd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730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crosoft Sans Serif"/>
              </a:rPr>
              <a:t>Все ситуации, встречающиеся в школьной практике, обобщая, можно назвать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icrosoft Sans Serif"/>
              </a:rPr>
              <a:t>линиями нарушений</a:t>
            </a:r>
            <a:r>
              <a:rPr b="0" lang="ru-RU" sz="36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7" name="Объект 2" descr=""/>
          <p:cNvPicPr/>
          <p:nvPr/>
        </p:nvPicPr>
        <p:blipFill>
          <a:blip r:embed="rId1"/>
          <a:stretch/>
        </p:blipFill>
        <p:spPr>
          <a:xfrm>
            <a:off x="609480" y="2719440"/>
            <a:ext cx="731520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Mikhail Kabanov</cp:lastModifiedBy>
  <dcterms:modified xsi:type="dcterms:W3CDTF">2019-02-20T20:46:07Z</dcterms:modified>
  <cp:revision>167</cp:revision>
  <dc:subject/>
  <dc:title>Name of presentation</dc:title>
</cp:coreProperties>
</file>