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11F-0551-4765-9C22-8F91AC3F5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9D6-D47B-43F5-9D56-DB901CCCD10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BF8C-90F0-46A6-BC7E-EC083343F1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95D7-0562-4FFF-9FE6-1B9BC49549D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254-6FFA-4BC7-BAF6-F56E57C75C9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B35-0EE8-476A-97EA-6A13CA05204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A9A-B0DB-4BB7-A839-32394179C57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6B5-E8D5-42FC-92B4-3FB074D149B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4A4-99D7-43D6-B0AF-FD20757813C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E94-E1E1-4EA1-B161-BCE4D91461B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AD1-EADB-4AED-98DB-EB8840F33B4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C15-AB79-4D55-8961-78B7130B982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FE8-0AEB-4641-BCA9-2F4B8F67E8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2AE9-3C6A-439A-8E38-FE34A2C2D49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211-61CE-40BA-8CC7-75C296CC64D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04E-8294-4076-8064-A3A2110B656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DF35-8770-4ABD-8B5A-DAF8C0E19A7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E8AE-1C80-49CF-8550-96EE25D936D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F73-330A-4D71-A5B5-74D6D6C7D44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4C2-8AF3-4ADB-931B-6DFBFBA5177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6F6-C692-495D-A2B6-B882E0E7E02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F6BC-131B-4258-A872-837ADE237AF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989-4DE3-45B4-964F-CDBA7BA9C90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B55-B931-4A2E-8B81-36050B9094D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7CE1-5243-4CFF-A024-9E7B9DF3173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F74-2D74-477D-9763-FBF495A7826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397A-A5A0-4AB5-A67E-AF11C272053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558-1139-42D9-8A8F-9020CC34342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508E-03E5-4283-8D3D-BAB509E1347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B8F6-ED98-4AF0-9572-C7391CFD0E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A1A-F1CA-4497-BDA4-5C53525178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F695-017F-4459-A2E5-1B2AEDED935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7D06-3936-4E2F-9104-1172F141D8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F67-BF14-4487-948E-0AF90648539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1B6-61B1-409C-B70B-8E8A1229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E9E-EC82-49E8-B206-FB981D3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4AB-B49E-444B-A580-1EA75E22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136-0324-4B20-B24E-221065B6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7FAA-28FB-437F-91F3-41C6FFEA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26DF-B4C7-4FAB-96FA-A756ED4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B0C-A316-4916-A0FE-0624048A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838-3338-425B-80F5-94CAB6EF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1E92-D29D-4D2E-B2C2-7885260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A46-7B1D-43A6-BE2D-2D57E2BF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DBE2-81A6-45DD-B16C-A434FEF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BE5-EDAC-45E6-B1BA-4CB482FE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0597-66F6-49A2-B5EA-EA46A77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C9F-5490-4A41-9A63-9A07938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0DFF-4C8D-47BC-93EC-3B5A059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000-7EF2-46C6-A8B2-ECA83ECD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A472-4AF8-40A4-9375-0FE47CAD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401-177A-47C5-912D-33E9333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B87-B5D9-4133-9A2A-FFFB3045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95A-C691-4121-9190-CBB58346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C03-27E9-49CD-BC31-809D543B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CFD-5F0A-4044-A3E8-CDF0BB3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5B0-FEB3-4E99-BFCD-FC156FD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5DB-EE6F-4907-95B4-60A2385A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7C4-328A-4CF0-81DA-D1AD6A1FA8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FEB-0BD2-468E-9652-6974E546A47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1000080"/>
            <a:ext cx="914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Тема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91533f"/>
                </a:solidFill>
                <a:latin typeface="Verdana"/>
              </a:rPr>
              <a:t>Почвы нашего края.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рново-подзолисты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Дерново-подзолистые почвы распространены в северной части республики, в пределах Буйско-Тапыпского междуречья и Уфимского плато, сформированы под таёжными хвойными и хвойно-широколиственными лесами. Занимают 2,7% территории республики (387,8 тыс. га). Содержание гумуса 2-3%, реакция кислая (рН 4.2 — 5,6), мощного гумусового горизонта 15-30 см. Пахотные почвы нуждаются в известковании и внесении минеральных удобрений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91640" y="1053000"/>
            <a:ext cx="692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угово-чернозем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 почв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278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угово-черноземные почвы развиты среди черноземны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в в понижениях рельефа и на пологих склонах. Грунтовые воды залегают близко. Почвы слабо оглеены. Мощность гумусового горизонта 50-60 см, содержание гумуса 9-10%, реакция от слабокислой до щелочной, встречаются также карбонатные и солонцеватые разновидности, расположены в лесостепной и степной зонах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большими участками распространены на юге Предуралья и Зауралья засоленные почвы - солонцы, солончаки, солонцеватые и солончаковые разновидности чернозёмов и луговых почв. Эти почвы характерны для долин рек и озёрных впадин, встречаются пятнами в массивах обыкновенных и южных чернозёмов. Занимают 0,17% территории республики (23,9 тыс. г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ircl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772360" y="1053000"/>
            <a:ext cx="5400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ллювиаль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почв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ллювиальные почвы распространены в речных поймах, занимающих 6% почвенного покрова республики. Поймы характеризуются сложным почвенным покровом. Преобладающие типы почв: аллювиальные дерновые, аллювиальные луговые, аллювиальные лугово-болотные, аллювиальные болотные иловато-песчано-глеевые и аллювиальные болотные иловато-торфяные. Аллювиальные дерновые и луговые почвы занимают прирусловую и высокую центральному пойму, а болотные разновидности — понижения притеррасных пойм и днища глубоких логов. По содержанию гумуса, механическому составу и по всем другим характеристикам аллювиальные почвы широко варьируют. Высокоплодородные, в основном используются как корм, угодь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988360" y="621360"/>
            <a:ext cx="4960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Горные почв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Горные почвы занимают свыше 25,1% территории республики (3,5 млн. га). Распространены в соответствии с вертикальной поясностью гидротермических условий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Горные почвы в отличие от равнинных аналогов имеют укороченные почвенные профили, скелетность, развиты непосредственно на плотных горных породах. На территории Башкортостана в силу сложных геоморфологических условий, интенсивного сельскохозяйственного использования и техногенных воздействий на почвы происходит их деградация: эрозия, потеря гумуса, разрушение структуры и уплотнение почв, загрязнение промышленными выбросами и т.п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in" orient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1" descr="7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здействие на почв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87120" y="2623680"/>
            <a:ext cx="741348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ожительное воздействие на поч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рицательное  воздействие на почв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жительное воздейств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жительное воздействие человека на почвы выражается в защит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х от эрозии и загрязнения и в повышении плодород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меняется система почвозащитных мероприятий: закладываются лесопосадки, проводится безотвальная обработка плугами-плоскорезами, вспашка поперек склон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крутых склонах поперек их высеваютс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осами многолетние травы. Поперек склонов зимой проводят снегозадержание. Защите почв от эрозии способствуют и правильные почвозащитные севообороты. В них чередуется посадка зерновых с многолетними и однолетними бобовыми травами, благодаря которым повышается плодородие поч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ля защиты почв от размыва ведется борьба с оврагами. Они обсаживаются лесом, на дне их устраиваются запруды, выше вершин оврагов устраиваются земляные валы, отводящие воды от овраг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l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91"/>
          <p:cNvPicPr/>
          <p:nvPr/>
        </p:nvPicPr>
        <p:blipFill>
          <a:blip r:embed="rId1"/>
          <a:stretch/>
        </p:blipFill>
        <p:spPr>
          <a:xfrm>
            <a:off x="0" y="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92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93"/>
          <p:cNvPicPr/>
          <p:nvPr/>
        </p:nvPicPr>
        <p:blipFill>
          <a:blip r:embed="rId3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94"/>
          <p:cNvPicPr/>
          <p:nvPr/>
        </p:nvPicPr>
        <p:blipFill>
          <a:blip r:embed="rId4"/>
          <a:stretch/>
        </p:blipFill>
        <p:spPr>
          <a:xfrm>
            <a:off x="4356000" y="3141720"/>
            <a:ext cx="4788000" cy="3716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рицательное воздейств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рицательное воздействие человека на почвы проявляется в усилении естественной эрозии почв. В погоне за увеличением посевных площадей в Башкортостане нередко распахиваются крутые склон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рушение почв усиливается из-за ежегодной вспашки обычным плугом с оборотом пласта, а также в результате излишнего полива. Нередки случаи, когда почвы засоряются в местах добычи и переработки неф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результате эрозии почв, вызванной человеком, сокращается площадь пашни, разрастаются овраги. Наиболее сильное разрушение почв проявляется на западе, на Бугульминско-Белебеевской возвышенности и южнее, в районе возвышенности Общий Сыр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аспаханных участках усиливается ветровая эрозия, выдувание почв ветром. Наиболее сильно ветровая эрозия проявляется в Туймазинском, Благоварском, Альшеевском, Давлекановском, Бижбулякском и в других районах Западного Башкортоста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10"/>
          <p:cNvPicPr/>
          <p:nvPr/>
        </p:nvPicPr>
        <p:blipFill>
          <a:blip r:embed="rId1"/>
          <a:srcRect l="0" t="0" r="40894" b="41933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вы республики разнообразны и очень плодородны, кроме горно-лесной части. Река в среднем и нижнем течении является естественной границей между юго-западной частью республики с преобладанием черноземных и северо-восточной с преобладанием нечерноземных почв. Наиболее распространенная почва республики - тучный чернозем, по толщине слоя (мощности) и содержанию органических веществ (гумуса) - один из лучших в России. Вообще, черноземы Башкирии имеют различные примеси и вследствие этого весьма разнятся по своему качеству и урожайности. На отрогах возвышенностей юго-западной части республики к черноземам примешивается в значительном количестве галь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ранулометрический состав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держание органического веществ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ильтрационная способност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почвы до посева или посадки растений и в период ухода за ни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льеф местност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арактер проводимых противоэрозионных мероприяти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акторы, определяющие эроз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91640" y="476640"/>
            <a:ext cx="323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лиор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елиорация - система организационно-хозяйственных и технических мероприятий по коренному улучшению гидрологических, почвенных и агроклиматических условий с целью эффективного использования земельных ресурсов. Основным видом мелиорации в Башкортостане является орошение; площадь орошаемых земель составляет 117 тыс. га. Осушительная мелиорация в республике имеет ограниченные масштаб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землях с неблагоприятными химическими свойствами проводят химическую мелиорацию: известкование кислых почв, гипсование солонцовых почв. Мелиорация земель, подверженных вредному механическому воздействию воды или ветра (эрозия), включает комплекс противоэрозионных мероприятий и приемы агролесомелиор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азрушенных почвах, горных отвалах, открытых шахтных выработках и карьерных ландшафтах применяется восстановительная мелиорац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121"/>
          <p:cNvPicPr/>
          <p:nvPr/>
        </p:nvPicPr>
        <p:blipFill>
          <a:blip r:embed="rId1"/>
          <a:stretch/>
        </p:blipFill>
        <p:spPr>
          <a:xfrm>
            <a:off x="0" y="0"/>
            <a:ext cx="476244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122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12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123"/>
          <p:cNvPicPr/>
          <p:nvPr/>
        </p:nvPicPr>
        <p:blipFill>
          <a:blip r:embed="rId3"/>
          <a:stretch/>
        </p:blipFill>
        <p:spPr>
          <a:xfrm>
            <a:off x="0" y="3041640"/>
            <a:ext cx="4788000" cy="38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125"/>
          <p:cNvPicPr/>
          <p:nvPr/>
        </p:nvPicPr>
        <p:blipFill>
          <a:blip r:embed="rId4"/>
          <a:stretch/>
        </p:blipFill>
        <p:spPr>
          <a:xfrm>
            <a:off x="4657680" y="3068640"/>
            <a:ext cx="4486320" cy="3789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шкирское Предурал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чвенный покров представлен основными типами, свойственными лесной, лесостепной и степной зонам. На севере, под широколиственно-хвойными лесами, - подзолистые и дерново-подзолистые, серые лесные почвы, в центральной и южной части - оподзоленные, выщелоченные, типичные, типичные карбонатные, обыкновенные и южные черноземы. В настоящее время естественные лесостепные ландшафты обрели типично степной облик. Леса сохранились на Уфимском плато и на сильно расчлененных участках Белебеевской возвышенност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ни состоят из ели, сосны, пихты, дуба, клена, липы. Повсеместно встречаются вторичные березовые и осиновые насаждения. Луговые степи сохранены на склонах увалов и возвышенностях, представлены злаковыми и разнотравье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5" descr="31"/>
          <p:cNvPicPr/>
          <p:nvPr/>
        </p:nvPicPr>
        <p:blipFill>
          <a:blip r:embed="rId1"/>
          <a:stretch/>
        </p:blipFill>
        <p:spPr>
          <a:xfrm>
            <a:off x="0" y="0"/>
            <a:ext cx="4500720" cy="315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32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33"/>
          <p:cNvPicPr/>
          <p:nvPr/>
        </p:nvPicPr>
        <p:blipFill>
          <a:blip r:embed="rId3"/>
          <a:stretch/>
        </p:blipFill>
        <p:spPr>
          <a:xfrm>
            <a:off x="0" y="3125880"/>
            <a:ext cx="4500720" cy="373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34"/>
          <p:cNvPicPr/>
          <p:nvPr/>
        </p:nvPicPr>
        <p:blipFill>
          <a:blip r:embed="rId4"/>
          <a:stretch/>
        </p:blipFill>
        <p:spPr>
          <a:xfrm>
            <a:off x="4427640" y="3117960"/>
            <a:ext cx="4716360" cy="3740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14320" y="3055680"/>
            <a:ext cx="355428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33f"/>
                </a:solidFill>
                <a:latin typeface="Arial"/>
              </a:rPr>
              <a:t>Почвы Республики       Башкортостан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56000" y="2997360"/>
            <a:ext cx="3816360" cy="100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6372360" y="400536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6372360" y="544500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37236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372360" y="184464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5600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>
            <a:off x="826560" y="184464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2556000" y="400536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>
            <a:off x="611280" y="5373720"/>
            <a:ext cx="194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-252360" y="479736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348000" y="472428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Башкирское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Предураль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300720" y="4724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Башкирское Заураль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20">
            <a:hlinkClick r:id="rId1" action="ppaction://hlinksldjump"/>
          </p:cNvPr>
          <p:cNvSpPr/>
          <p:nvPr/>
        </p:nvSpPr>
        <p:spPr>
          <a:xfrm>
            <a:off x="75564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Типы поч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49236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Мелиор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8360" y="494172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Воздейств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челове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6659640" y="1413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omic Sans MS"/>
              </a:rPr>
              <a:t>Эроз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 flipV="1">
            <a:off x="5292720" y="4005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3564000" y="5445000"/>
            <a:ext cx="172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3492360" y="1844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492360" y="184464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H="1">
            <a:off x="755280" y="350028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6372360" y="3500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614880" y="285264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чвен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6662160" y="3141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акторы почво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412000" y="837000"/>
            <a:ext cx="61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шкирское Заурал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пространены выщелоченные, неполноразвитые черноземы на севере и карбонатные, солонцеватые черноземы на юг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всеместно на понижениях распространены болотно-торфяные низинные и лугово-болотные почв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тительность представлена переходными лесостепными и степными ассоциациями. Леса состоят из лиственницы, сосны с примесью березы и осины. Большей частью они вырублены, естественные степи из ковылей, типчака и разнотравья сохранились только на склонах увалов и сопо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умеренная распашка целинных и залежных земель в недавнем прошлом, резкое увеличение поголовья скота, нерациональное использование пастбищ в хозяйствах привели к интенсивному развитию эрозии почв, пыльным бурям, обмелению рек, деградации растительного покро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cover dir="lu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55640" y="227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стовые задания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очвы и почвенные ресурсы Башкортостана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890" descr="ПОЧВЫ"/>
          <p:cNvPicPr/>
          <p:nvPr/>
        </p:nvPicPr>
        <p:blipFill>
          <a:blip r:embed="rId1"/>
          <a:stretch/>
        </p:blipFill>
        <p:spPr>
          <a:xfrm>
            <a:off x="0" y="115920"/>
            <a:ext cx="1739880" cy="2197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94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895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177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177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784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1785"/>
          <p:cNvSpPr/>
          <p:nvPr/>
        </p:nvSpPr>
        <p:spPr>
          <a:xfrm>
            <a:off x="-54000" y="-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95400"/>
                <a:gridCol w="1668600"/>
                <a:gridCol w="431640"/>
                <a:gridCol w="509760"/>
                <a:gridCol w="357120"/>
                <a:gridCol w="355680"/>
                <a:gridCol w="357120"/>
                <a:gridCol w="357120"/>
                <a:gridCol w="357120"/>
                <a:gridCol w="357480"/>
                <a:gridCol w="355320"/>
                <a:gridCol w="357120"/>
                <a:gridCol w="357480"/>
                <a:gridCol w="357120"/>
                <a:gridCol w="355680"/>
                <a:gridCol w="357120"/>
                <a:gridCol w="357120"/>
              </a:tblGrid>
              <a:tr h="459720">
                <a:tc gridSpan="2"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числит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пы почв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ьзуя текст учебника, заполните таблицу о положительном и отрицательном взаимодействии человека   на почвы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5"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ссворд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оставная часть почвы, влияющая на ее плодороди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бота зимой по повышению весенних влагозапасов почв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дин из основных типов почв РБ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гротехнический прием обработки почв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ичина образования  овраг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ложительное воздействие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рицательное воздействие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2675"/>
          <p:cNvSpPr/>
          <p:nvPr/>
        </p:nvSpPr>
        <p:spPr>
          <a:xfrm>
            <a:off x="757548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20"/>
          <p:cNvPicPr/>
          <p:nvPr/>
        </p:nvPicPr>
        <p:blipFill>
          <a:blip r:embed="rId1"/>
          <a:stretch/>
        </p:blipFill>
        <p:spPr>
          <a:xfrm>
            <a:off x="-95400" y="-71280"/>
            <a:ext cx="9334800" cy="700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22080" y="953640"/>
            <a:ext cx="397548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ипы поч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91440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Чернозёмы - около 35 % площади Р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Лугово-чернозёмные входят в общую площадь черноземов республик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Дерново-подзолистые – 10 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Серые лесные – 30 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Аллювиальные около 6% площад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33f"/>
                </a:solidFill>
                <a:latin typeface="Arial"/>
              </a:rPr>
              <a:t>Горные - 8 % площади РБ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0000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796000" y="261000"/>
            <a:ext cx="2988360" cy="9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рта поч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12" descr="2"/>
          <p:cNvPicPr/>
          <p:nvPr/>
        </p:nvPicPr>
        <p:blipFill>
          <a:blip r:embed="rId2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14800" y="-3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вы Башкирии разнообразны, вследствие разнообразия поверхностных горных пород на территории республики, разнообразия ее рельефа и клима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3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Чернозём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Чернозёмы занимают 73% территории степной зоны и 31% лесостепной зоны республики (32% всей территории). Сформированы на карбонатных тяжелосуглинистых почвообразующих породах. Встречаются подтипы: оподзоленные, выщелоченные, типичные, обыкновенные и южные, которые, в свою очередь, подразделяются по мощности гумусового горизонта, содержанию гумуса, механическому составу. В республики преобладают тяжелосуглинистые чернозёмы. До 60% площади чернозёмов, в основном пахотных, в различной степени эродировано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Зауралье преобладают тучный и обыкновенный черноземы. Местами, на выходах красной глины, имеющей большую водоудерживающую способность, встречаются солончаки. Есть каменистые пространства мелкосопочника, и на месте бывших озер встречаются солонцы и солонцеватые почв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4:08:09Z</dcterms:created>
  <dc:creator>Mr. Marat</dc:creator>
  <dc:description/>
  <dc:language>en-US</dc:language>
  <cp:lastModifiedBy>Юлия</cp:lastModifiedBy>
  <dcterms:modified xsi:type="dcterms:W3CDTF">2020-04-02T14:24:52Z</dcterms:modified>
  <cp:revision>79</cp:revision>
  <dc:subject/>
  <dc:title>Презентация на тему: Географическое положение Республики Башкортостан</dc:title>
</cp:coreProperties>
</file>