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D14C-6508-4C8C-9241-FA0FF35727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5B42-CE72-467C-95E4-EC5D3A572BA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5E74-23D4-4049-B633-63F2EF31BC7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294F-BDDE-4857-BF51-7F2CE573D35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85D0-FAF1-4C86-9040-E8B912411EC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472-BC41-4434-9D95-D9DD26BACD1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601A-B856-4E09-8356-235B7966CAF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01DB-C34C-4012-B302-8792B8D6888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4414-EDA7-4937-8662-112FD70DB83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AF47-3C51-4892-AE3A-414631A01A0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3321-2D7A-4430-8C3F-A6094E18520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9CE4-EB58-4402-AA2C-33B608E2E73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9FA8-F838-4B22-9912-CD33C6B7CAA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3DD7-6AEE-4837-AC20-7FF9806152A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276E-2B09-4512-BE8F-C983DF33960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CC13-DA2F-41B1-A3F0-98631778B81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0BD5-9724-4B1A-A7D4-BF08E11B94F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398F-8897-43BA-8A78-3AE000D0BE2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4241-03D2-463C-BB8A-B581F2EE23A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9ADD-A59C-4A69-8854-24284281A75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F3BC-6301-47F6-97A7-B1788C8C37A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C18A-AEE3-4C90-B9B4-FF97D8F0E4E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51A7-6B4C-40CB-AC10-670A8196918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23D6-F7DA-4CA4-A2EB-BDA4CB930E8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8E84-87BB-47E0-84C8-9DB3F1A8D68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F6D7-83E6-46E4-92C0-74B6868A20A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89DF-ABD3-43A3-A972-605142408D9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B7B1-C585-489F-9B5E-8EFAC893C46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D001-CF64-4049-AAB4-ACC73F1A022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EE02-5C2D-42E0-80FD-B9E8F2D94BB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6CA9-0706-432B-878C-61D37F20269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D3B7-E5A8-4210-BF21-56855E8FDA3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0C2F-ED47-4B34-8F6E-EA142EC84EE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057F-4048-444C-BF3D-9709315EA39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8F4-41CC-4EB9-A9FD-48A4ED9B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389-0D64-4BFE-97BA-407F75F9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00A-58C2-4218-81D5-06754766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481-6188-4878-B2BA-47FA4174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2127-6691-41C4-9E25-BF1AFBF3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5298-D7BF-443C-ADB1-0376F154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F8FD-1F10-44D2-9244-0562F02A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9AD8-0256-4FB9-A9BA-1B57B94B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79D2-205D-4C65-B4C4-932A5139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0A6C-02D3-49BF-BE40-E6FF8D8B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BB1E-2769-447B-9BD4-525F5773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B7E-3A91-46CA-9FE8-38B21169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2C79-DDBC-4011-8934-1DBAEB36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B904-89F7-451F-987C-1E0C42FD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A791-0B5D-4EBF-A72C-B3509F70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AF09-C866-4DF5-A2C5-4B5258E2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1BA0-ED39-4055-94C8-76AE3F9B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3A7-9152-4FF9-8E8D-4BBE8800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568-23B8-49E7-A06B-2A1ACCF3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65A-8AC2-48F1-A523-DCB915EB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926-9E27-4E76-98DF-41A520FC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849-32C7-4ABC-A2C5-EE32C63D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7E7-9E55-4568-A6EB-B7FB0452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00E-A3CA-4B81-9696-23C823BF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DCCF-239A-46DE-94CE-93E64BD1B24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943E-E49C-460C-AAAE-54D5360A62B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0" y="1000080"/>
            <a:ext cx="91440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Тема: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91533f"/>
                </a:solidFill>
                <a:latin typeface="Verdana"/>
              </a:rPr>
              <a:t>Почвы нашего края.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ерново-подзолистые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Дерново-подзолистые почвы распространены в северной части республики, в пределах Буйско-Тапыпского междуречья и Уфимского плато, сформированы под таёжными хвойными и хвойно-широколиственными лесами. Занимают 2,7% территории республики (387,8 тыс. га). Содержание гумуса 2-3%, реакция кислая (рН 4.2 — 5,6), мощного гумусового горизонта 15-30 см. Пахотные почвы нуждаются в известковании и внесении минеральных удобрений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diamond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691640" y="1053000"/>
            <a:ext cx="6922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угово-чернозем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     почв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2781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угово-черноземные почвы развиты среди черноземных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чв в понижениях рельефа и на пологих склонах. Грунтовые воды залегают близко. Почвы слабо оглеены. Мощность гумусового горизонта 50-60 см, содержание гумуса 9-10%, реакция от слабокислой до щелочной, встречаются также карбонатные и солонцеватые разновидности, расположены в лесостепной и степной зонах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большими участками распространены на юге Предуралья и Зауралья засоленные почвы - солонцы, солончаки, солонцеватые и солончаковые разновидности чернозёмов и луговых почв. Эти почвы характерны для долин рек и озёрных впадин, встречаются пятнами в массивах обыкновенных и южных чернозёмов. Занимают 0,17% территории республики (23,9 тыс. га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circl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772360" y="1053000"/>
            <a:ext cx="5400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ллювиаль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    почв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71280" y="270792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ллювиальные почвы распространены в речных поймах, занимающих 6% почвенного покрова республики. Поймы характеризуются сложным почвенным покровом. Преобладающие типы почв: аллювиальные дерновые, аллювиальные луговые, аллювиальные лугово-болотные, аллювиальные болотные иловато-песчано-глеевые и аллювиальные болотные иловато-торфяные. Аллювиальные дерновые и луговые почвы занимают прирусловую и высокую центральному пойму, а болотные разновидности — понижения притеррасных пойм и днища глубоких логов. По содержанию гумуса, механическому составу и по всем другим характеристикам аллювиальные почвы широко варьируют. Высокоплодородные, в основном используются как корм, угодь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cover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988360" y="621360"/>
            <a:ext cx="4960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Горные почвы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Горные почвы занимают свыше 25,1% территории республики (3,5 млн. га). Распространены в соответствии с вертикальной поясностью гидротермических условий.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Горные почвы в отличие от равнинных аналогов имеют укороченные почвенные профили, скелетность, развиты непосредственно на плотных горных породах. На территории Башкортостана в силу сложных геоморфологических условий, интенсивного сельскохозяйственного использования и техногенных воздействий на почвы происходит их деградация: эрозия, потеря гумуса, разрушение структуры и уплотнение почв, загрязнение промышленными выбросами и т.п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split dir="in" orient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1" descr="7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оздействие на почв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87120" y="2623680"/>
            <a:ext cx="7413480" cy="27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ожительное воздействие на почв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рицательное  воздействие на почв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1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ложительное воздейств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ложительное воздействие человека на почвы выражается в защит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х от эрозии и загрязнения и в повышении плодород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меняется система почвозащитных мероприятий: закладываются лесопосадки, проводится безотвальная обработка плугами-плоскорезами, вспашка поперек склон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крутых склонах поперек их высеваютс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лосами многолетние травы. Поперек склонов зимой проводят снегозадержание. Защите почв от эрозии способствуют и правильные почвозащитные севообороты. В них чередуется посадка зерновых с многолетними и однолетними бобовыми травами, благодаря которым повышается плодородие поч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ля защиты почв от размыва ведется борьба с оврагами. Они обсаживаются лесом, на дне их устраиваются запруды, выше вершин оврагов устраиваются земляные валы, отводящие воды от овраг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cover dir="l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1" descr="91"/>
          <p:cNvPicPr/>
          <p:nvPr/>
        </p:nvPicPr>
        <p:blipFill>
          <a:blip r:embed="rId1"/>
          <a:stretch/>
        </p:blipFill>
        <p:spPr>
          <a:xfrm>
            <a:off x="0" y="0"/>
            <a:ext cx="4788000" cy="3192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92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192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93"/>
          <p:cNvPicPr/>
          <p:nvPr/>
        </p:nvPicPr>
        <p:blipFill>
          <a:blip r:embed="rId3"/>
          <a:stretch/>
        </p:blipFill>
        <p:spPr>
          <a:xfrm>
            <a:off x="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94"/>
          <p:cNvPicPr/>
          <p:nvPr/>
        </p:nvPicPr>
        <p:blipFill>
          <a:blip r:embed="rId4"/>
          <a:stretch/>
        </p:blipFill>
        <p:spPr>
          <a:xfrm>
            <a:off x="4356000" y="3141720"/>
            <a:ext cx="4788000" cy="3716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рицательное воздейств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рицательное воздействие человека на почвы проявляется в усилении естественной эрозии почв. В погоне за увеличением посевных площадей в Башкортостане нередко распахиваются крутые склоны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зрушение почв усиливается из-за ежегодной вспашки обычным плугом с оборотом пласта, а также в результате излишнего полива. Нередки случаи, когда почвы засоряются в местах добычи и переработки неф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результате эрозии почв, вызванной человеком, сокращается площадь пашни, разрастаются овраги. Наиболее сильное разрушение почв проявляется на западе, на Бугульминско-Белебеевской возвышенности и южнее, в районе возвышенности Общий Сыр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распаханных участках усиливается ветровая эрозия, выдувание почв ветром. Наиболее сильно ветровая эрозия проявляется в Туймазинском, Благоварском, Альшеевском, Давлекановском, Бижбулякском и в других районах Западного Башкортоста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3" descr="10"/>
          <p:cNvPicPr/>
          <p:nvPr/>
        </p:nvPicPr>
        <p:blipFill>
          <a:blip r:embed="rId1"/>
          <a:srcRect l="0" t="0" r="40894" b="41933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чвы республики разнообразны и очень плодородны, кроме горно-лесной части. Река в среднем и нижнем течении является естественной границей между юго-западной частью республики с преобладанием черноземных и северо-восточной с преобладанием нечерноземных почв. Наиболее распространенная почва республики - тучный чернозем, по толщине слоя (мощности) и содержанию органических веществ (гумуса) - один из лучших в России. Вообще, черноземы Башкирии имеют различные примеси и вследствие этого весьма разнятся по своему качеству и урожайности. На отрогах возвышенностей юго-западной части республики к черноземам примешивается в значительном количестве галь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cover dir="r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400" y="242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ранулометрический состав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держание органического веществ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фильтрационная способност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ботка почвы до посева или посадки растений и в период ухода за ним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льеф местност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Характер проводимых противоэрозионных мероприяти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акторы, определяющие эрози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491640" y="476640"/>
            <a:ext cx="3233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елиора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55640" y="2420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елиорация - система организационно-хозяйственных и технических мероприятий по коренному улучшению гидрологических, почвенных и агроклиматических условий с целью эффективного использования земельных ресурсов. Основным видом мелиорации в Башкортостане является орошение; площадь орошаемых земель составляет 117 тыс. га. Осушительная мелиорация в республике имеет ограниченные масштабы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землях с неблагоприятными химическими свойствами проводят химическую мелиорацию: известкование кислых почв, гипсование солонцовых почв. Мелиорация земель, подверженных вредному механическому воздействию воды или ветра (эрозия), включает комплекс противоэрозионных мероприятий и приемы агролесомелиораци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разрушенных почвах, горных отвалах, открытых шахтных выработках и карьерных ландшафтах применяется восстановительная мелиорац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split dir="out" orient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1" descr="121"/>
          <p:cNvPicPr/>
          <p:nvPr/>
        </p:nvPicPr>
        <p:blipFill>
          <a:blip r:embed="rId1"/>
          <a:stretch/>
        </p:blipFill>
        <p:spPr>
          <a:xfrm>
            <a:off x="0" y="0"/>
            <a:ext cx="4762440" cy="304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122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127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123"/>
          <p:cNvPicPr/>
          <p:nvPr/>
        </p:nvPicPr>
        <p:blipFill>
          <a:blip r:embed="rId3"/>
          <a:stretch/>
        </p:blipFill>
        <p:spPr>
          <a:xfrm>
            <a:off x="0" y="3041640"/>
            <a:ext cx="4788000" cy="381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125"/>
          <p:cNvPicPr/>
          <p:nvPr/>
        </p:nvPicPr>
        <p:blipFill>
          <a:blip r:embed="rId4"/>
          <a:stretch/>
        </p:blipFill>
        <p:spPr>
          <a:xfrm>
            <a:off x="4657680" y="3068640"/>
            <a:ext cx="4486320" cy="3789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ашкирское Предураль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чвенный покров представлен основными типами, свойственными лесной, лесостепной и степной зонам. На севере, под широколиственно-хвойными лесами, - подзолистые и дерново-подзолистые, серые лесные почвы, в центральной и южной части - оподзоленные, выщелоченные, типичные, типичные карбонатные, обыкновенные и южные черноземы. В настоящее время естественные лесостепные ландшафты обрели типично степной облик. Леса сохранились на Уфимском плато и на сильно расчлененных участках Белебеевской возвышен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Они состоят из ели, сосны, пихты, дуба, клена, липы. Повсеместно встречаются вторичные березовые и осиновые насаждения. Луговые степи сохранены на склонах увалов и возвышенностях, представлены злаковыми и разнотравьем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comb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5" descr="31"/>
          <p:cNvPicPr/>
          <p:nvPr/>
        </p:nvPicPr>
        <p:blipFill>
          <a:blip r:embed="rId1"/>
          <a:stretch/>
        </p:blipFill>
        <p:spPr>
          <a:xfrm>
            <a:off x="0" y="0"/>
            <a:ext cx="4500720" cy="315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32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33"/>
          <p:cNvPicPr/>
          <p:nvPr/>
        </p:nvPicPr>
        <p:blipFill>
          <a:blip r:embed="rId3"/>
          <a:stretch/>
        </p:blipFill>
        <p:spPr>
          <a:xfrm>
            <a:off x="0" y="3125880"/>
            <a:ext cx="4500720" cy="3732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34"/>
          <p:cNvPicPr/>
          <p:nvPr/>
        </p:nvPicPr>
        <p:blipFill>
          <a:blip r:embed="rId4"/>
          <a:stretch/>
        </p:blipFill>
        <p:spPr>
          <a:xfrm>
            <a:off x="4427640" y="3117960"/>
            <a:ext cx="4716360" cy="3740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614320" y="3055680"/>
            <a:ext cx="355428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33f"/>
                </a:solidFill>
                <a:latin typeface="Arial"/>
              </a:rPr>
              <a:t>Почвы Республики       Башкортоста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556000" y="2997360"/>
            <a:ext cx="3816360" cy="100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6372360" y="4005360"/>
            <a:ext cx="0" cy="143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6372360" y="5445000"/>
            <a:ext cx="1800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6372360" y="1844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6372360" y="184464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2556000" y="1844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H="1">
            <a:off x="826560" y="1844640"/>
            <a:ext cx="1729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2556000" y="4005360"/>
            <a:ext cx="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H="1">
            <a:off x="611280" y="5373720"/>
            <a:ext cx="194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-252360" y="4797360"/>
            <a:ext cx="27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348000" y="472428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Башкирское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Предураль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6300720" y="472428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Башкирское Заураль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20">
            <a:hlinkClick r:id="rId1" action="ppaction://hlinksldjump"/>
          </p:cNvPr>
          <p:cNvSpPr/>
          <p:nvPr/>
        </p:nvSpPr>
        <p:spPr>
          <a:xfrm>
            <a:off x="755640" y="1413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Типы поч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3492360" y="1413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Мелиорац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468360" y="4941720"/>
            <a:ext cx="194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Воздейств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челове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6659640" y="1413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Эроз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 flipV="1">
            <a:off x="5292720" y="4005000"/>
            <a:ext cx="0" cy="143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H="1">
            <a:off x="3564000" y="5445000"/>
            <a:ext cx="1728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 flipV="1">
            <a:off x="3492360" y="1844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3492360" y="184464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35"/>
          <p:cNvSpPr/>
          <p:nvPr/>
        </p:nvSpPr>
        <p:spPr>
          <a:xfrm flipH="1">
            <a:off x="755280" y="350028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6372360" y="350028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614880" y="285264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чвен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сур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38"/>
          <p:cNvSpPr/>
          <p:nvPr/>
        </p:nvSpPr>
        <p:spPr>
          <a:xfrm>
            <a:off x="6662160" y="3141720"/>
            <a:ext cx="18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акторы почво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12000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412000" y="837000"/>
            <a:ext cx="6113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ашкирское Заураль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спространены выщелоченные, неполноразвитые черноземы на севере и карбонатные, солонцеватые черноземы на юг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всеместно на понижениях распространены болотно-торфяные низинные и лугово-болотные почвы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стительность представлена переходными лесостепными и степными ассоциациями. Леса состоят из лиственницы, сосны с примесью березы и осины. Большей частью они вырублены, естественные степи из ковылей, типчака и разнотравья сохранились только на склонах увалов и сопок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умеренная распашка целинных и залежных земель в недавнем прошлом, резкое увеличение поголовья скота, нерациональное использование пастбищ в хозяйствах привели к интенсивному развитию эрозии почв, пыльным бурям, обмелению рек, деградации растительного покро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cover dir="lu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755640" y="22766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естовые задания по теме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Почвы и почвенные ресурсы Башкортостана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-540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-540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890" descr="ПОЧВЫ"/>
          <p:cNvPicPr/>
          <p:nvPr/>
        </p:nvPicPr>
        <p:blipFill>
          <a:blip r:embed="rId1"/>
          <a:stretch/>
        </p:blipFill>
        <p:spPr>
          <a:xfrm>
            <a:off x="0" y="115920"/>
            <a:ext cx="1739880" cy="2197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894"/>
          <p:cNvSpPr/>
          <p:nvPr/>
        </p:nvSpPr>
        <p:spPr>
          <a:xfrm>
            <a:off x="-540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895"/>
          <p:cNvSpPr/>
          <p:nvPr/>
        </p:nvSpPr>
        <p:spPr>
          <a:xfrm>
            <a:off x="-540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Rectangle 177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177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1784"/>
          <p:cNvSpPr/>
          <p:nvPr/>
        </p:nvSpPr>
        <p:spPr>
          <a:xfrm>
            <a:off x="-540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1785"/>
          <p:cNvSpPr/>
          <p:nvPr/>
        </p:nvSpPr>
        <p:spPr>
          <a:xfrm>
            <a:off x="-540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95400"/>
                <a:gridCol w="1668600"/>
                <a:gridCol w="431640"/>
                <a:gridCol w="509760"/>
                <a:gridCol w="357120"/>
                <a:gridCol w="355680"/>
                <a:gridCol w="357120"/>
                <a:gridCol w="357120"/>
                <a:gridCol w="357120"/>
                <a:gridCol w="357480"/>
                <a:gridCol w="355320"/>
                <a:gridCol w="357120"/>
                <a:gridCol w="357480"/>
                <a:gridCol w="357120"/>
                <a:gridCol w="355680"/>
                <a:gridCol w="357120"/>
                <a:gridCol w="357120"/>
              </a:tblGrid>
              <a:tr h="459720">
                <a:tc gridSpan="2"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еречислит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ипы почв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спользуя текст учебника, заполните таблицу о положительном и отрицательном взаимодействии человека   на почвы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5"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россворд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оставная часть почвы, влияющая на ее плодороди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бота зимой по повышению весенних влагозапасов почв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дин из основных типов почв РБ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гротехнический прием обработки почв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ичина образования  овраг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ложительное воздействие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трицательное воздействие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2" name="Text Box 2675"/>
          <p:cNvSpPr/>
          <p:nvPr/>
        </p:nvSpPr>
        <p:spPr>
          <a:xfrm>
            <a:off x="757548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20"/>
          <p:cNvPicPr/>
          <p:nvPr/>
        </p:nvPicPr>
        <p:blipFill>
          <a:blip r:embed="rId1"/>
          <a:stretch/>
        </p:blipFill>
        <p:spPr>
          <a:xfrm>
            <a:off x="-95400" y="-71280"/>
            <a:ext cx="9334800" cy="7000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22080" y="953640"/>
            <a:ext cx="397548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ипы почв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91440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33f"/>
                </a:solidFill>
                <a:latin typeface="Arial"/>
              </a:rPr>
              <a:t>Чернозёмы - около 35 % площади Р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33f"/>
                </a:solidFill>
                <a:latin typeface="Arial"/>
              </a:rPr>
              <a:t>Лугово-чернозёмные входят в общую площадь черноземов республик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33f"/>
                </a:solidFill>
                <a:latin typeface="Arial"/>
              </a:rPr>
              <a:t>Дерново-подзолистые – 10 % площад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33f"/>
                </a:solidFill>
                <a:latin typeface="Arial"/>
              </a:rPr>
              <a:t>Серые лесные – 30 % площад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33f"/>
                </a:solidFill>
                <a:latin typeface="Arial"/>
              </a:rPr>
              <a:t>Аллювиальные около 6% площад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33f"/>
                </a:solidFill>
                <a:latin typeface="Arial"/>
              </a:rPr>
              <a:t>Горные - 8 % площади РБ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10000">
    <p:cover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796000" y="261000"/>
            <a:ext cx="2988360" cy="99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рта поч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12" descr="2"/>
          <p:cNvPicPr/>
          <p:nvPr/>
        </p:nvPicPr>
        <p:blipFill>
          <a:blip r:embed="rId2"/>
          <a:stretch/>
        </p:blipFill>
        <p:spPr>
          <a:xfrm>
            <a:off x="0" y="0"/>
            <a:ext cx="5127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14800" y="-360"/>
            <a:ext cx="59292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чвы Башкирии разнообразны, вследствие разнообразия поверхностных горных пород на территории республики, разнообразия ее рельефа и клима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9" descr="3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Чернозёмы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Чернозёмы занимают 73% территории степной зоны и 31% лесостепной зоны республики (32% всей территории). Сформированы на карбонатных тяжелосуглинистых почвообразующих породах. Встречаются подтипы: оподзоленные, выщелоченные, типичные, обыкновенные и южные, которые, в свою очередь, подразделяются по мощности гумусового горизонта, содержанию гумуса, механическому составу. В республики преобладают тяжелосуглинистые чернозёмы. До 60% площади чернозёмов, в основном пахотных, в различной степени эродировано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split dir="out" orient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9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Зауралье преобладают тучный и обыкновенный черноземы. Местами, на выходах красной глины, имеющей большую водоудерживающую способность, встречаются солончаки. Есть каменистые пространства мелкосопочника, и на месте бывших озер встречаются солонцы и солонцеватые почв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4:08:09Z</dcterms:created>
  <dc:creator>Mr. Marat</dc:creator>
  <dc:description/>
  <dc:language>en-US</dc:language>
  <cp:lastModifiedBy>Юлия</cp:lastModifiedBy>
  <dcterms:modified xsi:type="dcterms:W3CDTF">2020-04-02T14:24:52Z</dcterms:modified>
  <cp:revision>79</cp:revision>
  <dc:subject/>
  <dc:title>Презентация на тему: Географическое положение Республики Башкортостан</dc:title>
</cp:coreProperties>
</file>