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9F50-2910-48B6-B3CB-A9B43C1F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846-1F18-4E8B-8F93-967710BB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4CB-F8A0-4F4E-850A-E3110C60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E78-7ECD-4095-8EC5-AFC3C648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1C5-836B-4711-B273-6136BC57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A5F-308A-4C55-B7C1-D4D8ED12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368-FD53-4F7B-AE7D-4C5F6C20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BEC-5473-4646-9744-DA7F88A9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38A-8457-45C4-A976-6F31B254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6BF-6B9C-4D57-8D25-424B277D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F8C-51D4-4413-B710-29BA318D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646-C17F-423D-B08C-F8008B5E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38D4-E3DC-4E13-9543-C1F12EEECC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Николаевич Островс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65640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Москва, 1823-1886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50920" y="336600"/>
            <a:ext cx="871380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ин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так, вы отошли от двора ни с чем?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крывает свою табакерку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дум (берет у Правдина табак)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и с чем? Табакерке цена пятьсот рублев. Пришли к купцу двое. Один, заплатя деньги, принес домой табакерку. Другой пришел домой без табакерки. И ты думаешь, что другой пришел домой ни с чем? Ошибаешься. Он принес назад свои пятьсот рублев целы. Я отошел от двора без деревень, без ленты, без чинов, да мое принес домой неповрежденно, мою душу, мою честь, мои прави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ин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вашими правилами людей не отпускать от двора, а ко двору призывать надоб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ду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зывать? А зач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ин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, зачем к больным врача призыв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ду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й друг! Ошибаешься. Тщетно звать врача к больным неисцельно. Тут врач не пособит, разве сам заразится.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И. Фонвизин, 178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571120" y="189000"/>
            <a:ext cx="444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А. Добролю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50920" y="1341360"/>
            <a:ext cx="87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Катерины «сосредоточенно – решителен, неуклонно верен чутью естественной правды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Катерины всё делается по велению натуры, без отчётливого сознания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Катерине мы видим протест против кабановских понятий о нравственности, протест, доведённый до конца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рустно, горько такое освобождение.Хорошо, что хоть нашлась в бедной женщине решимость хоть на этот страшный выход. В том и сила её характер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007440" y="271440"/>
            <a:ext cx="351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Писаре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250920" y="890640"/>
            <a:ext cx="871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спитание и жизнь не могли дать Катерине ни твёрдого характера, ни развитого ума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я жизнь Катерины состоит из внутренних противоречий; она ежеминутно кидается из одной крайности в другую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итик имеет право видеть светлое явление только в том человеке, который умеет быть счастливым, то есть приносить пользу себе и другим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обходимым свойством такого светлого явления должен быть сильный и развитой ум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терина, совершив множество глупостей, бросается в воду и делает, таким образом, последнюю и величайшую нелепос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95280" y="189000"/>
            <a:ext cx="849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роза» – самая действенная и влиятельная проповедь против темных сил и консерват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я поэма о любви и смерти, о свободе и рабств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роза» – редкий шедевр, построенный исключите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циональном материа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376200" y="784080"/>
            <a:ext cx="31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981000"/>
            <a:ext cx="36543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й драмат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рет написан русским художником В.Перовым, находится в Третьяковской галер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3654360" y="260280"/>
            <a:ext cx="486432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590400" y="333360"/>
            <a:ext cx="3881520" cy="61135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4932360" y="692280"/>
            <a:ext cx="3887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 февраля 1847года встреча у профессора русской словесности Шевырева (критик журнал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ровский «стал считать себя русским писателем и уже без сомнений поверил в собственное призвани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39640" y="476280"/>
            <a:ext cx="79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тября 1874 года А. Островский председ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щества русских драматических писателей и оперных композитор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реждение Грибоедовской пре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86 год заведующий репертуарной частью и начальник театрального училища. Пожизненная пенсия в три тысячи рублей. (Александ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920" y="333360"/>
            <a:ext cx="822960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щеслав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ичливое высокомерие, любовь к славе, к почит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</a:t>
            </a:r>
            <a:r>
              <a:rPr b="1" lang="ru-RU" sz="3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олюб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чрезмерная жажда почестей, стремление к почётному положе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мбициознос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щеславие, своенрав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цемери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едение, прикрывающ. неискренность, злонамеренность притворным чистосердечием, добродетел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821232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560" y="333360"/>
            <a:ext cx="878508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жество (невежда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тсутствие знаний, некультурность, малообразован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дур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амодурство) - человек, который действует по своей прихоти, по своему произволу, унижая достоинство друг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vi-V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ОСТРО́Й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архальный, косный (привычный, отсталый) семейный уклад при безоговорочном подчинении главе семь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0560" y="333360"/>
            <a:ext cx="878508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нжество (ханжа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казна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емонстративная) форма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лагочест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божнос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тайной или явной неверности исповедуемым иде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4716720" cy="6624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5580000" y="2781360"/>
            <a:ext cx="385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кой и Кабани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художник Герасим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1:42:37Z</dcterms:created>
  <dc:creator>света</dc:creator>
  <dc:description/>
  <dc:language>en-US</dc:language>
  <cp:lastModifiedBy>User</cp:lastModifiedBy>
  <dcterms:modified xsi:type="dcterms:W3CDTF">2020-04-02T13:05:32Z</dcterms:modified>
  <cp:revision>41</cp:revision>
  <dc:subject/>
  <dc:title>Мари-Анри Бейль</dc:title>
</cp:coreProperties>
</file>