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5C58-BD6B-4E5E-A1CA-5997F24E8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7E9-A505-4F33-A709-7DA52A7D8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4A8-82C2-4A15-9728-E2FB2A0F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397-CE3A-4CBA-9A67-6DA18942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87E-F3D9-4F4F-A5D8-1E102965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9DD-3AC6-45F8-A7F5-7BB4388F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A23-0350-4DF8-9384-7797FD8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7C2-4822-42EA-B24C-198D05B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69F-8D96-4908-A852-F38D46E6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5B7-A707-42BD-9D81-CDAA5676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D13-53EC-41A6-9A4E-28C78250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C01-EC41-4B0C-9A2B-E71819E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BF0-72CA-48A5-BA21-40AF336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F2F-265F-4CDB-B9E5-308892F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6ED2-5E15-4FC3-B8ED-30E2F3B30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33480"/>
            <a:ext cx="4226040" cy="6635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4572000" y="260280"/>
            <a:ext cx="446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……… улице, в одном из ……. домов лежал утром в постели, на своей квартире ……..  Это был человек лет ………….от роду, ……. роста, ……… наружности, с темно-серыми глазами, но с отсутствием всякой определенной ………, всякой ………. в чертах лица. ……… гуляла вольной птицей по лицу, порхала в глазах, садилась на полуотворенные губы, пряталась в складках лба, потом совсем ………., и тогда во всем лице теплился ровный свет …………. С лица беспечность переходила в позы всего тела, даже в складки шлаф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646440" cy="53229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3924360" y="243000"/>
            <a:ext cx="5033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! — сказал от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! — сказал сы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? — спросил от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! — отвечал сы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 же ,……., учись, не дури и не повесничай, а больше всего угождай учителям и начальникам. Коли будешь угождать начальнику, то, хоть и в науке не успеешь и таланту Бог не дал, все пойдешь в ход и всех опередишь. С товарищами не водись, они тебя добру не научат; а если уж пошло на то, так водись с теми, которые побогаче, чтобы при случае могли быть тебе полезными. Не угощай и не потчевай никого, а веди себя лучше так, чтобы тебя угощали, а больше всего береги и копи копейку: эта вещь надежнее всего на свете. Товарищ или приятель тебя надует и в беде первый тебя выдаст, а копейка не выдаст, в какой бы беде ты ни был. Все сделаешь и все прошибешь на свете копейк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340000" y="65160"/>
            <a:ext cx="518472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333360"/>
            <a:ext cx="8066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й, на третий день опять, и целая неделя промелькнула незаметно. Обломов протестовал, жаловался, спорил, но был увлекаем и сопутствовал другу своему всю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, возвратясь откуда-то поздно, он особенно восстал против этой су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е дни, — ворчал Обломов, надевая халат, — не снимаешь сапог: ноги так и зудят! Не нравится мне эта ваша петербургская жизнь! — продолжал он, ложась на див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же тебе нравится? — спросил Штольц.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акая, как зд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здесь именно так не понрав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179280" y="189000"/>
            <a:ext cx="87854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кто же? Обломов молчал. — К какому же разряду общества причисляешь ты себ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 Захара, — сказал Обломов. Штольц буквально исполнил желание Облом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! — закричал 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Захар, с сонными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 такой лежит? — спросил Штольц. Захар вдруг проснулся и стороной, подозрительно взглянул на Штольца, потом на Облом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то? Разве вы не вид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жу, — сказал Штоль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диковина? Это …………, Илья Ильич. Он усмех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ступай. — …………! — повторил Штольц и закатился хох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джентльмен, — с досадой поправил Обл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т, ты барин! — продолжал с хохотом Штоль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же разница? — сказал Обломов. — Джентльмен — такой же бар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нтльмен есть такой барин, — определил Штольц, — который сам надевает чулки и сам же снимает с себя сап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англичанин сам, потому что у них не очень много слуг, а русски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79280" y="189000"/>
            <a:ext cx="87854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кто же? Обломов молчал. — К какому же разряду общества причисляешь ты себ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 Захара, — сказал Обломов. Штольц буквально исполнил желание Облом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! — закричал 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Захар, с сонными глаз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 такой лежит? — спросил Штольц. Захар вдруг проснулся и стороной, подозрительно взглянул на Штольца, потом на Облом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то? Разве вы не вид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жу, — сказал Штоль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диковина? Э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ья Ильич. Он усмех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ступай. —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— повторил Штольц и закатился хох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джентльмен, — с досадой поправил Обл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т, 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— продолжал с хохотом Штоль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же разница? — сказал Обломов. — Джентльмен — такой же бар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нтльмен есть такой барин, — определил Штольц, — который сам надевает чулки и сам же снимает с себя сап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англичанин сам, потому что у них не очень много слуг, а русски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79280" y="90792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же это идеал, норма жизни? Обломов не отвеч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скажи мне, какую бы ты начертал себе жизнь? — продолжал спрашивать Штоль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ж начерт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это такое? Расскажи, пожалуйста,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79280" y="90792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же это идеал, норма жизни? Обломов не отвеч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скажи мне, какую бы ты начертал себе жизнь? — продолжал спрашивать Штоль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ж начерт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 это такое? Расскажи, пожалуйста,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79280" y="907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324000" y="333360"/>
            <a:ext cx="8496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нибудь перестанешь же трудиться, — заметил Обло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ерест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? — Когда удвоишь свои капиталы, — сказал Обло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учетверю их, и тогда не перест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з чего же, — заговорил он, помолчав, — ты бьешься, если цель твоя не обеспечить себя навсегда и удалиться потом на покой, отдохнуть?.. — Деревенская обломовщина! — сказал Штольц. — Или достигнуть службой значения и положения в обществе и потом в почетном бездействии наслаждаться заслуженным отдыхо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ская обломовщина! — возразил Штоль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огда же жить? — с досадой на замечания Штольца возразил Обломов. — Для чего же мучиться весь 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амого труда, больше ни для чего. Труд — образ, содержание, стихия и цель жизни, по крайней мере моей. Вон ты выгнал труд из жизни: на что она похожа? Я попробую приподнять тебя, может быть в последний раз. Если ты и после этого будешь сидеть вот тут, с Тарантьевыми и Алексеевыми, то совсем пропадешь, станешь в тягость даже себе. Теперь или никогда! — заключил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24000" y="5868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ОМОВЩИНА –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цательное слово для обозначения личностного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стоя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тины, апат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21232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68360" y="33480"/>
            <a:ext cx="4319640" cy="6783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003640" y="692280"/>
            <a:ext cx="40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.. улице, в одном из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ольш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ов, народонаселения которого стало бы на целый уездный город, лежал утром в постели, на своей квартире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ья Ильич Обло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 был человек л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дцати двух-тре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роду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редн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с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ят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жности, с темно-серыми глазами, но с отсутствием всякой определенн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де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як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средоточ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чертах лица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ыс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ляла вольной птицей по лицу, порхала в глазах, садилась на полуотворенные губы, пряталась в складках лба, потом совсем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пад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гда во всем лице теплился ровный св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спе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 лиц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спе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ходила в позы всего тела, даже в складки шлаф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щеслав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ичливое высокомерие, любовь к славе, к почит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</a:t>
            </a: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люб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чрезмерная жажда почестей, стремление к почётному полож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бициоз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щеславие, своенра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емер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ение, прикрывающ. неискренность, злонамеренность притворным чистосердечием, добродет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333360"/>
            <a:ext cx="878508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жество (невежда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тсутствие знаний, некультурность, малообразова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ду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модурство) - человек, который действует по своей прихоти, по своему произволу, унижая достоинство друг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vi-V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СТРО́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архальный, косный (привычный, отсталый) семейный уклад при безоговорочном подчинении главе семь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560" y="333360"/>
            <a:ext cx="878508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нжество (ханжа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казна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монстративная) форма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лагочест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бож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тайной или явной неверности исповедуемым иде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5651640" y="105264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472360" cy="64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3366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324000" y="336600"/>
            <a:ext cx="87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носили ………   как наказание, наложенное еще на праотцев наших, но любить не могли, и где был случай, всегда от него избавлялись, находя это возможным и долж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никогда не смущали себя никакими туманными умственными или нравственными вопросами; оттого всегда и цвели здоровьем и весельем, оттого там жили долго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24000" y="40464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…………   иногда возьмет и книгу в руки — ему все равно, какую-нибудь. Он и не подозревал в чтении существенной потребности, а считал его роскошью, таким делом, без которого легко и обойтись можно, так точно, как можно иметь картину на стене, можно и не иметь, можно пойти прогуляться, можно и не пойти: от этого ему все равно, какая бы ни была книга; он смотрел на нее, как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щь, назначенную для развлечения, от скуки и от нечего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836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и понимали выгоду просвещения, но только внешнюю его выгоду. Они видели, что уж все начали выходить в люди, то есть приобретать чины, кресты и деньги не иначе, как только путем учень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носиться зловещие слухи о необходимости не только знания грамоты, но и других, до тех пор неслыханных в том быту наук. Между титулярным советником и коллежским асессором разверзалась бездна, мостом через которую служил какой-то дип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мовы смекали это и понимали выгоду образования, но только эту очевидную выгоду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внутренней потребности учень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имели еще смутное и отдаленное понятие, и оттого им хотелось уловить для своего Илюши пока некоторые блестящие преим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913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971640" y="404640"/>
            <a:ext cx="784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только что проснется у себя дома, как у постели его уже стоит Захарка, впоследствии знаменитый камердинер его Захар Трофимы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, как бывало нянька, натягивает ему чулки, надевает башмаки, а Илюша, уже четырнадцатилетний мальчик, только и знает, что подставляет ему лежа то ту, то другую ногу; а чуть что покажется ему не так, то он поддаст Захарке ногой в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1280" y="243000"/>
            <a:ext cx="43005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1:42:37Z</dcterms:created>
  <dc:creator>света</dc:creator>
  <dc:description/>
  <dc:language>en-US</dc:language>
  <cp:lastModifiedBy>User</cp:lastModifiedBy>
  <dcterms:modified xsi:type="dcterms:W3CDTF">2018-10-28T18:33:36Z</dcterms:modified>
  <cp:revision>45</cp:revision>
  <dc:subject/>
  <dc:title>Мари-Анри Бейль </dc:title>
</cp:coreProperties>
</file>