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910-05EB-4615-A571-CDDD073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9CF-3A87-43F7-B845-B7C94180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0D5-B7F9-4A79-843F-DD4D79FB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A6A-4CF5-4C03-93E7-9A1BF6EA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4AD5-3576-4FEF-ADF4-44216BB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0C6-2E49-45B4-B99C-E562933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1003-0B52-46E0-AA7E-16C454FE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1C13-DF14-47AF-8F31-0D788AD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0579-F150-404F-B917-629440D4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F69-C22B-4C5C-AD55-E9EDB2E5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CA7-4057-47C2-89C2-B05FF73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C1A-B393-4418-B3E6-67A64FBA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7034-A7F3-446B-8818-B5C917E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92CA-B51D-44B1-86C6-F997880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02A-5C5E-4735-9E6E-B295A64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EA0-66FC-4332-9737-07132085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E3FA-CB06-4C31-91E3-6E81D95F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822-8ECB-4E34-91D6-9A04403F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57D-5F58-481F-B97C-C4648B4C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584-A770-47D7-8425-FDB5C046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3E0-8813-4849-9FB2-731E5A4B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28D-31B9-4A98-9604-DB9373E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225-CFC4-414C-ABB6-957D7776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74F-3DFD-4080-93C3-74232C7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EDC-2224-4CCE-97A4-D1931CEB76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2114-B737-4BB7-8128-77A27E930F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713800" cy="3673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ДОАУ детский сад «Сказка»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. Магдагач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ул. К. Маркса, 11 «Б»)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тчёт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 работе танцевального  кружк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«НЕПОСЕДЫ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2018-2019г.г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4723920"/>
            <a:ext cx="62960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Педагога-психолога первой 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Казаковой Анны Юрьев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9efee"/>
                </a:solidFill>
                <a:latin typeface="Garamond"/>
              </a:rPr>
              <a:t>Танец «Восточных красавиц»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271520" y="1197000"/>
            <a:ext cx="68169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9efee"/>
                </a:solidFill>
                <a:latin typeface="Garamond"/>
              </a:rPr>
              <a:t>Танец «Буратино и Мальвины»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81320" y="981000"/>
            <a:ext cx="482760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404280"/>
            <a:ext cx="518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В районном фестивале детского театрально-художественного творчества «Зимняя сказка», участники и танцевальная группа детского сада занял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aramond"/>
              </a:rPr>
              <a:t>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I </a:t>
            </a:r>
            <a:r>
              <a:rPr b="1" i="1" lang="ru-RU" sz="3200" spc="-1" strike="noStrike">
                <a:solidFill>
                  <a:srgbClr val="ff0000"/>
                </a:solidFill>
                <a:latin typeface="Garamond"/>
              </a:rPr>
              <a:t> мест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346720" y="1125360"/>
            <a:ext cx="3403440" cy="4872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Участие в концертной программе районного конкурса профессионального мастерства</a:t>
            </a:r>
            <a:br>
              <a:rPr sz="28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 «Педагог года Магдагачинского района»</a:t>
            </a:r>
            <a:br>
              <a:rPr sz="28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Танец « Бабочек»</a:t>
            </a:r>
            <a:br>
              <a:rPr sz="4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780000" y="2708280"/>
            <a:ext cx="5178240" cy="388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862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404280"/>
            <a:ext cx="518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За участие в концертной программе в рамках районного конкурса профессионального мастерства «Педагог года Магдагачинского района» танцевальная группа детского сада получила </a:t>
            </a:r>
            <a:r>
              <a:rPr b="1" i="1" lang="ru-RU" sz="3200" spc="-1" strike="noStrike">
                <a:solidFill>
                  <a:srgbClr val="ff0000"/>
                </a:solidFill>
                <a:latin typeface="Garamond"/>
              </a:rPr>
              <a:t>благодарность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выступив с танцем </a:t>
            </a:r>
            <a:r>
              <a:rPr b="1" i="1" lang="ru-RU" sz="3200" spc="-1" strike="noStrike">
                <a:solidFill>
                  <a:srgbClr val="ff0000"/>
                </a:solidFill>
                <a:latin typeface="Garamond"/>
              </a:rPr>
              <a:t>«Бабоче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389560" y="1128600"/>
            <a:ext cx="3486240" cy="4794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Утренник посвящённый Дню 8 Марта</a:t>
            </a:r>
            <a:br>
              <a:rPr sz="28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Танец «ВДВ»</a:t>
            </a:r>
            <a:br>
              <a:rPr sz="4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355760" y="1700280"/>
            <a:ext cx="64324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Танец «С лентами»</a:t>
            </a:r>
            <a:br>
              <a:rPr sz="4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1355760" y="1700280"/>
            <a:ext cx="64324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Танец «Бабочек»</a:t>
            </a:r>
            <a:br>
              <a:rPr sz="4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127240" y="1700280"/>
            <a:ext cx="48895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-603720"/>
            <a:ext cx="871380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Районный фестиваль народного творчества</a:t>
            </a:r>
            <a:br>
              <a:rPr sz="2800"/>
            </a:br>
            <a:r>
              <a:rPr b="1" i="1" lang="ru-RU" sz="3200" spc="-1" strike="noStrike">
                <a:solidFill>
                  <a:srgbClr val="b9efee"/>
                </a:solidFill>
                <a:latin typeface="Garamond"/>
              </a:rPr>
              <a:t>«Журавушка»</a:t>
            </a:r>
            <a:br>
              <a:rPr sz="3200"/>
            </a:br>
            <a:r>
              <a:rPr b="1" i="1" lang="ru-RU" sz="3200" spc="-1" strike="noStrike">
                <a:solidFill>
                  <a:srgbClr val="b9efee"/>
                </a:solidFill>
                <a:latin typeface="Garamond"/>
              </a:rPr>
              <a:t>Танец «Ромашка» и «Игра на ложках»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79280" y="17748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4716360" y="3141720"/>
            <a:ext cx="4075200" cy="3056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7596360" y="1600200"/>
            <a:ext cx="720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560" y="259920"/>
            <a:ext cx="460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 танцем «Ромашки» и «Игра на ложках» воспитанники детского сада выступив в районном фестивале народного творчества «Журавушки» заня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 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место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номинации 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«Танцевальна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Garamond"/>
              </a:rPr>
              <a:t>I 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место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номинации 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«Инструментальна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716360" y="565200"/>
            <a:ext cx="2427480" cy="33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6588000" y="3357720"/>
            <a:ext cx="2406600" cy="3377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00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Цель: раскрытие творческого потенциала детей посредством танцевальных движений.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56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нец – это музыка живая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недаром люди говорят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нцовщица – воплощенье рая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танце мир с гармонией царя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2771640" y="321300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-603720"/>
            <a:ext cx="871380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Фестиваль песни и строя «Бравые солдаты»</a:t>
            </a:r>
            <a:br>
              <a:rPr sz="2800"/>
            </a:br>
            <a:r>
              <a:rPr b="1" i="1" lang="ru-RU" sz="3200" spc="-1" strike="noStrike">
                <a:solidFill>
                  <a:srgbClr val="b9efee"/>
                </a:solidFill>
                <a:latin typeface="Garamond"/>
              </a:rPr>
              <a:t>посвящённый празднованию Дня Побед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617840" y="1700280"/>
            <a:ext cx="561816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Танец  «А закаты алые»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27320" cy="3019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4027680" cy="3020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-603720"/>
            <a:ext cx="871380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Выпуск детей в школу : </a:t>
            </a:r>
            <a:br>
              <a:rPr sz="28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«По страницам сайта «Дошколёнок. </a:t>
            </a:r>
            <a:r>
              <a:rPr b="1" i="1" lang="en-US" sz="2800" spc="-1" strike="noStrike">
                <a:solidFill>
                  <a:srgbClr val="b9efee"/>
                </a:solidFill>
                <a:latin typeface="Garamond"/>
              </a:rPr>
              <a:t>ru</a:t>
            </a: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»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617840" y="1700280"/>
            <a:ext cx="561816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Танец  «Стая белых голубей»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480960" y="1341360"/>
            <a:ext cx="3855960" cy="301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60072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Танец  «Прощальный вальс»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977080" cy="410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4" descr="C:\Users\user\Desktop\спасибо за внимани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1187280" y="549360"/>
            <a:ext cx="763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0840" y="260280"/>
            <a:ext cx="782316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Праздник Осени</a:t>
            </a:r>
            <a:br>
              <a:rPr sz="28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Танец  « Листик, листик, листопад…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019240" y="1979640"/>
            <a:ext cx="5205600" cy="3903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187280" y="549360"/>
            <a:ext cx="763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0840" y="260280"/>
            <a:ext cx="782316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Танец  « Капелек»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4838760" y="3213000"/>
            <a:ext cx="3959280" cy="296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Праздничный концерт посвящённый Дню Матери</a:t>
            </a: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Танец </a:t>
            </a: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«Стюардесс»</a:t>
            </a:r>
            <a:br>
              <a:rPr sz="4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88960" y="1557360"/>
            <a:ext cx="3573360" cy="267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051520" y="3332160"/>
            <a:ext cx="357660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Танец  на степах</a:t>
            </a:r>
            <a:br>
              <a:rPr sz="2400"/>
            </a:br>
            <a:r>
              <a:rPr b="1" i="1" lang="ru-RU" sz="2800" spc="-1" strike="noStrike">
                <a:solidFill>
                  <a:srgbClr val="b9efee"/>
                </a:solidFill>
                <a:latin typeface="Garamond"/>
              </a:rPr>
              <a:t>«Соловушка»</a:t>
            </a:r>
            <a:br>
              <a:rPr sz="4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835280" y="1555920"/>
            <a:ext cx="5832360" cy="437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Районный фестиваль</a:t>
            </a: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детского творчества «Зимняя сказка-2019»</a:t>
            </a: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Новогоднее представление «ПО СТРАНИЦАМ СКАЗОК»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93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Танец «Снежинок»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50800" y="1484280"/>
            <a:ext cx="652968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9efee"/>
                </a:solidFill>
                <a:latin typeface="Garamond"/>
              </a:rPr>
              <a:t>Танец «Ёлочек»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89160" y="1125360"/>
            <a:ext cx="6816600" cy="511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37:37Z</dcterms:created>
  <dc:creator>Учитель</dc:creator>
  <dc:description/>
  <dc:language>en-US</dc:language>
  <cp:lastModifiedBy>Владислав Тимошенко</cp:lastModifiedBy>
  <dcterms:modified xsi:type="dcterms:W3CDTF">2020-04-02T09:35:37Z</dcterms:modified>
  <cp:revision>112</cp:revision>
  <dc:subject/>
  <dc:title>МОУ Яманская средняя общеобразовательная школа Крутинского муниципального района Омской области</dc:title>
</cp:coreProperties>
</file>