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5A3-A6CB-4CBB-B013-23F4EEC7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F85-8898-4604-AA97-AFAECF2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251-8987-48B5-AF0E-71EF7239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827-656A-4C2F-A0C2-7CA5E813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6234-3351-44A5-836F-A9691556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C2BA-2A83-447F-8CCB-E0495EEC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E323-7161-4592-8723-52239E2D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B3C3-A9B6-4739-980A-D4225DFC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A95D-24EF-43C3-85F0-975BD8C1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93EC-E0E1-4872-AE95-4D31FC10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2127-4BA4-4D9D-95CE-54C6DB45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A4D-A10E-4A83-B96C-47068673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1DE0-52EC-4A47-AE4D-E3626C73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7700-694B-45A3-B86F-3B84DED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573D-9C16-4290-BE8C-8C0D8067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E082-4B9E-4C6D-8ACA-BE5F4C05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FC5D-0F40-4616-BC1A-7B812FF6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C2A-07DF-4738-9AD1-84C14FFB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B5A-5DE0-4CB9-9008-134BFF7C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BDF-4F71-4583-9ECE-A25BCD24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414-4A49-4C54-BA3C-EC5D4864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ECA-5FF3-4BAF-ACE7-10907C19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337-046C-4E87-BD72-96C211F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615-C502-4489-BEE2-62389A2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6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6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1" lang="en-US" sz="60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51F6-2581-4A3E-B4FA-414828907F4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22C7-5A07-4D95-83FF-A131E303576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-572040"/>
            <a:ext cx="7311960" cy="564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66ff"/>
                </a:solidFill>
                <a:latin typeface="Verdana"/>
              </a:rPr>
              <a:t>Значение подвижных игр для дошкольников.</a:t>
            </a:r>
            <a:br>
              <a:rPr sz="8000"/>
            </a:b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3" descr="http://razvitiedetei.info/wp-content/uploads/2014/09/narodnie-igri-detym.jpg"/>
          <p:cNvPicPr/>
          <p:nvPr/>
        </p:nvPicPr>
        <p:blipFill>
          <a:blip r:embed="rId1"/>
          <a:stretch/>
        </p:blipFill>
        <p:spPr>
          <a:xfrm>
            <a:off x="1714680" y="4000680"/>
            <a:ext cx="4857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0" y="357120"/>
            <a:ext cx="792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66ff"/>
                </a:solidFill>
                <a:latin typeface="Verdana"/>
                <a:ea typeface="Arial"/>
              </a:rPr>
              <a:t>Подвижная игра  </a:t>
            </a:r>
            <a:r>
              <a:rPr b="0" lang="ru-RU" sz="3600" spc="-1" strike="noStrike">
                <a:solidFill>
                  <a:srgbClr val="3366ff"/>
                </a:solidFill>
                <a:latin typeface="Verdana"/>
                <a:ea typeface="Arial"/>
              </a:rPr>
              <a:t>– это сознательная, активная деятельность ребенка, характеризующаяся точным и своевременным выполнением заданий, связанных с обязательными для всех играющих правилами</a:t>
            </a:r>
            <a:r>
              <a:rPr b="1" lang="ru-RU" sz="3600" spc="-1" strike="noStrike">
                <a:solidFill>
                  <a:srgbClr val="3366ff"/>
                </a:solidFill>
                <a:latin typeface="Arial"/>
                <a:ea typeface="Arial"/>
              </a:rPr>
              <a:t>. 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Picture 2" descr="http://music-education.ru/wp-content/uploads/2013/04/detskie-podvizhnye-igry-pod-muzyku2.gif"/>
          <p:cNvPicPr/>
          <p:nvPr/>
        </p:nvPicPr>
        <p:blipFill>
          <a:blip r:embed="rId1"/>
          <a:stretch/>
        </p:blipFill>
        <p:spPr>
          <a:xfrm>
            <a:off x="5786280" y="4286160"/>
            <a:ext cx="3071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714240" y="451440"/>
            <a:ext cx="77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одвижные игры классифицируются по разным параметрам: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о возрасту 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игры для детей младшего дошкольного возраста, среднего дошкольного возраста, старшего дошкольного возраста);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о степени подвижности ребенка в игре 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игры с малой, средней, большой подвижностью);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о видам движений 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игры с бегом, с метанием, с прыжками, с лазанием и т.д.);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о содержанию </a:t>
            </a:r>
            <a:r>
              <a:rPr b="0" lang="ru-RU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(подвижные игры с правилами и спортивные игры).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Picture 3" descr="http://www.svadbuzz.ru/sites/default/files/imagecache/photo-big/users/1/photo/2016/119/FYMJYKXgqXg.jpg"/>
          <p:cNvPicPr/>
          <p:nvPr/>
        </p:nvPicPr>
        <p:blipFill>
          <a:blip r:embed="rId1"/>
          <a:stretch/>
        </p:blipFill>
        <p:spPr>
          <a:xfrm>
            <a:off x="5000760" y="4714920"/>
            <a:ext cx="385740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000080" y="805320"/>
            <a:ext cx="7286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ажными характеристиками подвижной игры являются: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- цель игры;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- содержание игры;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- правила игры;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- игровые роли.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4" name="Picture 7" descr="https://fs00.infourok.ru/images/doc/45/56788/hello_html_m51806a11.png"/>
          <p:cNvPicPr/>
          <p:nvPr/>
        </p:nvPicPr>
        <p:blipFill>
          <a:blip r:embed="rId1"/>
          <a:stretch/>
        </p:blipFill>
        <p:spPr>
          <a:xfrm>
            <a:off x="4286160" y="3357720"/>
            <a:ext cx="44388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1357200" y="729360"/>
            <a:ext cx="62866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Этапы развития подвижной игры: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- разучивание игры;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- повторение подвижной игры;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- усложнение подвижной игры.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Picture 3" descr="http://ya-zdorovyi.com/img/news/inn/podvizhnye-igry-na-svezhem-vozduhe1.jpg"/>
          <p:cNvPicPr/>
          <p:nvPr/>
        </p:nvPicPr>
        <p:blipFill>
          <a:blip r:embed="rId1"/>
          <a:stretch/>
        </p:blipFill>
        <p:spPr>
          <a:xfrm>
            <a:off x="2286000" y="4214880"/>
            <a:ext cx="43718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785880" y="121428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Verdana"/>
              </a:rPr>
              <a:t>«Подвижная игра является упражнением, посредством которого ребенок готовится к жизни.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3366ff"/>
                </a:solidFill>
                <a:latin typeface="Verdana"/>
              </a:rPr>
              <a:t>                 П. Ф. Лесгафт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-429120"/>
            <a:ext cx="8244000" cy="492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66ff"/>
                </a:solidFill>
                <a:latin typeface="Verdana"/>
              </a:rPr>
              <a:t>СПАСИБО </a:t>
            </a:r>
            <a:br>
              <a:rPr sz="6600"/>
            </a:br>
            <a:r>
              <a:rPr b="1" i="1" lang="ru-RU" sz="6600" spc="-1" strike="noStrike">
                <a:solidFill>
                  <a:srgbClr val="3366ff"/>
                </a:solidFill>
                <a:latin typeface="Verdana"/>
              </a:rPr>
              <a:t>ЗА</a:t>
            </a:r>
            <a:br>
              <a:rPr sz="6600"/>
            </a:br>
            <a:r>
              <a:rPr b="1" i="1" lang="ru-RU" sz="6600" spc="-1" strike="noStrike">
                <a:solidFill>
                  <a:srgbClr val="3366ff"/>
                </a:solidFill>
                <a:latin typeface="Verdana"/>
              </a:rPr>
              <a:t>ВНИМАНИЕ!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9:11:25Z</dcterms:created>
  <dc:creator>Пользователь</dc:creator>
  <dc:description/>
  <dc:language>en-US</dc:language>
  <cp:lastModifiedBy>Андрей</cp:lastModifiedBy>
  <dcterms:modified xsi:type="dcterms:W3CDTF">2016-12-12T01:59:27Z</dcterms:modified>
  <cp:revision>18</cp:revision>
  <dc:subject/>
  <dc:title>Подвижные  игры</dc:title>
</cp:coreProperties>
</file>