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544760" y="1069560"/>
            <a:ext cx="446400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1544760" y="1069920"/>
            <a:ext cx="4467240" cy="36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1544760" y="1069920"/>
            <a:ext cx="4467240" cy="36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29720" y="635040"/>
            <a:ext cx="86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9720" y="4586760"/>
            <a:ext cx="8602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37920" y="209988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97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37920" y="4586760"/>
            <a:ext cx="4197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385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47320" y="209988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97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385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47320" y="4586760"/>
            <a:ext cx="2769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4"/>
          <p:cNvSpPr/>
          <p:nvPr/>
        </p:nvSpPr>
        <p:spPr>
          <a:xfrm>
            <a:off x="0" y="0"/>
            <a:ext cx="1514520" cy="7559640"/>
          </a:xfrm>
          <a:custGeom>
            <a:avLst/>
            <a:gdLst>
              <a:gd name="textAreaLeft" fmla="*/ 360 w 1514520"/>
              <a:gd name="textAreaRight" fmla="*/ 1514160 w 1514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795">
                <a:moveTo>
                  <a:pt x="22" y="0"/>
                </a:moveTo>
                <a:arcTo wR="22" hR="22" stAng="16200000" swAng="-5400000"/>
                <a:lnTo>
                  <a:pt x="0" y="107773"/>
                </a:lnTo>
                <a:arcTo wR="22" hR="22" stAng="10800000" swAng="-5400000"/>
                <a:lnTo>
                  <a:pt x="21578" y="107795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1527120" y="0"/>
            <a:ext cx="39600" cy="7559640"/>
          </a:xfrm>
          <a:custGeom>
            <a:avLst/>
            <a:gdLst>
              <a:gd name="textAreaLeft" fmla="*/ 360 w 39600"/>
              <a:gd name="textAreaRight" fmla="*/ 39240 w 396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086486">
                <a:moveTo>
                  <a:pt x="900" y="0"/>
                </a:moveTo>
                <a:arcTo wR="900" hR="900" stAng="16200000" swAng="-5400000"/>
                <a:lnTo>
                  <a:pt x="0" y="4085586"/>
                </a:lnTo>
                <a:arcTo wR="900" hR="900" stAng="10800000" swAng="-5400000"/>
                <a:lnTo>
                  <a:pt x="20700" y="408648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9720" y="635040"/>
            <a:ext cx="86029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29720" y="2099880"/>
            <a:ext cx="86029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2700360" y="360360"/>
            <a:ext cx="5400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3780000" y="6840360"/>
            <a:ext cx="2700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619280" y="0"/>
            <a:ext cx="8136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«Профессия моей 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крёстной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Проек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6326280" y="6137280"/>
            <a:ext cx="33940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80"/>
                </a:solidFill>
                <a:latin typeface="Arial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80"/>
                </a:solidFill>
                <a:latin typeface="Arial"/>
              </a:rPr>
              <a:t>Лизунова Кс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80"/>
                </a:solidFill>
                <a:latin typeface="Arial"/>
              </a:rPr>
              <a:t>ученица </a:t>
            </a:r>
            <a:r>
              <a:rPr b="1" i="1" lang="ru-RU" sz="2200" spc="-1" strike="noStrike">
                <a:solidFill>
                  <a:srgbClr val="000080"/>
                </a:solidFill>
                <a:latin typeface="Arial"/>
              </a:rPr>
              <a:t>2 </a:t>
            </a:r>
            <a:r>
              <a:rPr b="1" i="1" lang="en-GB" sz="2200" spc="-1" strike="noStrike">
                <a:solidFill>
                  <a:srgbClr val="000080"/>
                </a:solidFill>
                <a:latin typeface="Arial"/>
              </a:rPr>
              <a:t>клас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7" descr="http://ru.on24.ee/images/c/57526_c_239082.jpg"/>
          <p:cNvPicPr/>
          <p:nvPr/>
        </p:nvPicPr>
        <p:blipFill>
          <a:blip r:embed="rId1"/>
          <a:stretch/>
        </p:blipFill>
        <p:spPr>
          <a:xfrm>
            <a:off x="3111480" y="1851120"/>
            <a:ext cx="529920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25200" y="632880"/>
            <a:ext cx="8255160" cy="12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Моя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</a:rPr>
              <a:t>крёстная</a:t>
            </a: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</a:rPr>
              <a:t>Филотенкова </a:t>
            </a: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Ирина Николае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2182680" y="1979640"/>
            <a:ext cx="7718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Ей 4</a:t>
            </a:r>
            <a:r>
              <a:rPr b="1" i="1" lang="ru-RU" sz="3600" spc="-1" strike="noStrike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80"/>
                </a:solidFill>
                <a:latin typeface="Times New Roman"/>
              </a:rPr>
              <a:t>года</a:t>
            </a: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. Она работает медсестрой</a:t>
            </a:r>
            <a:r>
              <a:rPr b="1" i="1" lang="ru-RU" sz="3600" spc="-1" strike="noStrike">
                <a:solidFill>
                  <a:srgbClr val="000080"/>
                </a:solidFill>
                <a:latin typeface="Times New Roman"/>
              </a:rPr>
              <a:t> в Коломенской Центральной  Районной больнице </a:t>
            </a:r>
            <a:r>
              <a:rPr b="1" i="1" lang="en-GB" sz="3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C:\Users\admin\Desktop\Новая папка\img171.jpg"/>
          <p:cNvPicPr/>
          <p:nvPr/>
        </p:nvPicPr>
        <p:blipFill>
          <a:blip r:embed="rId1"/>
          <a:stretch/>
        </p:blipFill>
        <p:spPr>
          <a:xfrm>
            <a:off x="3397320" y="3708360"/>
            <a:ext cx="524520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82640" y="639720"/>
            <a:ext cx="5337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Times New Roman"/>
              </a:rPr>
              <a:t>Профессия медсест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1619280" y="3425760"/>
            <a:ext cx="774072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80"/>
                </a:solidFill>
                <a:latin typeface="Times New Roman"/>
              </a:rPr>
              <a:t>Медсестер в старину называли сестры милосерди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80"/>
                </a:solidFill>
                <a:latin typeface="Times New Roman"/>
              </a:rPr>
              <a:t>Во время войны медсестры вытаскивали больных с поля боя, оказывая им помощ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80"/>
                </a:solidFill>
                <a:latin typeface="Times New Roman"/>
              </a:rPr>
              <a:t>Многие медсестры были награждены орденами и медал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7281720" y="369720"/>
            <a:ext cx="2079720" cy="2691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258840" y="5400720"/>
            <a:ext cx="11811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682640" y="684360"/>
            <a:ext cx="814392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Символ </a:t>
            </a:r>
            <a:br>
              <a:rPr sz="4000"/>
            </a:b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работы медсестры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 - </a:t>
            </a:r>
            <a:br>
              <a:rPr sz="4000"/>
            </a:b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горящая  свеча :</a:t>
            </a:r>
            <a:br>
              <a:rPr sz="4000"/>
            </a:b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«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Светя  другим-сгораю сам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»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730080" y="2851200"/>
            <a:ext cx="86090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2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3" name="Picture 4" descr="C:\Users\admin\Downloads\1630d2d507.jpg"/>
          <p:cNvPicPr/>
          <p:nvPr/>
        </p:nvPicPr>
        <p:blipFill>
          <a:blip r:embed="rId1"/>
          <a:stretch/>
        </p:blipFill>
        <p:spPr>
          <a:xfrm>
            <a:off x="3468600" y="2733840"/>
            <a:ext cx="3638520" cy="482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11040" y="0"/>
            <a:ext cx="72248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</a:rPr>
              <a:t>Медицинские сёст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39360" y="922320"/>
            <a:ext cx="85410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6000"/>
              </a:lnSpc>
              <a:spcAft>
                <a:spcPts val="1412"/>
              </a:spcAft>
              <a:buNone/>
              <a:tabLst>
                <a:tab algn="l" pos="0"/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бота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ю</a:t>
            </a:r>
            <a:r>
              <a:rPr b="1" lang="en-GB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т в поликлиниках, медсанчастях, диспансерах, больницах, детских учреждениях, санаториях и профилакториях, фельдшерских пунктах на предприят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Aft>
                <a:spcPts val="1412"/>
              </a:spcAft>
              <a:buNone/>
              <a:tabLst>
                <a:tab algn="l" pos="0"/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   </a:t>
            </a:r>
            <a:r>
              <a:rPr b="1" lang="en-GB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ыполня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ю</a:t>
            </a:r>
            <a:r>
              <a:rPr b="1" lang="en-GB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т назначения врача по лечению и уходу за больны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C:\Users\admin\Desktop\Новая папка\img172.jpg"/>
          <p:cNvPicPr/>
          <p:nvPr/>
        </p:nvPicPr>
        <p:blipFill>
          <a:blip r:embed="rId1"/>
          <a:stretch/>
        </p:blipFill>
        <p:spPr>
          <a:xfrm>
            <a:off x="3040200" y="3780000"/>
            <a:ext cx="568620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0080" y="-360"/>
            <a:ext cx="860616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Times New Roman"/>
              </a:rPr>
              <a:t>Трудности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82640" y="1136520"/>
            <a:ext cx="83980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6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едсестра работает в помещении, в контакте с людьми разного возраста, посменно, в том числе в ночное время и праздничные дн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Имеется повышенная опасность инфекционных заболеваний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оприкасается с лекарственными и дезинфицирующими средствам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6000"/>
              </a:lnSpc>
              <a:spcAft>
                <a:spcPts val="1412"/>
              </a:spcAft>
              <a:buNone/>
              <a:tabLst>
                <a:tab algn="l" pos="0"/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54280" y="679320"/>
            <a:ext cx="79293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80"/>
                </a:solidFill>
                <a:latin typeface="Times New Roman"/>
              </a:rPr>
              <a:t>Требования к  индивидуальным особенност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753920" y="210024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6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онкая зрительная, слуховая и тактильная чувствительность, быстрая реакц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86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пособность к высокой концентрации и переключению вним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86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ысокая эмоциональная устойчив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86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бщительн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86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чутк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4" descr="C:\Users\admin\Downloads\72026422_7fe6c99ca174_1024x768.png"/>
          <p:cNvPicPr/>
          <p:nvPr/>
        </p:nvPicPr>
        <p:blipFill>
          <a:blip r:embed="rId1"/>
          <a:stretch/>
        </p:blipFill>
        <p:spPr>
          <a:xfrm>
            <a:off x="6897600" y="4637160"/>
            <a:ext cx="27576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3897360" y="351000"/>
            <a:ext cx="618336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Моя 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крёстная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 работа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ет</a:t>
            </a:r>
            <a:br>
              <a:rPr sz="4000"/>
            </a:b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медсестрой 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более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20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лет. Е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ё уважают и ценят коллеги и больные. </a:t>
            </a: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Тётя Ира принимает участие в профессиональных   конкурсах. У неё много грамот и   благодарност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3" descr="C:\Users\admin\Downloads\33992898-Nurse-Showing-Medical-Tools-and-Medicament-Collection-Medicine--Stock-Photo.jpg"/>
          <p:cNvPicPr/>
          <p:nvPr/>
        </p:nvPicPr>
        <p:blipFill>
          <a:blip r:embed="rId1"/>
          <a:stretch/>
        </p:blipFill>
        <p:spPr>
          <a:xfrm>
            <a:off x="396720" y="3914640"/>
            <a:ext cx="346896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8143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000080"/>
                </a:solidFill>
                <a:latin typeface="Times New Roman"/>
              </a:rPr>
              <a:t>Когда в нашей семье кто-нибудь заболевает , мы всегда обращаемся к ней за помощью. Она никогда не отказывает нам, мы все её очень любим и ценим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2" descr="C:\Users\admin\Desktop\Новая папка\img173.jpg"/>
          <p:cNvPicPr/>
          <p:nvPr/>
        </p:nvPicPr>
        <p:blipFill>
          <a:blip r:embed="rId1"/>
          <a:stretch/>
        </p:blipFill>
        <p:spPr>
          <a:xfrm>
            <a:off x="3683160" y="2238480"/>
            <a:ext cx="3565440" cy="5321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1-19T19:03:53Z</dcterms:modified>
  <cp:revision>7</cp:revision>
  <dc:subject/>
  <dc:title>Слайд 1</dc:title>
</cp:coreProperties>
</file>