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0AE-47EA-499D-BAB1-86092C72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C976-20EA-44A4-B58B-7EC7BCAB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5FF-BF21-4CFF-B007-16F3492B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C59-70C0-4E33-A7C4-F17003B2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9FA1-CA08-4D43-B5D3-E8971777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5EFD-703A-4297-AEDB-B8F8541A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73B-D82E-47BC-8FDC-46097CF8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691-2C54-4D65-B881-6C804E4B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1F02-05F9-407B-AD1B-E634018F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D92-B81D-4494-8D30-2F839D1E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73C-2F0D-4600-BDD3-F5D086AB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93A3-6E3B-4652-A6EB-FB1FAF1D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2BC0-E044-49A9-A4E5-DFBD58A9BF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изводство полим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оизводства полимеров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сновным сырьем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ужат мономеры, т.е. вещества, способные соединяться друг с другом, образуя полиме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меры получают путем переработки природных и нефтяных газов, каменного угля, аммиака, углекислоты и других подобных веще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зависимости от метода получения полимеры подразделяются на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олимеризационные, поликонденсационные и модифицированные природные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нополиурета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П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енополиуретан (ППУ). Теплоизоляция трубопров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лотность  - 60-80 кг/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одопоглощение не менее 1,3%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чность на сжатие при 10% линейной деформации не менее 0,3 МП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едел прочности при изгибе не менее 0,5 МП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еплопроводность не более 0,030  Вт/м*К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Теплоизоляционные скорлупы. Пенополиуретан"/>
          <p:cNvPicPr/>
          <p:nvPr/>
        </p:nvPicPr>
        <p:blipFill>
          <a:blip r:embed="rId1"/>
          <a:stretch/>
        </p:blipFill>
        <p:spPr>
          <a:xfrm>
            <a:off x="250920" y="3573360"/>
            <a:ext cx="3295440" cy="15717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3708360" y="3358440"/>
            <a:ext cx="504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нополиурет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П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сткий пенополиурет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в настоящее время все чаще применяется в качеств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плоизоля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зволяющей экономить до 25% тепла. Существует несколько способов такой изоляции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напыление пенополиуретана на смонтированные трубопровод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монтаж теплоизоляционных скорлуп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редизоляция труб (т. н. «труба в трубе»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Применение силик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35880" cy="34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ромышленности находят применение различные кремнийорганические соединения, свойства которых сильно зависят от средней молекулярной массы и структуры макромолеку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ликоновые жидкости обладают большой сжимаемостью и поэтому широко используются в качестве амортизаторов, смазочных масел с низкой температурой замерзания, силиконовых диэлектрических и герметизирующих составо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локсановые резины обладают комплексом уникальных свойств: повышенными термо-, морозо- и огнестойкостью, устойчивостью к облучению различными видами энергии, сопротивлением накоплению остаточной деформации сжатия и т. д. Они применяются в весьма важных областях техники, а относительно высокая их стоимость окупается более длительным сроком эксплуатации по сравнению с резинами на основе углеводородных каучуко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50px-Caulking"/>
          <p:cNvPicPr/>
          <p:nvPr/>
        </p:nvPicPr>
        <p:blipFill>
          <a:blip r:embed="rId1"/>
          <a:stretch/>
        </p:blipFill>
        <p:spPr>
          <a:xfrm>
            <a:off x="395280" y="4653000"/>
            <a:ext cx="2232000" cy="1776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980"/>
          <p:cNvPicPr/>
          <p:nvPr/>
        </p:nvPicPr>
        <p:blipFill>
          <a:blip r:embed="rId2"/>
          <a:stretch/>
        </p:blipFill>
        <p:spPr>
          <a:xfrm>
            <a:off x="6732720" y="4508640"/>
            <a:ext cx="1993680" cy="1476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2557080" y="5084640"/>
            <a:ext cx="2983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ликоновый герме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284720" y="5545440"/>
            <a:ext cx="2879640" cy="1310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илоксановые резины используются для изготовления трубок, уплотнительных жгутов, профилей, колец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39280" y="691920"/>
            <a:ext cx="8280360" cy="583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Пластмассами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пластиками) называются материалы, получаемые на основе </a:t>
            </a:r>
            <a:r>
              <a:rPr b="0" i="1" lang="ru-RU" sz="3200" spc="-1" strike="noStrike">
                <a:solidFill>
                  <a:srgbClr val="333399"/>
                </a:solidFill>
                <a:latin typeface="Times New Roman"/>
              </a:rPr>
              <a:t>полимерны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единений и чаще всего формуемых в изделия методами, основанными на использовании их </a:t>
            </a:r>
            <a:r>
              <a:rPr b="0" i="1" lang="ru-RU" sz="3200" spc="-1" strike="noStrike">
                <a:solidFill>
                  <a:srgbClr val="333399"/>
                </a:solidFill>
                <a:latin typeface="Times New Roman"/>
              </a:rPr>
              <a:t>пластических деформац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еформаци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- изменение взаимного положения частиц тела, связанное с их перемещением друг относительно друг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обратимые деформации, называемые также пластическими, сохраняются после снятия нагруз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сновные компоненты пластм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сновным и обязательным компонентом пластмасс является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име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о только лишь некоторые строительные пластмассы целиком состоят из полимера (например, органическое стекло, состоящее из </a:t>
            </a:r>
            <a:r>
              <a:rPr b="0" i="1" lang="ru-RU" sz="3200" spc="-1" strike="noStrike">
                <a:solidFill>
                  <a:srgbClr val="333399"/>
                </a:solidFill>
                <a:latin typeface="Times New Roman"/>
              </a:rPr>
              <a:t>полиметилметакрилат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имер в пластмассах выполняет роль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вязующе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От вида полимера, его свойств и количества зависят важнейшие свойства этих многокомпонентных материа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сновные компоненты пластм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екоторые термопластичные пластмассы вводится 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пластификато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торый, проникая внутрь полимера, вызывает его набух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этом уменьшаются силы межмолекулярного сцепления и облегчается формуем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собенно необходимо введение пластификатора, когда температура деструкции (разрушения) ниже температуры формования полиме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войства пластм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редняя плотность пластмас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леблется в широком диапазоне — от 15 до 2200 кг/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Наиболее низкую плотность имеют пористые пластмассы. Существенное влияние на плотность оказывают наполнители. В среднем пластмассы в 6 раз легче стали и в 2,5 раза легче алюми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стмассы, как правило, имеют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ысокую проч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к при сжатии, так и при растяжении и изгибе. Предел прочности при сжатии и растяжении наиболее высокопрочных пластмасс (стеклопластиков, древеснослоистых пластиков и др.) достигает 300 МПа и бо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войства пластм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Тверд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ластмасс  это их способность сопротивляться внедрению других тел. Ее оценивают, относя силу, под действием которой внедряется индентор, к размеру отпечатка, образовавшегося при внедр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Даже для таких наиболее твердых пластмасс, как текстолиты (наполнитель— хлопчатобумажная ткань), твердость примерно в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 раз меньше, чем стали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стираем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свойство материала уменьшайся в объеме и массе вследствие разрушения поверхностного слоя под действием истирающих усилий. Количественно истираемость оценивается потерей массы образца, отнесенной к площади истирания в г/с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стмассы (особенно эластичные) обладают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низкой истираемость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Истираемость, например, безосновного однослойного поливинилхлоридного линолеума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0,06 г/см</a:t>
            </a:r>
            <a:r>
              <a:rPr b="1" i="1" lang="ru-RU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, т. е. примерно такая же, как истираемость гранита (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0,025—0,13 г/см</a:t>
            </a:r>
            <a:r>
              <a:rPr b="1" i="1" lang="ru-RU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войства пластм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опротивление пластмасс ударным воздействи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пределяемое отношением ударной энергии на разрушение к площади поперечного сечения образца, достигает высоких значений для плотных пластмасс (50—150 кДж/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и может резко снижаться по мере увеличения их порист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ие пластмассы, подвергаемые растяжению, характеризуются значительной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еформативност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носительное удлин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. е. приращение длины материалов в момент разрыва к его первоначальной длине для пленок из 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олиэтиле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- 300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оливинилхлори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150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зависимости от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модуля упруг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деляют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жесткие, полужесткие, мягкие и эластич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ластма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Жестк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ластмассы  разрушаются хрупко с незначительным удлинением при разрыве (фенолоформальдегидные и полиэфирные пластмассы имеют модуль упругости более 1000 МП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Мягкие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стмассы (полиэтилен и др.) имеют модуль упругости 20— 100 МПа, для них характерно высокое относительное удлинение при разры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Полужестк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ластмассы (полипропилен и др.) имеют промежуточные значения модуля упругости 400—1000 МП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эластичны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стмасс (резины и близких к ней материалов) модуль упругости не превышает 20 МПа, при нормальной температуре деформации их в основном обрат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еплостойкость пластм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Теплостойк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способность материалов сохранять форму и размеры при нагревании под нагрузкой. Температура, при которой форма и размеры начинают меняться, характеризует верхний предел рабочей темп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Теплостойкость по Мартенс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едставляет собой температуру, при которой в стандартном образце, подвергнутом действию регламентированной изгибающей нагрузки, возникают остаточные деформации. Таким образом, теплостойкость по Мартенсу характеризует стабильность формы при повышенных температурах под нагруз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плостойкость пластмасс невелика. Для большинства пластмасс теплостойкость по Мартенсу равна 80-140°С. Некоторые разновидности пластмасс (фторопласт–4, кремнеорганические полимеры) обладают теплостойкостью до 200 - 250 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плостойкость реактопластов определяют по потере массы образца при длительном нагреве при определенной температу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олимеризационные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им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ают в процессе полимеризации мономеров вследствие раскрытия кратных связей (или раскрытия цикла) и соединения элементарных звеньев мономера в длинные цеп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при реакции полимеризации атомы и их группировки не отщепляются, побочные продукты не образуются, химический состав мономера и полимера одина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временные строительные материалы из пластм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ическое стекл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ическое стекло является термопластичным материалом, обладающим высокой прозрачностью - для видимых (до 96 %) к ультрафиолетовых лучей (до 76 %), хорошей перерабатываемостыо, высокими прочностными характеристиками, достаточной стойкостью к атмосферному старению, хорошей маслостойкостью, бензиностойкостью и водостойкост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карбонат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конструкционный материал поликарбонаты используются для деталей машино- и приборостроения, электро- и радиотехники, а в качестве пленки - для кино- и электропромышленности. Поликарбонаты перерабатываются всеми известными методами переработки термоплас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плостойкие пластмассы и стеклопластик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перечисленных выше декоративно-конструкционных пластмасс в отдельную группу выделены теплостойкие пластмассы и стеклопластики, применяемые в ответственных конструкциях и деталях машино- и приборостроения, строительст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ссовочные волокнистые материал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и представляют собой пресс-композицию на основе термореактивного связующ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035"/>
          <p:cNvPicPr/>
          <p:nvPr/>
        </p:nvPicPr>
        <p:blipFill>
          <a:blip r:embed="rId1"/>
          <a:stretch/>
        </p:blipFill>
        <p:spPr>
          <a:xfrm>
            <a:off x="6659640" y="1844640"/>
            <a:ext cx="1657440" cy="1190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040"/>
          <p:cNvPicPr/>
          <p:nvPr/>
        </p:nvPicPr>
        <p:blipFill>
          <a:blip r:embed="rId2"/>
          <a:stretch/>
        </p:blipFill>
        <p:spPr>
          <a:xfrm>
            <a:off x="6948360" y="3500280"/>
            <a:ext cx="12859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лектроизоляционные материалы из пластм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21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кстоли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лектроизоляционный конструкционный материал, применяемый для производства подшипников скольжения, шестерён и других деталей, а также в электро- и радиотехн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убки тефлоновые термостой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едназначены для использования в электрических машинах постоянного и переменного тока (в том числе в водо- и нефтепогружных электродвигателях), а также в электро- и радиотехнических изделиях, работающих в агрессивных средах и в диапазоне температур от –60 до +200 или +250 °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Текстолит"/>
          <p:cNvPicPr/>
          <p:nvPr/>
        </p:nvPicPr>
        <p:blipFill>
          <a:blip r:embed="rId1"/>
          <a:stretch/>
        </p:blipFill>
        <p:spPr>
          <a:xfrm>
            <a:off x="6084720" y="1378080"/>
            <a:ext cx="1997280" cy="1665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Трубка тефлоновая (Химическая промышленность и продукция - Резина и резинотехнические изделия)"/>
          <p:cNvPicPr/>
          <p:nvPr/>
        </p:nvPicPr>
        <p:blipFill>
          <a:blip r:embed="rId2"/>
          <a:stretch/>
        </p:blipFill>
        <p:spPr>
          <a:xfrm>
            <a:off x="5580000" y="3357720"/>
            <a:ext cx="3059280" cy="1712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рубы из полиэтил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ойства полиэтилена делают его очень удобным материалом для изготовления труб самого разного назнач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от водопровода и канализации до газоснабжения, в том числе магистраль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иэтиленовые трубы отличаются дешевизной, легкостью, удобством хранения и транспортировки (трубы малого диаметра изготавливаются в бухтах), обладают повышенной стойкостью к агрессивным химическим средам и коррозионной стойк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убы ПЭН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олговечны, срок их службы может достигать нескольких десятков лет, при этом они не требуют дополнительного обслуживания при эксплуатации. Трубопровод, основанный на ПЭНД трубах, отличается низкой аварийностью, может эксплуатироваться в самых разных погодных условиях, устойчив к замерзанию жидкости внутри труб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Трубы ПНД"/>
          <p:cNvPicPr/>
          <p:nvPr/>
        </p:nvPicPr>
        <p:blipFill>
          <a:blip r:embed="rId1"/>
          <a:stretch/>
        </p:blipFill>
        <p:spPr>
          <a:xfrm>
            <a:off x="395280" y="4869000"/>
            <a:ext cx="2381400" cy="17906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olipropilen"/>
          <p:cNvPicPr/>
          <p:nvPr/>
        </p:nvPicPr>
        <p:blipFill>
          <a:blip r:embed="rId1"/>
          <a:stretch/>
        </p:blipFill>
        <p:spPr>
          <a:xfrm>
            <a:off x="826920" y="692280"/>
            <a:ext cx="3961080" cy="295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1"/>
          <p:cNvPicPr/>
          <p:nvPr/>
        </p:nvPicPr>
        <p:blipFill>
          <a:blip r:embed="rId2"/>
          <a:stretch/>
        </p:blipFill>
        <p:spPr>
          <a:xfrm>
            <a:off x="468360" y="3429000"/>
            <a:ext cx="4105080" cy="306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1"/>
          <p:cNvPicPr/>
          <p:nvPr/>
        </p:nvPicPr>
        <p:blipFill>
          <a:blip r:embed="rId3"/>
          <a:stretch/>
        </p:blipFill>
        <p:spPr>
          <a:xfrm>
            <a:off x="4788000" y="1484280"/>
            <a:ext cx="4176720" cy="3114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056200" y="56844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убы из полипропи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00720" y="515772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пропилен применяется для производства газо- и водопроводных  труб, профилей, листов, пл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основе поливинилхлорида получ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сткие пластмассы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виниплас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ягкие пластмассы (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ластика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ластизол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асты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оливинилхлоридное волокн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Times New Roman"/>
              </a:rPr>
              <a:t>Виниплас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спользуется как жесткий конструкционный материал, применяемый в строительстве в виде погонажа, профилей, т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9999"/>
                </a:solidFill>
                <a:latin typeface="Times New Roman"/>
              </a:rPr>
              <a:t>Пластика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именяется для изготовления пленок, шлангов, клеенки, линолеум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 винипла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няется в производстве листов, труб, профильных изделий, плит. Перерабатывается в широкий ассортимент изделий методами экструзии и каландрования, или прессованием (в виде сухих смесей) и литьем под давлением (в виде предварительно приготовленных гранул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viniplast-list_d28e6331b63b1e1_800x600"/>
          <p:cNvPicPr/>
          <p:nvPr/>
        </p:nvPicPr>
        <p:blipFill>
          <a:blip r:embed="rId1"/>
          <a:stretch/>
        </p:blipFill>
        <p:spPr>
          <a:xfrm>
            <a:off x="5048280" y="126828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ruba_gladkaja_new"/>
          <p:cNvPicPr/>
          <p:nvPr/>
        </p:nvPicPr>
        <p:blipFill>
          <a:blip r:embed="rId2"/>
          <a:stretch/>
        </p:blipFill>
        <p:spPr>
          <a:xfrm>
            <a:off x="4788000" y="4076640"/>
            <a:ext cx="4038480" cy="2401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ссортимент материалов на основе пластикатов чрезвычайно широк — выпускаются материалы для кабелей, шлангов, изоляции, прокладок, обуви, для литьевых изделий, изделий медицинского назначе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fiting_2_max"/>
          <p:cNvPicPr/>
          <p:nvPr/>
        </p:nvPicPr>
        <p:blipFill>
          <a:blip r:embed="rId1"/>
          <a:stretch/>
        </p:blipFill>
        <p:spPr>
          <a:xfrm>
            <a:off x="6588000" y="1557360"/>
            <a:ext cx="218628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1038845"/>
          <p:cNvPicPr/>
          <p:nvPr/>
        </p:nvPicPr>
        <p:blipFill>
          <a:blip r:embed="rId2"/>
          <a:stretch/>
        </p:blipFill>
        <p:spPr>
          <a:xfrm>
            <a:off x="5508720" y="4365720"/>
            <a:ext cx="3314520" cy="215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Polyethylene"/>
          <p:cNvPicPr/>
          <p:nvPr/>
        </p:nvPicPr>
        <p:blipFill>
          <a:blip r:embed="rId3"/>
          <a:stretch/>
        </p:blipFill>
        <p:spPr>
          <a:xfrm>
            <a:off x="4572000" y="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s_2211363"/>
          <p:cNvPicPr/>
          <p:nvPr/>
        </p:nvPicPr>
        <p:blipFill>
          <a:blip r:embed="rId4"/>
          <a:stretch/>
        </p:blipFill>
        <p:spPr>
          <a:xfrm>
            <a:off x="709308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med2"/>
          <p:cNvPicPr/>
          <p:nvPr/>
        </p:nvPicPr>
        <p:blipFill>
          <a:blip r:embed="rId5"/>
          <a:stretch/>
        </p:blipFill>
        <p:spPr>
          <a:xfrm>
            <a:off x="4067280" y="2708280"/>
            <a:ext cx="2498760" cy="10857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нополистиролбето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0384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нополистирол, как ингредиент, применяется при производстве пенополистиролбетона. Этот композитный материал состоит из гранул пенополистирола и портландцемента, и относится к виду легких бетонов. На сегодняшний день применение пенополистиролбетона становится очень частым при проведении строительных работ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Пенополистиролбетон"/>
          <p:cNvPicPr/>
          <p:nvPr/>
        </p:nvPicPr>
        <p:blipFill>
          <a:blip r:embed="rId1"/>
          <a:stretch/>
        </p:blipFill>
        <p:spPr>
          <a:xfrm>
            <a:off x="826920" y="4437000"/>
            <a:ext cx="2454480" cy="1790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4427640" y="2697120"/>
            <a:ext cx="426708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Пенополистиро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это небольшие гранулы размером не более пятнадцати миллиметров. Полистирол нагревают до определенной температуры и добавляют в него газообразователь. Иногда в строительстве для теплоизоляции используют сами гранулы, засыпая их в нужные места. Но чаще всего пенополистирол используется в производстве теплоизоляцион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делий таких, как блоки, плиты и друг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делия из полиурет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Втулки. Полиуретан"/>
          <p:cNvPicPr/>
          <p:nvPr/>
        </p:nvPicPr>
        <p:blipFill>
          <a:blip r:embed="rId1"/>
          <a:stretch/>
        </p:blipFill>
        <p:spPr>
          <a:xfrm>
            <a:off x="395280" y="1916280"/>
            <a:ext cx="1447920" cy="1428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Прокладки. Полиуретан"/>
          <p:cNvPicPr/>
          <p:nvPr/>
        </p:nvPicPr>
        <p:blipFill>
          <a:blip r:embed="rId2"/>
          <a:stretch/>
        </p:blipFill>
        <p:spPr>
          <a:xfrm>
            <a:off x="6588000" y="4365720"/>
            <a:ext cx="1866960" cy="1428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Транспортный ролик. Полиуретан"/>
          <p:cNvPicPr/>
          <p:nvPr/>
        </p:nvPicPr>
        <p:blipFill>
          <a:blip r:embed="rId3"/>
          <a:stretch/>
        </p:blipFill>
        <p:spPr>
          <a:xfrm>
            <a:off x="3492360" y="3860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Прутки. Полиуретан"/>
          <p:cNvPicPr/>
          <p:nvPr/>
        </p:nvPicPr>
        <p:blipFill>
          <a:blip r:embed="rId4"/>
          <a:stretch/>
        </p:blipFill>
        <p:spPr>
          <a:xfrm>
            <a:off x="250920" y="4005360"/>
            <a:ext cx="2085840" cy="1428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Колеса транспортные из полиуретана"/>
          <p:cNvPicPr/>
          <p:nvPr/>
        </p:nvPicPr>
        <p:blipFill>
          <a:blip r:embed="rId5"/>
          <a:stretch/>
        </p:blipFill>
        <p:spPr>
          <a:xfrm>
            <a:off x="6012000" y="141300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Полиуретановая втулка"/>
          <p:cNvPicPr/>
          <p:nvPr/>
        </p:nvPicPr>
        <p:blipFill>
          <a:blip r:embed="rId6"/>
          <a:stretch/>
        </p:blipFill>
        <p:spPr>
          <a:xfrm>
            <a:off x="2124000" y="191628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9"/>
          <p:cNvSpPr/>
          <p:nvPr/>
        </p:nvSpPr>
        <p:spPr>
          <a:xfrm>
            <a:off x="250920" y="1053720"/>
            <a:ext cx="525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тулки полиуретан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целлюлозно-бумажная, картонная промышленности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5790600" y="5804280"/>
            <a:ext cx="30762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кладки из полиуретана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ьзуются для трубопровод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оснаб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3277800" y="5228640"/>
            <a:ext cx="26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ный ролик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5040" y="5353920"/>
            <a:ext cx="366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утки из полиуретан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ются в качестве заготовок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изготовления деталей метод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карной обработ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4934880" y="2852280"/>
            <a:ext cx="39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еса транспор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ческого оборуд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5T06:07:21Z</dcterms:created>
  <dc:creator>Никоваева Елена</dc:creator>
  <dc:description/>
  <dc:language>en-US</dc:language>
  <cp:lastModifiedBy>Юлия</cp:lastModifiedBy>
  <dcterms:modified xsi:type="dcterms:W3CDTF">2020-04-02T18:10:56Z</dcterms:modified>
  <cp:revision>13</cp:revision>
  <dc:subject/>
  <dc:title>Слайд 1</dc:title>
</cp:coreProperties>
</file>