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34D-6709-4812-8267-8C82A0E3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4B9-32B7-4DDA-958B-D4889B5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AEA-7CBF-413A-9F04-40A6E9FE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FA0-FBF6-4E84-A4B3-EAAE4652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A415-9D8B-46BD-8250-EC4026CF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684-9AD2-4D0F-A7F1-A2380960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E4C5-18A9-4D8F-BB88-D76013B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74E5-AD8D-407F-BB56-4D80F43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360-49BA-4B61-8710-6B7722D6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0FB-90C2-4C8D-A949-C73E6C2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262-A6B3-450C-98CA-2DED7B9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E13-88AD-48EF-86D2-0F4F0C16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62B-2A68-4053-9641-4D9B60F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881-2C74-41F5-80E5-1011CCB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46FF-4CA6-43C1-AD71-F3CDA8EA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EBA2-0A04-4F06-B5C1-F3C49713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E9C-FB48-402A-947E-3FEA94CC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B72-2C31-40B0-991C-C04B09E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2A0-F032-439C-B40B-3DDEFBDD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AAD-A64C-4594-95FD-0C8B888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AA0-AE26-4E5B-8039-C8356064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D89-464F-4B8E-9938-66DC594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A5F-A637-4840-890D-1EF282C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150-6C2C-4434-B7E3-0667A69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BF0-77C1-4355-90C3-1EBEE85DA9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362A-70E3-4C49-9B8A-50A831CA3D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Тексты зрительных диктантов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(по И.Т. Федоренко)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пиридонова Валентина Фёдоров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У «Т-С СОШ №2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.Тарко-Сал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009 г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9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а в м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ёная на вк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ша 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б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 мир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ая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ена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или в л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а г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ми.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уки н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м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ой с м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вы у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г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г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ва 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ца на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к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ют са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утаты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че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м и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дивым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вёзды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ют на башнях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л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е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наша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 на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л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устая 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ж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елым сне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али ин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ый р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М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ин мно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и упор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ал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овы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ут о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ы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з 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 вы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наш учи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ли сухих ве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п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 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ж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 п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ца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стройку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ли рамы и двер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х стран 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ят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 ми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ве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л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кнула мол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, и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ел гр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но с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ли и убрали луга 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елка в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 верх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 ветку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и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яр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и дети куп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авы скашивают во время их ц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е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душка Ф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п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т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юблю я в п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х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за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й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ая серая ту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ё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 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ге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ут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от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–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ен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е ра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ре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 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ам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в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пра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с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ый пу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ужная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 и землю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ит в з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у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да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и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пыл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ёт,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наш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ёлый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ею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ху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а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епи Ук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ы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сме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г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ка л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, а трусли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г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кус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.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 и Вика любят 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а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шеб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к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ш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хо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 ми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еми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6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ге водя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хи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щ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ые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т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волки, рыс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в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нист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туманы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тс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уна.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к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овя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к но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у учеб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у году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но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оты в яб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у р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нн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ной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у моря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инулся с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тивный ла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о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не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ту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и,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 д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жд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ажды в студёную зим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ю пору я из 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у вы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ила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п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ли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, и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лся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ок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ы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ли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д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 ё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ч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, липы, клёны и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ёзы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ы были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м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о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на 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ладная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 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о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 уст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ят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рают волны, ве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 сви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, и м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ч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 гнё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и ск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и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8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х выра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т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тоф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свёклу, 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к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л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ждый де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ты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и людей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жают в новы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к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тиры.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ятия спор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ают людям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ной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с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ёт гр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п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 тури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к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ну и уви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за ро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ст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ся д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ий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з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т в ми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и дружбе с другими 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сн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ёт д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жд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е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хму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ля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ел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птиц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о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уст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м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зы.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ику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ла 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тупила о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ни стали к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мног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ёз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ели пт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ч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рк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с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с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це.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да вы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ла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ку.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ут ру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.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ул р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ий 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.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оя 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еж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уч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я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бил де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 х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ц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ы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й украсил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ы ц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ы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янут.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жаркое л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оз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дома 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ли 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с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и гр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Федя 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шал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а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у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ки.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ла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в не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зо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а.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а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х с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кал и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й.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о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с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т на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е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ают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ик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6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ой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ом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и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ил ма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ц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ы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журные стёрли п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 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хоз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ают на лугу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рали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ята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 воз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ё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ро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е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ерыми ту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или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д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бушка купила внуку буква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емлю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е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тёп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лныш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ра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 на фаб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во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е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нне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8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ёт дож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.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лю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наш г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бушк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ёт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 Андрея чи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ай 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у 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вым о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аж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3T17:11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