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9A2-8B7C-4E7A-8C8C-2DB10145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C42-FE97-42BE-80E0-196F3A82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F70-7B14-4BF3-8405-15CA8B7A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D7D-BFDC-48CF-8C08-103BE6AA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E6B7-09CD-4E90-9208-BA6A3398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FBF-26B2-41CD-B9CA-A6DCAE5F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F287-D30E-4233-9630-649C20EB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3ABE-B788-46D6-A465-08256C79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4009-AEBF-4E3A-8C77-58062321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4BB7-F7A9-4A57-9F8C-8360A236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2F04-51DD-4BCA-85EB-62EF2DB9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E12-FA78-4728-9E6C-E7D48F2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8BDA-65C4-4E40-B40C-56B942DF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DBDD-8DA4-47A6-993D-C28E2DFF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395B-2D57-4AFD-8DE1-1A8AE53B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70EC-FA83-4D04-B7FA-E0DF6A6D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E23D-A62C-4ED5-BCAD-BF98B230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F5D-C95D-4ED2-B47B-56894BBF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B50-89FE-474E-B372-E22C84E2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EEF-C166-44CD-914F-E974140B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9CC-5F1D-4C2A-9D2E-6EAA60CF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3C9-0863-4999-AB45-E27E1E15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461-8CCB-4E65-8628-958A8BC6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5C7-6C41-4D09-9F2E-FC41FF94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BCD1-44D6-4AAB-9820-EF79431E06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5AAE-45E4-4099-93B1-3729BCEECE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Тексты зрительных диктантов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(по И.Т. Федоренко)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пиридонова Валентина Фёдоров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У «Т-С СОШ №2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.Тарко-Сале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009 г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9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а в мо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ёная на вку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ша ст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 бо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тся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 мир.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а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ая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ена.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ети х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или в л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за г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ами.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уки на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мы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ой с мы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ивы у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на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г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го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ква с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ица на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ы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ко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ают са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утаты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х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и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на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ы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че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ым и п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дивым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вёзды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ют на башнях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ля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е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 наша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 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а на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лг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е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и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тся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устая 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ж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я 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елым снег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ы 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али ин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ый ра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М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ин мног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и упор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отал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овы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а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ут о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ыст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Из 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ы вы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 наш учи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а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 п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ли сухих ве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по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а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 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ж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и п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ица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 стройку п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ли рамы и двер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ети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х стран х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ят 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 ми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ве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к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 п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хла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кнула мол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, и 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ел гр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но с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или и убрали луга и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я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елка в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а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на верх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ю ветку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и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яр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и дети купа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равы скашивают во время их ц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е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едушка Ф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и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п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т 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юблю я в по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х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ц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4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а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за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й 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ая серая ту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д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ё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й 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йге 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ут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от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 –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ен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е рад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и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ре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с 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ами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ве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пра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и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с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ый пу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ружная 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 и землю 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ит в зо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бу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да 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х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им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ищ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 пыл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5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ц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ёт, 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 наш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ёлый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е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еющ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ху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 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а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е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епи Ук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ы.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сме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г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ака л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, а трусли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г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кус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.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а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 и Вика любят 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а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шебн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ск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.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ш 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хо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 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 ми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о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еми 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од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6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йге водя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тс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хи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щ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ые 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тн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волки, рыс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в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з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нист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туманы 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тс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уна.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ко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 г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овя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тс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к но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у учеб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у году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ног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оты в яб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 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у р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нн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й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ной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у моря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инулся с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тивный лаг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о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не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р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тс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ту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и, 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 д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жд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7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нажды в студёную зим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ю пору я из 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у вы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ила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и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по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з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ли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, и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ился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ок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ы 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или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д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 ё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ч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, липы, клёны и б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ёзы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Ц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ы были 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н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мы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п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о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на к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л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и.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ладная 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 х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о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в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а уст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 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ят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рают волны, вет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 свищ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, и ма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ч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а гнё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тс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и скр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и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8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ях выра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ют 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тоф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свёклу, 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к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в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лу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ждый де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ты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и людей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ъ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жают в новы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к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тиры.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ятия спор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ают людям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х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и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з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ной 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с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т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ёт гру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п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 турис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а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 к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ну и уви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 за ро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ст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ся д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кий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юз 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ет в ми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и дружбе с другими 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а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 сне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ёт до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жд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е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хму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ля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ел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птиц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о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уст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щ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 м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озы.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 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щ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ику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 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у 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ла 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тупила о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ни стали к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оч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 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у мног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ёз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ели пти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ч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.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рк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све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 со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це.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да вы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ла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ку.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е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гут руч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.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ул ре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кий ве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.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Зоя п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еж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учи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4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я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бил де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 х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и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ц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ы.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й украсил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е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.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е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ы ц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ы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янут.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жаркое ле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оз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дома п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или е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5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ц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све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 и гре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.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Федя 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шал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ач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у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ки.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ела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в не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зо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ка.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а д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е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ях св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кал и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й.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Гор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д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 ст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т на 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е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 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у с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ают з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1" lang="en-US" sz="3200" spc="-1" strike="noStrike">
                <a:solidFill>
                  <a:srgbClr val="008000"/>
                </a:solidFill>
                <a:latin typeface="Verdana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ику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6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ой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рыла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ом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а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ик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ил ма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ц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ы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журные стёрли пы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 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к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хоз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отают на лугу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рали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лята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ы ж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и воз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б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ёз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й ро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7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еб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ры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ерыми ту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и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ети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или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д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е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ю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абушка купила внуку буква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емлю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ре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тёп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лныш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 с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ра 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о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 на фаб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аск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во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рел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нне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с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ц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00"/>
                </a:solidFill>
                <a:latin typeface="Garamond"/>
              </a:rPr>
              <a:t>Набор №8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ёт дож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.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ы люб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 наш го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абушка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ёт 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 Андрея чис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я 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ра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д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ай св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у 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ар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щ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Быт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зд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овым оч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важн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555</cp:lastModifiedBy>
  <dcterms:modified xsi:type="dcterms:W3CDTF">2009-08-13T17:11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