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0B9-8120-459E-A364-351BA589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69F-46DC-493B-991E-5FBCAEF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893-1E1D-4565-BDB7-B6B1E7F1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E3C-A5EA-4B0C-A962-C08D9BC1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5692-E990-4E86-AB10-AC888577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9D1F-6A4D-4B9B-9C96-4C1D8B8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364D-5AAA-4BAC-9FD4-6EC029C3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2D7-9FA5-40F7-9F3F-7146EC74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ADE5-5299-4F8F-A59D-BBBB90B0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68C7-77F1-4E52-A4FC-B6FCB39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983B-B0FD-41B0-BF11-71EEFAB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2B2-8897-4F21-8662-9A3C8AE3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B48-C922-4AA1-A930-4FAC014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FC81-3A37-4148-9F00-B8C9D8B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7581-EA26-423A-A99D-C568015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E944-27E9-4940-9C3F-8DC2874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5F22-F1B4-4A7C-88D3-3D0D8258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391-AE1C-417D-A26A-C9DEC68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365-9AA2-4277-9C5C-741AD40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986-53ED-4821-A789-AE56E25B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4EA-2085-4EE8-8A22-EE06205D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BDF-2BE0-4374-8CA3-3754718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1E0-BAFF-483A-9B37-214EE4F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A26-1590-4F2C-A451-510B398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615-F2DD-4DE1-94BB-21C0F61033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A253-75AC-4183-9332-BA80B7E4A7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Развитие</a:t>
            </a: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орфографической зоркости и бокового зрения через зрительные диктанты</a:t>
            </a:r>
            <a:br>
              <a:rPr sz="4600"/>
            </a:br>
            <a:r>
              <a:rPr b="1" i="1" lang="en-US" sz="4600" spc="-1" strike="noStrike">
                <a:solidFill>
                  <a:srgbClr val="3b812f"/>
                </a:solidFill>
                <a:latin typeface="Garamond"/>
              </a:rPr>
              <a:t>(1,2 класс УМК «Гармония»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идонова Валентина Фёд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-С СОШ №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Тарко-Са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9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 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ест т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ебра ест се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 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0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т 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ут в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–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ч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я ры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ша да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 ре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ч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взял ку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ал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я кук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ы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 тянут се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ла в сети щ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 нам п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ла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 пу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ый сне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ё кругом 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ады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ята п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ли в шко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кл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с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и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у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уче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ч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ёт д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нам б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ма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ёт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т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в по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ядя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я сп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 на з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 нам п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ла м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озн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 з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ю ноч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ш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 пуш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ый сне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т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 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ята п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ли на гор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ыстр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л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лыж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санк</a:t>
            </a:r>
            <a:r>
              <a:rPr b="1" lang="en-US" sz="36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ж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ём в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лавный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 от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 п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любим наш славный гор</a:t>
            </a:r>
            <a:r>
              <a:rPr b="1" lang="ru-RU" sz="3200" spc="-1" strike="noStrike">
                <a:solidFill>
                  <a:srgbClr val="167909"/>
                </a:solidFill>
                <a:latin typeface="Arial"/>
              </a:rPr>
              <a:t>о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040" y="279360"/>
            <a:ext cx="8213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а о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О А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ы и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а. А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– 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н – н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нас с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н – 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с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к – л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ы у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-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В   Н    - к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 К      В  - в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  Н      Т   - в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71600" y="914040"/>
            <a:ext cx="762120" cy="1600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914400"/>
            <a:ext cx="761760" cy="1600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828800"/>
            <a:ext cx="762120" cy="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00200" y="3352680"/>
            <a:ext cx="457200" cy="45720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657600"/>
            <a:ext cx="30492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590920" y="3657240"/>
            <a:ext cx="30456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828800" y="4952520"/>
            <a:ext cx="457200" cy="38124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51055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76720" y="51055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76520" y="5638320"/>
            <a:ext cx="457200" cy="30492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57913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24080" y="5791320"/>
            <a:ext cx="228600" cy="304560"/>
          </a:xfrm>
          <a:prstGeom prst="line">
            <a:avLst/>
          </a:prstGeom>
          <a:ln w="9360">
            <a:solidFill>
              <a:srgbClr val="167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 м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и с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ты 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куста 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 д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дуба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п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вы сы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 ро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лу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ны гр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ака л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ён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п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Набор №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 со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с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ны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ы за</a:t>
            </a:r>
            <a:r>
              <a:rPr b="1" lang="en-US" sz="4000" spc="-1" strike="noStrike">
                <a:solidFill>
                  <a:srgbClr val="167909"/>
                </a:solidFill>
                <a:latin typeface="Arial"/>
              </a:rPr>
              <a:t>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2T09:5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