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63E-06BA-4479-B589-EFFC7E53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CED-CB7D-443C-A233-081C925D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FBF-1791-41B0-99DA-F620FC7E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90B-A84D-4600-BF54-B17118DA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F0B0-8405-4E57-8956-6B5C666E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2138-698A-4DA9-9437-8FF2C941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9D76-BDAE-4F90-B99D-C6480824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9080-C397-43EE-9C6B-9B592A45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BD9D-3223-4E43-A49F-EB567688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25BD-A222-4AC8-8AB2-9C505DDC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D321-0F54-46BC-86A1-1FE5E096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580-0536-4E27-AAB3-EB9C2419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A752-3A39-4A7D-91FD-596852BA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906B-C0A0-4E47-922A-07FCF41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C16F-677E-4F8D-9042-DEC266CA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4432-4819-4064-8639-C3E053AA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C21B-2459-401B-8283-600830C4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388-D4B1-4AAB-B763-C4CEEEB6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5AE-8D53-449D-8A32-7FE27A3E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760-5F74-48BD-9F98-0A60CB12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56E-0F62-4B6B-9170-7289AECA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CE7-0156-45D0-AF22-BCB50924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E31-8482-4A2E-9390-6B7176BA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5DA-51FE-416D-AE9C-C03F68FA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414D-10FC-4981-BF1F-29FFE6F2763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8348-A1D0-4634-8616-1DBC1329438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3b812f"/>
                </a:solidFill>
                <a:latin typeface="Garamond"/>
              </a:rPr>
              <a:t>Развитие</a:t>
            </a:r>
            <a:r>
              <a:rPr b="1" i="1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4600" spc="-1" strike="noStrike">
                <a:solidFill>
                  <a:srgbClr val="3b812f"/>
                </a:solidFill>
                <a:latin typeface="Garamond"/>
              </a:rPr>
              <a:t>орфографической зоркости и бокового зрения через зрительные диктанты</a:t>
            </a:r>
            <a:br>
              <a:rPr sz="4600"/>
            </a:br>
            <a:r>
              <a:rPr b="1" i="1" lang="en-US" sz="4600" spc="-1" strike="noStrike">
                <a:solidFill>
                  <a:srgbClr val="3b812f"/>
                </a:solidFill>
                <a:latin typeface="Garamond"/>
              </a:rPr>
              <a:t>(1,2 класс УМК «Гармония»)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ридонова Валентина Фёд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Т-С СОШ №2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Тарко-Са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9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9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 к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 ест т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ебра ест сен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 р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 н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10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ж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ут в 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ш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ж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ут в 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Щ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 – 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ч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я рыб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ша дач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у ре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чк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1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ля взял куб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ала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я кук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ыб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и тянут сет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ла в сети щ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1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 нам п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шла з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п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 пуш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ый сне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ё кругом п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е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т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ч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рады з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1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ята п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шли в шко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кла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сс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ёт 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ит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уч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 уч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уч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ёт учен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ь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1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в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ч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я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ёт д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нам б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 ма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ётя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ля 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т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а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 в по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ядя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ля сп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 на з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15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 нам пр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шла м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озн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 з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ю ноч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ш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 пуш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ый сне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тр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 р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ята п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шли на гор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ыстр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к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л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лыж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и санк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ж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ём в гор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к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лавный гор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 от гор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 пр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 р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 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любим наш славный гор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3040" y="279360"/>
            <a:ext cx="8213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а о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О А 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ы и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а. А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н – с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н – н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н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нас са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н – с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с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к – лу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ы у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- ко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В   Н    - кор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   К      В  - вор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  Н      Т   - в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371600" y="914040"/>
            <a:ext cx="762120" cy="160020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914400"/>
            <a:ext cx="761760" cy="160020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828800"/>
            <a:ext cx="762120" cy="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00200" y="3352680"/>
            <a:ext cx="457200" cy="45720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657600"/>
            <a:ext cx="304920" cy="30492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590920" y="3657240"/>
            <a:ext cx="304560" cy="30492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828800" y="4952520"/>
            <a:ext cx="457200" cy="38124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5105520"/>
            <a:ext cx="228600" cy="30456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276720" y="5105520"/>
            <a:ext cx="228600" cy="30456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676520" y="5638320"/>
            <a:ext cx="457200" cy="30492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5791320"/>
            <a:ext cx="228600" cy="30456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124080" y="5791320"/>
            <a:ext cx="228600" cy="30456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5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и ма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ли с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ты у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куста а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и ду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дуба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н па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овы сы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и р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лу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ны г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ака ла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ён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сп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8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 со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с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ны 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ны за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555</cp:lastModifiedBy>
  <dcterms:modified xsi:type="dcterms:W3CDTF">2009-08-12T09:53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