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A41D-9E63-4790-874A-197F6DAE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7645-4555-4E3C-89F3-E1F564BB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5DAF-33BB-45BA-885A-E5244258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DDB0-28AB-47D5-8C77-0A197CA5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4929-217A-4DF5-97C4-B869CC96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FCBE-63AF-44BA-88AA-D7F6500D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70C3-7259-4FB4-A8A8-80CD33AD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8307-8B4A-453A-990F-40A9BD48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0754-0CB9-4BD0-997D-CFF5203C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4996-F9A8-46D2-82CF-7A0B089C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277A-8917-434A-B4B4-ECC1D08B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FC53-EF40-4F7E-B46E-A60BDC7F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DAFC-EC43-4B23-8B6B-498BB469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5513-8E49-4ACB-BFB8-B5508FD2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FD8F-584D-4322-9C72-2C40C083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6B71-AD93-432E-B4DB-8D63A4ED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7E1B-7998-453B-8942-B250083F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C7B-629A-43B9-9CA2-AF2EFF85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D722-A4CE-44D4-BEBD-5B765205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71E7-4B16-4776-B627-73F4AAD5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8E1-631A-46F1-9682-4E41129D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C5F-A6F9-4CEA-878D-E40A043D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7569-FF9D-4FD5-B43B-D7EEABBD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7CF-0FE6-4C8F-B654-AE2B8FB1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8887-1A87-45F5-B9A5-8B88C92511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017D-24CF-437C-82AA-BFF23BCC83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Развитие орфографической зоркости.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Наборы по «Азбуке» Бетеньковой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265640"/>
            <a:ext cx="64008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иридонова Валентина Фёдо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У «Т-С СОШ №2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. Тарко-Сале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009 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гир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гир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г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игр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г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гор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орк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1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он –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он –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о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он –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а –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о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1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осы –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ам – с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ле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с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– 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ли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с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– 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1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он – но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о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с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– н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он – сло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лон – с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1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о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т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– к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т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У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ко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т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У к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та усы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о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т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- кот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1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ду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б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– дуб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ду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б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– дубок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у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– суп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зу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б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– зуб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1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о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т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– кро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ро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т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– кр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т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тол – сто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то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б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– ст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лб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1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горы – г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г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ра – гор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оры – н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ра – нор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1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В 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у е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У ели 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а у н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ры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Там 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ят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м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ма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мáл</a:t>
            </a: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лá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1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У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Л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юс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юл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В 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у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У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Л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ёни ёлк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Я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а гулял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2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У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М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аш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ч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ы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У 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С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аш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лыж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В р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е щ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у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В 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у ёж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2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дёт гус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дут гус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Б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гут кон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Б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т кон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а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я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л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ля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а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я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е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ё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ы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и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ы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ыл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ам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ян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Л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ен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Л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ён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Н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ин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Л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ин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лин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лё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Инн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Анн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Л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ан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Е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лен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бор №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Анн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Алл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Элл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Эмм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555</cp:lastModifiedBy>
  <dcterms:modified xsi:type="dcterms:W3CDTF">2009-08-12T10:48:1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