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133-A197-4DD2-97CD-8D0BAA97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146-4177-4A75-8679-4607657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93A-7154-4F11-8649-B1468A94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168-6BFE-43F8-8966-48EA5400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693-AC62-4CB1-AFCB-3E0BDBD8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33E-01C2-4414-A11B-71E9F57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945-486D-4768-A259-721967F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1FA-6634-4898-BF74-102E8ED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2732-B023-40A4-9C3B-739EAAA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4A3B-5273-40F7-9A94-C057F1A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C8E8-57A3-49AD-9987-667DDB5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783-38AF-439C-A354-5E586A30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014F-CD4A-4AEA-B42A-A2F34D2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92F-2A2B-47E6-A492-02F0324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20C-5E2E-4A72-AAC1-E462C1D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B267-EF2F-4CCA-93E4-9BC95C6D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B0A-813D-4FC5-ADAD-0FC7D574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CCD-A9B1-496F-B198-D94077E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1F4-D8B2-4FA5-A2C0-532B57AE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536-F079-4883-B844-8F9AB33F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C4B-4E1F-4006-87FE-4EB48C5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CDF-A6D8-4EFC-AF72-8E7EEEF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C7A-8362-4F6F-B050-53BB840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AAB-1F54-463E-8F2A-D9C19F51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79C-4185-4F24-905B-FB08FBCFF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573-4904-4D73-AB2B-8033694EB4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звитие орфографической зоркости.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боры по «Азбуке» Бетеньковой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65640"/>
            <a:ext cx="64008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ридонова Валентина Фёд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Т-С СОШ №2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Тарко-Сал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и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и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г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р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сы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м – 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и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н – н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н – сло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лон – с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к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а ус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- кот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дуб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дубо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суп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з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зу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р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тол – сто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то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ст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б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оры – г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 – г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ры –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 – н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е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ели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 у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ам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я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áл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á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ю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ю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ёни ёл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Я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 гуля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ш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ч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ш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лы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е щ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ё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ёт гу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т гу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ут ко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 ко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я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я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ё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и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я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е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ё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ё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л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Эл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Эмм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2T10:48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