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0FD1-F2AE-4853-8C6D-147AFA7598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1BAE-953F-4C30-8009-DC40381628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67D2-5022-4371-B3E5-203EB4CB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9B58-5575-484B-8829-E559FBD7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180D-98C1-4B9E-97BE-38F83A8F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21B9-2009-4E1D-993A-39676642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D7A-1001-4F49-96A1-87203AB6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160D-CF43-48E2-9EFD-7C28508D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17A3-F5E9-499C-8833-945E96A8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1E4D-C87E-424D-8505-EA019271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7EB2-722D-4D7A-9A1F-32C87CA8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62E-BEA5-4471-886A-E1A08F58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4746-9A1E-406C-9AD0-D0F29351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5608-3F24-4750-830C-B4B10BE0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5D9C-5913-487D-8276-106B13F705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metaprom.ru/factories/soda.html" TargetMode="External"/><Relationship Id="rId3" Type="http://schemas.openxmlformats.org/officeDocument/2006/relationships/hyperlink" Target="http://www.metaprom.ru/factories/kaustik.html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6" descr=""/>
          <p:cNvPicPr/>
          <p:nvPr/>
        </p:nvPicPr>
        <p:blipFill>
          <a:blip r:embed="rId2"/>
          <a:stretch/>
        </p:blipFill>
        <p:spPr>
          <a:xfrm>
            <a:off x="208080" y="133200"/>
            <a:ext cx="7802280" cy="334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428760" y="1428840"/>
            <a:ext cx="5715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имическая промышленност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является одной из цент-ральных отраслей современной мировой экономики. Основная задача химической промышленности – пере-работка и превращение различных видов сырья, таких, как нефть, природный газ, уголь, руды, минералы, других полезных ископаемых, а также воды, воздуха в разно-образные продук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286680" y="1428840"/>
            <a:ext cx="2357280" cy="17683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500040" y="3357720"/>
            <a:ext cx="821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Химизация народного хозяйств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– один из решающих рычагов повышения эффективности производства и качества работы во всех сферах деятельности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5" descr=""/>
          <p:cNvPicPr/>
          <p:nvPr/>
        </p:nvPicPr>
        <p:blipFill>
          <a:blip r:embed="rId2"/>
          <a:stretch/>
        </p:blipFill>
        <p:spPr>
          <a:xfrm>
            <a:off x="208080" y="195120"/>
            <a:ext cx="4503600" cy="107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571680" y="4286160"/>
            <a:ext cx="2307960" cy="1928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3286080" y="4214880"/>
            <a:ext cx="1906560" cy="2000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5"/>
          <a:stretch/>
        </p:blipFill>
        <p:spPr>
          <a:xfrm>
            <a:off x="5742000" y="4143240"/>
            <a:ext cx="2759040" cy="200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1" descr=""/>
          <p:cNvPicPr/>
          <p:nvPr/>
        </p:nvPicPr>
        <p:blipFill>
          <a:blip r:embed="rId1"/>
          <a:stretch/>
        </p:blipFill>
        <p:spPr>
          <a:xfrm>
            <a:off x="-115920" y="285840"/>
            <a:ext cx="5632560" cy="9205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785880" y="135720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ОАО "Сода"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(г. Стерлитамак) – крупнейшее предприятие химической промышленности, производство: кальцинированная сода, бикарбона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трия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л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жа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р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АО "Каустик"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– крупное предприятие, входит в холдинг «Башкирская химия», выпускает следующую химическую продукцию: сода каустическая, поливинилхлорид, кабельные пластикаты, эпихлоргидрин;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357120" y="128592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Директора ОАО &quot;Сода&quot; требуют досрочно прекратить полномочия …"/>
          <p:cNvPicPr/>
          <p:nvPr/>
        </p:nvPicPr>
        <p:blipFill>
          <a:blip r:embed="rId4"/>
          <a:stretch/>
        </p:blipFill>
        <p:spPr>
          <a:xfrm>
            <a:off x="4214880" y="2643120"/>
            <a:ext cx="2916000" cy="142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http://im0-tub-ru.yandex.net/i?id=26d201f930ef521aa54b7b7b1028ea1c-48-144&amp;n=24"/>
          <p:cNvPicPr/>
          <p:nvPr/>
        </p:nvPicPr>
        <p:blipFill>
          <a:blip r:embed="rId5"/>
          <a:stretch/>
        </p:blipFill>
        <p:spPr>
          <a:xfrm>
            <a:off x="2000160" y="5072040"/>
            <a:ext cx="1471680" cy="1523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С-ПВХ В РОССИИ: рост под знаком дефицита"/>
          <p:cNvPicPr/>
          <p:nvPr/>
        </p:nvPicPr>
        <p:blipFill>
          <a:blip r:embed="rId6"/>
          <a:stretch/>
        </p:blipFill>
        <p:spPr>
          <a:xfrm>
            <a:off x="4572000" y="5072040"/>
            <a:ext cx="2000160" cy="1217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http://im0-tub-ru.yandex.net/i?id=eb1626048092af79fac5e487cc27c66f-64-144&amp;n=24"/>
          <p:cNvPicPr/>
          <p:nvPr/>
        </p:nvPicPr>
        <p:blipFill>
          <a:blip r:embed="rId7"/>
          <a:stretch/>
        </p:blipFill>
        <p:spPr>
          <a:xfrm>
            <a:off x="1785960" y="2643120"/>
            <a:ext cx="1643040" cy="1500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928800" y="1785960"/>
            <a:ext cx="721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АО "Уфаоргсинтез" (УОС) – крупное нефтехимическое предприятие Башкирии, один из ведущих в РФ производитель ацетона, фенола, альфа-метилстирола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im1-tub-ru.yandex.net/i?id=c9335f8a520f65cee3d5125697d56b8f-73-144&amp;n=24"/>
          <p:cNvPicPr/>
          <p:nvPr/>
        </p:nvPicPr>
        <p:blipFill>
          <a:blip r:embed="rId1"/>
          <a:stretch/>
        </p:blipFill>
        <p:spPr>
          <a:xfrm>
            <a:off x="1071720" y="2928960"/>
            <a:ext cx="3357360" cy="1785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im2-tub-ru.yandex.net/i?id=db3cddbe7f96c48cf51f443543c33050-127-144&amp;n=24"/>
          <p:cNvPicPr/>
          <p:nvPr/>
        </p:nvPicPr>
        <p:blipFill>
          <a:blip r:embed="rId2"/>
          <a:stretch/>
        </p:blipFill>
        <p:spPr>
          <a:xfrm>
            <a:off x="4857840" y="2928960"/>
            <a:ext cx="2286000" cy="17082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642960" y="46432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АО "Стерлитамакский нефтехимический завод" СНХЗ (г.Стерлитамак) – завод-производитель химической продукции (стабилизаторы, каучуки, отвердители и пр.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7" descr=""/>
          <p:cNvPicPr/>
          <p:nvPr/>
        </p:nvPicPr>
        <p:blipFill>
          <a:blip r:embed="rId3"/>
          <a:stretch/>
        </p:blipFill>
        <p:spPr>
          <a:xfrm>
            <a:off x="281160" y="390600"/>
            <a:ext cx="4797360" cy="6951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214200" y="1428840"/>
            <a:ext cx="87156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АО "ПОЛИЭФ" – завод расположен в г. Благовещенск республики Башкортостан, является единственным в России производитем кислоты терефталев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АО "Синтез-каучук" - предприятие расположено в г. Стерлитамак и является одним из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упнейших в России производителей каучу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Прямоугольник 3" descr=""/>
          <p:cNvPicPr/>
          <p:nvPr/>
        </p:nvPicPr>
        <p:blipFill>
          <a:blip r:embed="rId1"/>
          <a:stretch/>
        </p:blipFill>
        <p:spPr>
          <a:xfrm>
            <a:off x="-115920" y="285840"/>
            <a:ext cx="5632560" cy="920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http://im1-tub-ru.yandex.net/i?id=a50210044495d7183960c70577ce3fa1-37-144&amp;n=24"/>
          <p:cNvPicPr/>
          <p:nvPr/>
        </p:nvPicPr>
        <p:blipFill>
          <a:blip r:embed="rId2"/>
          <a:stretch/>
        </p:blipFill>
        <p:spPr>
          <a:xfrm>
            <a:off x="1357200" y="2143080"/>
            <a:ext cx="2286000" cy="1414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http://im0-tub-ru.yandex.net/i?id=732b991b1ba680983ccde7dd5214eee8-51-144&amp;n=24"/>
          <p:cNvPicPr/>
          <p:nvPr/>
        </p:nvPicPr>
        <p:blipFill>
          <a:blip r:embed="rId3"/>
          <a:stretch/>
        </p:blipFill>
        <p:spPr>
          <a:xfrm>
            <a:off x="4714920" y="4357800"/>
            <a:ext cx="3314520" cy="1839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http://im0-tub-ru.yandex.net/i?id=0e7555ddc01b4cb11bd8254093736db3-30-144&amp;n=24"/>
          <p:cNvPicPr/>
          <p:nvPr/>
        </p:nvPicPr>
        <p:blipFill>
          <a:blip r:embed="rId4"/>
          <a:stretch/>
        </p:blipFill>
        <p:spPr>
          <a:xfrm>
            <a:off x="1285920" y="4429080"/>
            <a:ext cx="2643120" cy="1817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im1-tub-ru.yandex.net/i?id=3447d20dd265b5d9ebea25ab79e6dd2e-82-144&amp;n=21"/>
          <p:cNvPicPr/>
          <p:nvPr/>
        </p:nvPicPr>
        <p:blipFill>
          <a:blip r:embed="rId5"/>
          <a:stretch/>
        </p:blipFill>
        <p:spPr>
          <a:xfrm>
            <a:off x="4429080" y="2143080"/>
            <a:ext cx="2316240" cy="1357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Прямоугольник 2" descr=""/>
          <p:cNvPicPr/>
          <p:nvPr/>
        </p:nvPicPr>
        <p:blipFill>
          <a:blip r:embed="rId1"/>
          <a:stretch/>
        </p:blipFill>
        <p:spPr>
          <a:xfrm>
            <a:off x="781200" y="1133640"/>
            <a:ext cx="7729560" cy="32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6:21:53Z</dcterms:created>
  <dc:creator>Дом</dc:creator>
  <dc:description/>
  <dc:language>en-US</dc:language>
  <cp:lastModifiedBy>Юлия</cp:lastModifiedBy>
  <dcterms:modified xsi:type="dcterms:W3CDTF">2020-04-02T17:51:04Z</dcterms:modified>
  <cp:revision>105</cp:revision>
  <dc:subject/>
  <dc:title>Слайд 1</dc:title>
</cp:coreProperties>
</file>