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9A567-C46D-4C82-8B2C-1E70C3C61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A4F89-4F91-4859-BD44-D74017FAA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876A3-0C09-46DA-B36C-E6B03745C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BB3F9-9974-4D55-BEDC-BBB7FD87A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0951C-D1A7-4F7E-9CFF-4B45DC041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7BC0A-B5BF-4F75-9522-D14093BDD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007B8-1643-4B0C-AD86-234710959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5D081-65A2-456B-8F50-67A7F8CD4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48804-E604-45A4-9D68-1FC269D79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7A683-8E3E-4F59-9E1A-F5C9EDA6E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93A5B-DBCB-46AE-8247-F327A834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F8CD6-CF1A-4719-9EC8-3311EDB16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B5482-9D7D-4F74-AAA6-E85EAB5D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36B60-C17C-4CF7-83A6-2AC67790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70040-C687-412E-828D-EF745D11E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B6487-3689-4901-AAC6-604270E54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43B3F-B372-455A-803C-12ABB73A4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D81BF-A8B3-43A2-A38F-A4771DCF1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70623-F812-428C-846E-7EFD8BEB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85374-2744-443E-8C2F-5406EC2C0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9E081-4009-4F37-B219-54006D32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0A5AF-4BE8-424F-80F3-D6803230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DC5F4-0553-4AF2-8CA3-90CDC72D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3948D-55DA-4B11-A83E-18505E83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2D297-CAA9-4DB7-826B-A75B543C77F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3C36-E75A-4EC4-A6F8-1D6C62546C4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8.xml"/><Relationship Id="rId3" Type="http://schemas.openxmlformats.org/officeDocument/2006/relationships/slide" Target="slide18.xml"/><Relationship Id="rId4" Type="http://schemas.openxmlformats.org/officeDocument/2006/relationships/slide" Target="slide17.xml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7.xml"/><Relationship Id="rId3" Type="http://schemas.openxmlformats.org/officeDocument/2006/relationships/slide" Target="slide18.xml"/><Relationship Id="rId4" Type="http://schemas.openxmlformats.org/officeDocument/2006/relationships/slide" Target="slide18.xml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7.xml"/><Relationship Id="rId3" Type="http://schemas.openxmlformats.org/officeDocument/2006/relationships/slide" Target="slide18.xml"/><Relationship Id="rId4" Type="http://schemas.openxmlformats.org/officeDocument/2006/relationships/slide" Target="slide18.xml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8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8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7.xml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7.xml"/><Relationship Id="rId3" Type="http://schemas.openxmlformats.org/officeDocument/2006/relationships/slide" Target="slide18.xml"/><Relationship Id="rId4" Type="http://schemas.openxmlformats.org/officeDocument/2006/relationships/slide" Target="slide18.xml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8.xml"/><Relationship Id="rId3" Type="http://schemas.openxmlformats.org/officeDocument/2006/relationships/slide" Target="slide18.xml"/><Relationship Id="rId4" Type="http://schemas.openxmlformats.org/officeDocument/2006/relationships/slide" Target="slide17.xm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8.xml"/><Relationship Id="rId3" Type="http://schemas.openxmlformats.org/officeDocument/2006/relationships/slide" Target="slide18.xml"/><Relationship Id="rId4" Type="http://schemas.openxmlformats.org/officeDocument/2006/relationships/slide" Target="slide11.xml"/><Relationship Id="rId5" Type="http://schemas.openxmlformats.org/officeDocument/2006/relationships/slide" Target="slide18.xm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7.xml"/><Relationship Id="rId3" Type="http://schemas.openxmlformats.org/officeDocument/2006/relationships/slide" Target="slide18.xml"/><Relationship Id="rId4" Type="http://schemas.openxmlformats.org/officeDocument/2006/relationships/slide" Target="slide18.xm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8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7.xml"/><Relationship Id="rId3" Type="http://schemas.openxmlformats.org/officeDocument/2006/relationships/slide" Target="slide18.xml"/><Relationship Id="rId4" Type="http://schemas.openxmlformats.org/officeDocument/2006/relationships/slide" Target="slide18.xm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8.xml"/><Relationship Id="rId3" Type="http://schemas.openxmlformats.org/officeDocument/2006/relationships/slide" Target="slide18.xml"/><Relationship Id="rId4" Type="http://schemas.openxmlformats.org/officeDocument/2006/relationships/slide" Target="slide18.xml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8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Тест ЕГЭ по математике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11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ница математик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нгуш Сесек Калдар-ооло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4"/>
          <p:cNvSpPr txBox="1"/>
          <p:nvPr/>
        </p:nvSpPr>
        <p:spPr>
          <a:xfrm>
            <a:off x="7236000" y="5950080"/>
            <a:ext cx="1328400" cy="36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але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99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600"/>
                            </p:stCondLst>
                            <p:childTnLst>
                              <p:par>
                                <p:cTn id="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1800"/>
                            </p:stCondLst>
                            <p:childTnLst>
                              <p:par>
                                <p:cTn id="2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8600"/>
                            </p:stCondLst>
                            <p:childTnLst>
                              <p:par>
                                <p:cTn id="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3964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234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231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324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4" action="ppaction://hlinksldjump"/>
              </a:rPr>
              <a:t>32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 №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WordArt 5"/>
          <p:cNvSpPr txBox="1"/>
          <p:nvPr/>
        </p:nvSpPr>
        <p:spPr>
          <a:xfrm>
            <a:off x="7236000" y="5950080"/>
            <a:ext cx="1328400" cy="36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але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99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5"/>
          <a:stretch/>
        </p:blipFill>
        <p:spPr>
          <a:xfrm>
            <a:off x="468360" y="1268280"/>
            <a:ext cx="74883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9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20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40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20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6000"/>
                            </p:stCondLst>
                            <p:childTnLst>
                              <p:par>
                                <p:cTn id="2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0,09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                                                         2.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0,0009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0,009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                                                         4.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4" action="ppaction://hlinksldjump"/>
              </a:rPr>
              <a:t>3,5 м/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 №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WordArt 5"/>
          <p:cNvSpPr txBox="1"/>
          <p:nvPr/>
        </p:nvSpPr>
        <p:spPr>
          <a:xfrm>
            <a:off x="7236000" y="5950080"/>
            <a:ext cx="1328400" cy="36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але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99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9" name="Picture 7" descr=""/>
          <p:cNvPicPr/>
          <p:nvPr/>
        </p:nvPicPr>
        <p:blipFill>
          <a:blip r:embed="rId5"/>
          <a:stretch/>
        </p:blipFill>
        <p:spPr>
          <a:xfrm>
            <a:off x="611280" y="1413000"/>
            <a:ext cx="79930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20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4000"/>
                            </p:stCondLst>
                            <p:childTnLst>
                              <p:par>
                                <p:cTn id="2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2000"/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3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7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77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4" action="ppaction://hlinksldjump"/>
              </a:rPr>
              <a:t>7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 №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WordArt 5"/>
          <p:cNvSpPr txBox="1"/>
          <p:nvPr/>
        </p:nvSpPr>
        <p:spPr>
          <a:xfrm>
            <a:off x="7236000" y="5950080"/>
            <a:ext cx="1328400" cy="36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але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99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3" name="Picture 6" descr=""/>
          <p:cNvPicPr/>
          <p:nvPr/>
        </p:nvPicPr>
        <p:blipFill>
          <a:blip r:embed="rId5"/>
          <a:stretch/>
        </p:blipFill>
        <p:spPr>
          <a:xfrm>
            <a:off x="755640" y="1413000"/>
            <a:ext cx="7848720" cy="20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4000"/>
                            </p:stCondLst>
                            <p:childTnLst>
                              <p:par>
                                <p:cTn id="2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12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1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 18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) 3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4.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4" action="ppaction://hlinksldjump"/>
              </a:rPr>
              <a:t>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 №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WordArt 12"/>
          <p:cNvSpPr txBox="1"/>
          <p:nvPr/>
        </p:nvSpPr>
        <p:spPr>
          <a:xfrm>
            <a:off x="7236000" y="5950080"/>
            <a:ext cx="1328400" cy="36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але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99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7" name="Picture 13" descr=""/>
          <p:cNvPicPr/>
          <p:nvPr/>
        </p:nvPicPr>
        <p:blipFill>
          <a:blip r:embed="rId5"/>
          <a:stretch/>
        </p:blipFill>
        <p:spPr>
          <a:xfrm>
            <a:off x="684360" y="1268280"/>
            <a:ext cx="7848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2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10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10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4000"/>
                            </p:stCondLst>
                            <p:childTnLst>
                              <p:par>
                                <p:cTn id="2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1000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0"/>
                            </p:stCondLst>
                            <p:childTnLst>
                              <p:par>
                                <p:cTn id="2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30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300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4" action="ppaction://hlinksldjump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 №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WordArt 5"/>
          <p:cNvSpPr txBox="1"/>
          <p:nvPr/>
        </p:nvSpPr>
        <p:spPr>
          <a:xfrm>
            <a:off x="7236000" y="5950080"/>
            <a:ext cx="1328400" cy="36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але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99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1" name="Picture 6" descr=""/>
          <p:cNvPicPr/>
          <p:nvPr/>
        </p:nvPicPr>
        <p:blipFill>
          <a:blip r:embed="rId5"/>
          <a:stretch/>
        </p:blipFill>
        <p:spPr>
          <a:xfrm>
            <a:off x="684360" y="1341360"/>
            <a:ext cx="78483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2000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 -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-1,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0,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413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412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142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14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 №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WordArt 5"/>
          <p:cNvSpPr txBox="1"/>
          <p:nvPr/>
        </p:nvSpPr>
        <p:spPr>
          <a:xfrm>
            <a:off x="7236000" y="5950080"/>
            <a:ext cx="1328400" cy="36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але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99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5" name="Picture 6" descr=""/>
          <p:cNvPicPr/>
          <p:nvPr/>
        </p:nvPicPr>
        <p:blipFill>
          <a:blip r:embed="rId3"/>
          <a:stretch/>
        </p:blipFill>
        <p:spPr>
          <a:xfrm>
            <a:off x="468360" y="1125360"/>
            <a:ext cx="7704000" cy="719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"/>
          <p:cNvPicPr/>
          <p:nvPr/>
        </p:nvPicPr>
        <p:blipFill>
          <a:blip r:embed="rId4"/>
          <a:stretch/>
        </p:blipFill>
        <p:spPr>
          <a:xfrm>
            <a:off x="324000" y="1916280"/>
            <a:ext cx="4176720" cy="1800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"/>
          <p:cNvPicPr/>
          <p:nvPr/>
        </p:nvPicPr>
        <p:blipFill>
          <a:blip r:embed="rId5"/>
          <a:stretch/>
        </p:blipFill>
        <p:spPr>
          <a:xfrm>
            <a:off x="4643280" y="1916280"/>
            <a:ext cx="4321440" cy="17287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"/>
          <p:cNvPicPr/>
          <p:nvPr/>
        </p:nvPicPr>
        <p:blipFill>
          <a:blip r:embed="rId6"/>
          <a:stretch/>
        </p:blipFill>
        <p:spPr>
          <a:xfrm>
            <a:off x="7308720" y="4005360"/>
            <a:ext cx="36828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0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2000"/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200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6000"/>
                            </p:stCondLst>
                            <p:childTnLst>
                              <p:par>
                                <p:cTn id="3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28                  4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 №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WordArt 5"/>
          <p:cNvSpPr txBox="1"/>
          <p:nvPr/>
        </p:nvSpPr>
        <p:spPr>
          <a:xfrm>
            <a:off x="7236000" y="5950080"/>
            <a:ext cx="1328400" cy="36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але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99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72" name="Picture 6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698508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9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20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4000"/>
                            </p:stCondLst>
                            <p:childTnLst>
                              <p:par>
                                <p:cTn id="3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WordArt 2"/>
          <p:cNvSpPr txBox="1"/>
          <p:nvPr/>
        </p:nvSpPr>
        <p:spPr>
          <a:xfrm>
            <a:off x="1763640" y="2492280"/>
            <a:ext cx="5761080" cy="184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ffff00">
                        <a:alpha val="50196"/>
                      </a:srgbClr>
                    </a:gs>
                    <a:gs pos="100000">
                      <a:srgbClr val="ff99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авильно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ffff00">
                      <a:alpha val="50196"/>
                    </a:srgbClr>
                  </a:gs>
                  <a:gs pos="100000">
                    <a:srgbClr val="ff9900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74" name="AutoShape 6">
            <a:hlinkClick r:id="" action="ppaction://hlinkshowjump?jump=previousslide"/>
          </p:cNvPr>
          <p:cNvSpPr/>
          <p:nvPr/>
        </p:nvSpPr>
        <p:spPr>
          <a:xfrm>
            <a:off x="2124000" y="5877000"/>
            <a:ext cx="2519280" cy="431640"/>
          </a:xfrm>
          <a:custGeom>
            <a:avLst/>
            <a:gdLst>
              <a:gd name="textAreaLeft" fmla="*/ 27720 w 2519280"/>
              <a:gd name="textAreaRight" fmla="*/ 2491560 w 25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25982" h="21600">
                <a:moveTo>
                  <a:pt x="0" y="0"/>
                </a:moveTo>
                <a:lnTo>
                  <a:pt x="125982" y="0"/>
                </a:lnTo>
                <a:lnTo>
                  <a:pt x="125982" y="21600"/>
                </a:lnTo>
                <a:lnTo>
                  <a:pt x="0" y="21600"/>
                </a:lnTo>
                <a:close/>
              </a:path>
              <a:path fill="lightenLess" w="125982" h="21600">
                <a:moveTo>
                  <a:pt x="0" y="0"/>
                </a:moveTo>
                <a:lnTo>
                  <a:pt x="125982" y="0"/>
                </a:lnTo>
                <a:lnTo>
                  <a:pt x="124582" y="1400"/>
                </a:lnTo>
                <a:lnTo>
                  <a:pt x="1400" y="1400"/>
                </a:lnTo>
                <a:close/>
              </a:path>
              <a:path fill="darken" w="125982" h="21600">
                <a:moveTo>
                  <a:pt x="125982" y="0"/>
                </a:moveTo>
                <a:lnTo>
                  <a:pt x="125982" y="21600"/>
                </a:lnTo>
                <a:lnTo>
                  <a:pt x="124582" y="20200"/>
                </a:lnTo>
                <a:lnTo>
                  <a:pt x="124582" y="1400"/>
                </a:lnTo>
                <a:close/>
              </a:path>
              <a:path fill="darkenLess" w="125982" h="21600">
                <a:moveTo>
                  <a:pt x="12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4582" y="20200"/>
                </a:lnTo>
                <a:close/>
              </a:path>
              <a:path fill="lighten" w="12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5982" h="21600">
                <a:moveTo>
                  <a:pt x="55985" y="10800"/>
                </a:moveTo>
                <a:lnTo>
                  <a:pt x="69997" y="3794"/>
                </a:lnTo>
                <a:lnTo>
                  <a:pt x="69997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path" presetID="3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3.46821E-006 C 0.01493 0.0319 0.03698 0.0652 0.05503 0.07861 C 0.08194 0.09988 0.10799 0.10797 0.11302 0.09711 C 0.11701 0.08647 0.09896 0.05988 0.07205 0.03861 C 0.05399 0.0252 0.02101 0.01595 -0.00799 0.01456 C -0.03594 0.01595 -0.06997 0.0252 -0.08802 0.03861 C -0.11493 0.05988 -0.13299 0.08647 -0.12795 0.09711 C -0.12292 0.10797 -0.09705 0.09988 -0.07101 0.07861 C -0.05295 0.0652 -0.03004 0.0319 -0.01597 3.46821E-006 C -0.00104 -0.0333 0.00903 -0.07723 0.00903 -0.10521 C 0.00903 -0.14775 0.00208 -0.18104 -0.00799 -0.18104 C -0.01701 -0.18104 -0.025 -0.14775 -0.025 -0.10521 C -0.025 -0.07723 -0.01406 -0.0333 5.55556E-007 3.46821E-006 Z">
                                      <p:cBhvr>
                                        <p:cTn id="353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WordArt 2"/>
          <p:cNvSpPr txBox="1"/>
          <p:nvPr/>
        </p:nvSpPr>
        <p:spPr>
          <a:xfrm>
            <a:off x="1763640" y="2492280"/>
            <a:ext cx="5761080" cy="184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000000">
                        <a:alpha val="50196"/>
                      </a:srgbClr>
                    </a:gs>
                    <a:gs pos="50000">
                      <a:srgbClr val="e40000"/>
                    </a:gs>
                    <a:gs pos="100000">
                      <a:srgbClr val="000000">
                        <a:alpha val="50196"/>
                      </a:srgbClr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шибка!!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000000">
                      <a:alpha val="50196"/>
                    </a:srgbClr>
                  </a:gs>
                  <a:gs pos="50000">
                    <a:srgbClr val="e40000"/>
                  </a:gs>
                  <a:gs pos="100000">
                    <a:srgbClr val="000000">
                      <a:alpha val="50196"/>
                    </a:srgbClr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76" name="AutoShape 5">
            <a:hlinkClick r:id="" action="ppaction://hlinkshowjump?jump=previousslide"/>
          </p:cNvPr>
          <p:cNvSpPr/>
          <p:nvPr/>
        </p:nvSpPr>
        <p:spPr>
          <a:xfrm>
            <a:off x="2124000" y="5877000"/>
            <a:ext cx="2519280" cy="431640"/>
          </a:xfrm>
          <a:custGeom>
            <a:avLst/>
            <a:gdLst>
              <a:gd name="textAreaLeft" fmla="*/ 27720 w 2519280"/>
              <a:gd name="textAreaRight" fmla="*/ 2491560 w 25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25982" h="21600">
                <a:moveTo>
                  <a:pt x="0" y="0"/>
                </a:moveTo>
                <a:lnTo>
                  <a:pt x="125982" y="0"/>
                </a:lnTo>
                <a:lnTo>
                  <a:pt x="125982" y="21600"/>
                </a:lnTo>
                <a:lnTo>
                  <a:pt x="0" y="21600"/>
                </a:lnTo>
                <a:close/>
              </a:path>
              <a:path fill="lightenLess" w="125982" h="21600">
                <a:moveTo>
                  <a:pt x="0" y="0"/>
                </a:moveTo>
                <a:lnTo>
                  <a:pt x="125982" y="0"/>
                </a:lnTo>
                <a:lnTo>
                  <a:pt x="124582" y="1400"/>
                </a:lnTo>
                <a:lnTo>
                  <a:pt x="1400" y="1400"/>
                </a:lnTo>
                <a:close/>
              </a:path>
              <a:path fill="darken" w="125982" h="21600">
                <a:moveTo>
                  <a:pt x="125982" y="0"/>
                </a:moveTo>
                <a:lnTo>
                  <a:pt x="125982" y="21600"/>
                </a:lnTo>
                <a:lnTo>
                  <a:pt x="124582" y="20200"/>
                </a:lnTo>
                <a:lnTo>
                  <a:pt x="124582" y="1400"/>
                </a:lnTo>
                <a:close/>
              </a:path>
              <a:path fill="darkenLess" w="125982" h="21600">
                <a:moveTo>
                  <a:pt x="12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4582" y="20200"/>
                </a:lnTo>
                <a:close/>
              </a:path>
              <a:path fill="lighten" w="12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5982" h="21600">
                <a:moveTo>
                  <a:pt x="55985" y="10800"/>
                </a:moveTo>
                <a:lnTo>
                  <a:pt x="69997" y="3794"/>
                </a:lnTo>
                <a:lnTo>
                  <a:pt x="69997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WordArt 4"/>
          <p:cNvSpPr txBox="1"/>
          <p:nvPr/>
        </p:nvSpPr>
        <p:spPr>
          <a:xfrm>
            <a:off x="826920" y="2205000"/>
            <a:ext cx="75600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 за внимание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8" name="AutoShape 5">
            <a:hlinkClick r:id="" action="ppaction://hlinkshowjump?jump=firstslide"/>
          </p:cNvPr>
          <p:cNvSpPr/>
          <p:nvPr/>
        </p:nvSpPr>
        <p:spPr>
          <a:xfrm>
            <a:off x="2124000" y="5516640"/>
            <a:ext cx="2087640" cy="433440"/>
          </a:xfrm>
          <a:custGeom>
            <a:avLst/>
            <a:gdLst>
              <a:gd name="textAreaLeft" fmla="*/ 28080 w 2087640"/>
              <a:gd name="textAreaRight" fmla="*/ 2059560 w 2087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3967" h="21600">
                <a:moveTo>
                  <a:pt x="0" y="0"/>
                </a:moveTo>
                <a:lnTo>
                  <a:pt x="103967" y="0"/>
                </a:lnTo>
                <a:lnTo>
                  <a:pt x="103967" y="21600"/>
                </a:lnTo>
                <a:lnTo>
                  <a:pt x="0" y="21600"/>
                </a:lnTo>
                <a:close/>
              </a:path>
              <a:path fill="lightenLess" w="103967" h="21600">
                <a:moveTo>
                  <a:pt x="0" y="0"/>
                </a:moveTo>
                <a:lnTo>
                  <a:pt x="103967" y="0"/>
                </a:lnTo>
                <a:lnTo>
                  <a:pt x="102567" y="1400"/>
                </a:lnTo>
                <a:lnTo>
                  <a:pt x="1400" y="1400"/>
                </a:lnTo>
                <a:close/>
              </a:path>
              <a:path fill="darken" w="103967" h="21600">
                <a:moveTo>
                  <a:pt x="103967" y="0"/>
                </a:moveTo>
                <a:lnTo>
                  <a:pt x="103967" y="21600"/>
                </a:lnTo>
                <a:lnTo>
                  <a:pt x="102567" y="20200"/>
                </a:lnTo>
                <a:lnTo>
                  <a:pt x="102567" y="1400"/>
                </a:lnTo>
                <a:close/>
              </a:path>
              <a:path fill="darkenLess" w="103967" h="21600">
                <a:moveTo>
                  <a:pt x="1039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2567" y="20200"/>
                </a:lnTo>
                <a:close/>
              </a:path>
              <a:path fill="lighten" w="1039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3967" h="21600">
                <a:moveTo>
                  <a:pt x="51983" y="3837"/>
                </a:moveTo>
                <a:lnTo>
                  <a:pt x="54560" y="6448"/>
                </a:lnTo>
                <a:lnTo>
                  <a:pt x="54560" y="4707"/>
                </a:lnTo>
                <a:lnTo>
                  <a:pt x="56335" y="4707"/>
                </a:lnTo>
                <a:lnTo>
                  <a:pt x="56335" y="8224"/>
                </a:lnTo>
                <a:lnTo>
                  <a:pt x="58946" y="10800"/>
                </a:lnTo>
                <a:lnTo>
                  <a:pt x="57293" y="10800"/>
                </a:lnTo>
                <a:lnTo>
                  <a:pt x="57293" y="17989"/>
                </a:lnTo>
                <a:lnTo>
                  <a:pt x="46674" y="17989"/>
                </a:lnTo>
                <a:lnTo>
                  <a:pt x="46674" y="10800"/>
                </a:lnTo>
                <a:lnTo>
                  <a:pt x="45020" y="10800"/>
                </a:lnTo>
                <a:close/>
              </a:path>
              <a:path fill="darkenLess" w="103967" h="21600">
                <a:moveTo>
                  <a:pt x="54560" y="6448"/>
                </a:moveTo>
                <a:lnTo>
                  <a:pt x="54560" y="4707"/>
                </a:lnTo>
                <a:lnTo>
                  <a:pt x="56335" y="4707"/>
                </a:lnTo>
                <a:lnTo>
                  <a:pt x="56335" y="8224"/>
                </a:lnTo>
                <a:close/>
              </a:path>
              <a:path fill="darkenLess" w="103967" h="21600">
                <a:moveTo>
                  <a:pt x="51061" y="14299"/>
                </a:moveTo>
                <a:lnTo>
                  <a:pt x="52906" y="14299"/>
                </a:lnTo>
                <a:lnTo>
                  <a:pt x="52906" y="17989"/>
                </a:lnTo>
                <a:lnTo>
                  <a:pt x="57293" y="17989"/>
                </a:lnTo>
                <a:lnTo>
                  <a:pt x="57293" y="10800"/>
                </a:lnTo>
                <a:lnTo>
                  <a:pt x="46674" y="10800"/>
                </a:lnTo>
                <a:lnTo>
                  <a:pt x="46674" y="17989"/>
                </a:lnTo>
                <a:lnTo>
                  <a:pt x="51061" y="17989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6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 №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8218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) 1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) 1,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) 11,9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) 0,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.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1" action="ppaction://hlinksldjump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.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2" action="ppaction://hlinksldjump"/>
              </a:rPr>
              <a:t>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.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3" action="ppaction://hlinksldjump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4.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4" action="ppaction://hlinksldjump"/>
              </a:rPr>
              <a:t>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9"/>
          <p:cNvSpPr/>
          <p:nvPr/>
        </p:nvSpPr>
        <p:spPr>
          <a:xfrm>
            <a:off x="8244000" y="13413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WordArt 46"/>
          <p:cNvSpPr txBox="1"/>
          <p:nvPr/>
        </p:nvSpPr>
        <p:spPr>
          <a:xfrm>
            <a:off x="7236000" y="5950080"/>
            <a:ext cx="1328400" cy="36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але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99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3" name="Picture 47" descr=""/>
          <p:cNvPicPr/>
          <p:nvPr/>
        </p:nvPicPr>
        <p:blipFill>
          <a:blip r:embed="rId5"/>
          <a:stretch/>
        </p:blipFill>
        <p:spPr>
          <a:xfrm>
            <a:off x="611280" y="1125360"/>
            <a:ext cx="590544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50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50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50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10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50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10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8500"/>
                            </p:stCondLst>
                            <p:childTnLst>
                              <p:par>
                                <p:cTn id="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 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чение рав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0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                                        2.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0,5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3,5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                                     4.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4" action="ppaction://hlinksldjump"/>
              </a:rPr>
              <a:t>0,2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WordArt 4"/>
          <p:cNvSpPr txBox="1"/>
          <p:nvPr/>
        </p:nvSpPr>
        <p:spPr>
          <a:xfrm>
            <a:off x="7236000" y="5950080"/>
            <a:ext cx="1328400" cy="36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але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99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5"/>
          <a:stretch/>
        </p:blipFill>
        <p:spPr>
          <a:xfrm>
            <a:off x="468360" y="981000"/>
            <a:ext cx="74167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4000"/>
                            </p:stCondLst>
                            <p:childTnLst>
                              <p:par>
                                <p:cTn id="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" dur="2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" dur="20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" dur="2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" dur="20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000"/>
                            </p:stCondLst>
                            <p:childTnLst>
                              <p:par>
                                <p:cTn id="9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6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2.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12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4" action="ppaction://hlinksldjump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3.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5" action="ppaction://hlinksldjump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 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WordArt 5"/>
          <p:cNvSpPr txBox="1"/>
          <p:nvPr/>
        </p:nvSpPr>
        <p:spPr>
          <a:xfrm>
            <a:off x="7236000" y="5950080"/>
            <a:ext cx="1328400" cy="36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але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99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1" name="Picture 6" descr=""/>
          <p:cNvPicPr/>
          <p:nvPr/>
        </p:nvPicPr>
        <p:blipFill>
          <a:blip r:embed="rId6"/>
          <a:stretch/>
        </p:blipFill>
        <p:spPr>
          <a:xfrm>
            <a:off x="468360" y="1413000"/>
            <a:ext cx="813600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5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1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 5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) 0,5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4" action="ppaction://hlinksldjump"/>
              </a:rPr>
              <a:t>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 №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WordArt 134"/>
          <p:cNvSpPr txBox="1"/>
          <p:nvPr/>
        </p:nvSpPr>
        <p:spPr>
          <a:xfrm>
            <a:off x="7236000" y="5950080"/>
            <a:ext cx="1328400" cy="36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але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99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5" name="Picture 135" descr=""/>
          <p:cNvPicPr/>
          <p:nvPr/>
        </p:nvPicPr>
        <p:blipFill>
          <a:blip r:embed="rId5"/>
          <a:stretch/>
        </p:blipFill>
        <p:spPr>
          <a:xfrm>
            <a:off x="900000" y="1413000"/>
            <a:ext cx="763272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60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80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9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                                         2.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-9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9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                                        4.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4" action="ppaction://hlinksldjump"/>
              </a:rPr>
              <a:t>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457200" y="457200"/>
            <a:ext cx="822960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 №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WordArt 5"/>
          <p:cNvSpPr txBox="1"/>
          <p:nvPr/>
        </p:nvSpPr>
        <p:spPr>
          <a:xfrm>
            <a:off x="7236000" y="5950080"/>
            <a:ext cx="1328400" cy="36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але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99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5"/>
          <a:stretch/>
        </p:blipFill>
        <p:spPr>
          <a:xfrm>
            <a:off x="250920" y="1484280"/>
            <a:ext cx="770580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                    2.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 3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                            4.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4" action="ppaction://hlinksldjump"/>
              </a:rPr>
              <a:t>9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 №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5"/>
          <p:cNvSpPr txBox="1"/>
          <p:nvPr/>
        </p:nvSpPr>
        <p:spPr>
          <a:xfrm>
            <a:off x="7236000" y="5950080"/>
            <a:ext cx="1328400" cy="36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але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99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3" name="Picture 6" descr=""/>
          <p:cNvPicPr/>
          <p:nvPr/>
        </p:nvPicPr>
        <p:blipFill>
          <a:blip r:embed="rId5"/>
          <a:stretch/>
        </p:blipFill>
        <p:spPr>
          <a:xfrm>
            <a:off x="468360" y="1557360"/>
            <a:ext cx="867564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2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000"/>
                            </p:stCondLst>
                            <p:childTnLst>
                              <p:par>
                                <p:cTn id="1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ea typeface="Arial"/>
                <a:hlinkClick r:id="rId1" action="ppaction://hlinksldjump"/>
              </a:rPr>
              <a:t>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2.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ea typeface="Arial"/>
                <a:hlinkClick r:id="rId2" action="ppaction://hlinksldjump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ea typeface="Arial"/>
                <a:hlinkClick r:id="rId3" action="ppaction://hlinksldjump"/>
              </a:rPr>
              <a:t>3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4.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ea typeface="Arial"/>
                <a:hlinkClick r:id="rId4" action="ppaction://hlinksldjump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 №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WordArt 5"/>
          <p:cNvSpPr txBox="1"/>
          <p:nvPr/>
        </p:nvSpPr>
        <p:spPr>
          <a:xfrm>
            <a:off x="7236000" y="5950080"/>
            <a:ext cx="1328400" cy="36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але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99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5"/>
          <a:stretch/>
        </p:blipFill>
        <p:spPr>
          <a:xfrm>
            <a:off x="971640" y="1341360"/>
            <a:ext cx="6048360" cy="7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2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6000"/>
                            </p:stCondLst>
                            <p:childTnLst>
                              <p:par>
                                <p:cTn id="19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2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9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4" action="ppaction://hlinksldjump"/>
              </a:rPr>
              <a:t>9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 №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WordArt 5"/>
          <p:cNvSpPr txBox="1"/>
          <p:nvPr/>
        </p:nvSpPr>
        <p:spPr>
          <a:xfrm>
            <a:off x="7236000" y="5950080"/>
            <a:ext cx="1328400" cy="36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але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99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1" name="Picture 6" descr=""/>
          <p:cNvPicPr/>
          <p:nvPr/>
        </p:nvPicPr>
        <p:blipFill>
          <a:blip r:embed="rId5"/>
          <a:stretch/>
        </p:blipFill>
        <p:spPr>
          <a:xfrm>
            <a:off x="611280" y="1268280"/>
            <a:ext cx="669744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2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40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20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000"/>
                            </p:stCondLst>
                            <p:childTnLst>
                              <p:par>
                                <p:cTn id="2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2000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800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9T08:31:35Z</dcterms:created>
  <dc:creator>Серый Константин Игоревич</dc:creator>
  <dc:description/>
  <dc:language>en-US</dc:language>
  <cp:lastModifiedBy>User</cp:lastModifiedBy>
  <dcterms:modified xsi:type="dcterms:W3CDTF">2007-01-02T01:14:22Z</dcterms:modified>
  <cp:revision>20</cp:revision>
  <dc:subject/>
  <dc:title>Тест по физик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