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821-FDD0-4FBD-AC0A-44B5B629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302-DADF-4449-B4AA-4F0ABC4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404-96F6-4BFE-BAB0-F1146BE2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901-C41C-44E9-905C-21CFD040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4FD7-CFF6-43B2-BFDC-DE0F0C94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A40-39CE-4A81-AE06-C20034D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EA9-A6F4-408A-8596-BCF02BF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675C-2CDE-425F-B915-42990DC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19A0-7460-43BA-B440-0422921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4489-DF5B-4E92-9CB0-21549F33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C41-DFD0-4F73-AE29-DBCFBDE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7C8-1743-4B11-AFEE-E3CE8D30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CCBA-CE9E-46C8-9257-ACAA253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2AF8-F4E5-4702-A560-BD52E7A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A413-D12C-4AE4-A2D6-8490CA7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5B0-B65C-43B3-B2D0-8052468C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E419-5DD8-40D5-8771-AA953C53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4EE-996C-48A8-847B-6FBD6F52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709-E5CC-4B4C-AD0B-336360D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0CB-3673-472C-942B-51A7D7B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366-E9F6-422C-A76A-B015366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51E-BAA9-450F-9A4E-A5E6899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D39-0CA6-4F59-9250-862CE64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6D4-06A9-4538-BE4E-908835E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0E99-B93C-4E0D-B096-A166E13A0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33CC-F3EC-44CA-8A62-7494F14CDA7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Тесты по теме «Морфемика»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72[1]"/>
          <p:cNvPicPr/>
          <p:nvPr/>
        </p:nvPicPr>
        <p:blipFill>
          <a:blip r:embed="rId1"/>
          <a:stretch/>
        </p:blipFill>
        <p:spPr>
          <a:xfrm>
            <a:off x="684360" y="4705200"/>
            <a:ext cx="7920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11. В каком ряду во всех словах пишется «о»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) р…сла, выр…щи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) р…сток, отр…с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) р…стительность, р…ст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) р…стовщик, выр…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4" descr="animals122[1]"/>
          <p:cNvPicPr/>
          <p:nvPr/>
        </p:nvPicPr>
        <p:blipFill>
          <a:blip r:embed="rId1"/>
          <a:stretch/>
        </p:blipFill>
        <p:spPr>
          <a:xfrm>
            <a:off x="6588000" y="3645000"/>
            <a:ext cx="25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jivotnie009[1]"/>
          <p:cNvPicPr/>
          <p:nvPr/>
        </p:nvPicPr>
        <p:blipFill>
          <a:blip r:embed="rId1"/>
          <a:stretch/>
        </p:blipFill>
        <p:spPr>
          <a:xfrm>
            <a:off x="3905280" y="2933640"/>
            <a:ext cx="5238720" cy="3924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12. В каком ряду нет исключени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) щ…тка, ш…рох, чеч…т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) ц…плёнок, ц…трусовые, ц…рку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) р…стовщик, р…стение, выр…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) вл…жить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…стить, ч…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орень - это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44047[1]"/>
          <p:cNvPicPr/>
          <p:nvPr/>
        </p:nvPicPr>
        <p:blipFill>
          <a:blip r:embed="rId1"/>
          <a:stretch/>
        </p:blipFill>
        <p:spPr>
          <a:xfrm>
            <a:off x="6516720" y="4005360"/>
            <a:ext cx="2627280" cy="2852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зменяемая часть слов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Главная значимая часть слова, в которой заключено общее значение всех однокоренных сл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Часть слова без оконча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Часть слова, которая находится перед корнем и служит для образования сл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уффикс  -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4" descr="44030[1]"/>
          <p:cNvPicPr/>
          <p:nvPr/>
        </p:nvPicPr>
        <p:blipFill>
          <a:blip r:embed="rId1"/>
          <a:stretch/>
        </p:blipFill>
        <p:spPr>
          <a:xfrm>
            <a:off x="5940360" y="3573360"/>
            <a:ext cx="3203640" cy="3284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Часть слова, которая находится перед корнем и служит для образования сло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Главная значимая часть слова, в которой заключено общее значение всех однокоренных сл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Часть слова без окончани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Часть слова, которая находится после корня и обычно служит для образования сл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 каком варианте ответов все слова с чередующейся гласной в корне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4" descr="94065[1]"/>
          <p:cNvPicPr/>
          <p:nvPr/>
        </p:nvPicPr>
        <p:blipFill>
          <a:blip r:embed="rId1"/>
          <a:stretch/>
        </p:blipFill>
        <p:spPr>
          <a:xfrm>
            <a:off x="6696000" y="4869000"/>
            <a:ext cx="2448000" cy="2133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1. Он знал эту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тр…сль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изводства. 2. Ночь уже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…жилас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на гор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1.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азр…слис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кусты крыжовника. 2. В темноте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а…давалис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транные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ш…рох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1. Лёгкие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бл…к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оздавали причудливые формы. 2.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е…престанно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завывал в ветвях вет…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353001[1]"/>
          <p:cNvPicPr/>
          <p:nvPr/>
        </p:nvPicPr>
        <p:blipFill>
          <a:blip r:embed="rId1"/>
          <a:stretch/>
        </p:blipFill>
        <p:spPr>
          <a:xfrm>
            <a:off x="6804000" y="4221000"/>
            <a:ext cx="2195640" cy="2637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 каком варианте ответа есть слова с корнями, в которых чередуются А – О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А)Синим утром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ДИВЛЁН,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ЗАЦВЕТАЕТ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в поле лё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ЧАРОДЕЙКОЮ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зимою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КОЛДОВАН,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лес стои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)По крыше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ВЫЛОЖИЛИ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жесть, и дом готов, и крыша е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629017[1]"/>
          <p:cNvPicPr/>
          <p:nvPr/>
        </p:nvPicPr>
        <p:blipFill>
          <a:blip r:embed="rId1"/>
          <a:stretch/>
        </p:blipFill>
        <p:spPr>
          <a:xfrm>
            <a:off x="6877080" y="3933720"/>
            <a:ext cx="2266920" cy="2924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 каких вариантах ответов есть слова с безударными гласными корня, которые проверяются ударением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Через забор кистями красными повиснула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Р…БИНА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Verdana"/>
              </a:rPr>
              <a:t>B</a:t>
            </a:r>
            <a:r>
              <a:rPr b="0" i="1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 горами, за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ж…лтыми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долами протянулась тропа деревен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Весь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веч…р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будет играть м</a:t>
            </a:r>
            <a:r>
              <a:rPr b="0" i="1" lang="ru-RU" sz="3200" spc="-1" strike="noStrike">
                <a:solidFill>
                  <a:srgbClr val="ffcc00"/>
                </a:solidFill>
                <a:latin typeface="Verdana"/>
              </a:rPr>
              <a:t>узыка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i="1" lang="ru-RU" sz="3200" spc="-1" strike="noStrike">
                <a:solidFill>
                  <a:srgbClr val="cc0000"/>
                </a:solidFill>
                <a:latin typeface="Verdana"/>
              </a:rPr>
              <a:t>)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Туман как будто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ра…ходитс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8. В каком ряду во всех словах нужно писать «ё»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ш…лковый, ш…рох, ж…ст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Б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расч…ска, трещ…тка, ш…мпол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В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расч…т, ж…лтый, ч…л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Г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тяж…лый, капюш…н, ч…рст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629029[1]"/>
          <p:cNvPicPr/>
          <p:nvPr/>
        </p:nvPicPr>
        <p:blipFill>
          <a:blip r:embed="rId1"/>
          <a:stretch/>
        </p:blipFill>
        <p:spPr>
          <a:xfrm>
            <a:off x="6335640" y="4292640"/>
            <a:ext cx="28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9. Укажите, на месте каких цифр нужно писать «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(1)ган взял «Конституц(2)ю» и выписал оттуда ц(3)тату, а потом отправился на лекц(4)ю по ц(5)рковому искусству; там он получил консультац(6)ю по спец(7)аль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,3,4,5,6,7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Б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,3,6,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В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,4,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Г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,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0857019[1]"/>
          <p:cNvPicPr/>
          <p:nvPr/>
        </p:nvPicPr>
        <p:blipFill>
          <a:blip r:embed="rId1"/>
          <a:stretch/>
        </p:blipFill>
        <p:spPr>
          <a:xfrm>
            <a:off x="6948360" y="4365720"/>
            <a:ext cx="2195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10. В каком ряду все слова написаны правильно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А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безболезненный, вскрикнуть, изпортить, разжим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Б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бесшумный, разгадать, вздыхать, взпорхну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В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распилить, бесцельный, рассмотреть, безгранич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Г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бежалостный, расписание, бесконечный, безбреж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a-garf[1]"/>
          <p:cNvPicPr/>
          <p:nvPr/>
        </p:nvPicPr>
        <p:blipFill>
          <a:blip r:embed="rId1"/>
          <a:stretch/>
        </p:blipFill>
        <p:spPr>
          <a:xfrm>
            <a:off x="6875640" y="4005360"/>
            <a:ext cx="226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33:48Z</dcterms:created>
  <dc:creator>Admin</dc:creator>
  <dc:description/>
  <dc:language>en-US</dc:language>
  <cp:lastModifiedBy>Ольга</cp:lastModifiedBy>
  <dcterms:modified xsi:type="dcterms:W3CDTF">2017-02-27T20:38:36Z</dcterms:modified>
  <cp:revision>17</cp:revision>
  <dc:subject/>
  <dc:title>Слайд 1</dc:title>
</cp:coreProperties>
</file>