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CBE-5C41-4925-9909-BC40A575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D0F-0399-4F98-BAC3-C6E53A1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223-BE05-47EE-ADB4-7944A79F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0F1-11D6-47CC-B605-EDC52FF6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2C4-AD42-45B8-923C-BEF5076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62C-28FA-42AF-8465-1253E615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55C-4AB7-437F-8573-6BE60DFB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506-2224-4A29-AC2E-9F6A74D9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426-61D3-47CD-BC73-1DB4739A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A97-5801-4F11-AFE9-9005AED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A7F-9352-4F76-B0A5-45E486C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EA3-20E5-4815-BA7E-2F0FB03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61D2-45E4-4F9B-AA46-593FBB291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14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ма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словия формирования поч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умус — это органическая масса, получаемая из растений и останков живот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ханический состав поч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H="1">
            <a:off x="2050920" y="2133720"/>
            <a:ext cx="18734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3995640" y="2349360"/>
            <a:ext cx="144720" cy="100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788000" y="220500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5364000" y="2205000"/>
            <a:ext cx="172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900000" y="30178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и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556000" y="306864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гли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643280" y="33051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сча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7144200" y="3305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песча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йства поч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дородие - способность, почвы обеспечивать растения питательными вещест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 для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Что такое поч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звать почвообразующие факто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акие различают почвы по механическому соста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Чем отличаются друг от друга песчаные и супесчаные поч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Чем отличаются друг от друга глинистые и суглинистые поч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акими свойствами обладает поч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Что такое плодородие поч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Что такое гуму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поч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бы поверхность нашей Земли не была бы покрыта почвой, человек не смог бы на ней существовать. Без почвы не было бы растительности, и человек и другие животные не смогли бы добыть себе пищ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 особое природное тело. Она образуется на поверхности Земли в результате взаимодействия живой(органической) и мертвой (неорганической)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 состоит из твердой, жидкой, газообразной частей и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819792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ердая часть почвы - это минеральные и гумусовые ве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еральная основа (50–60 % от общего объём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ческое вещество (до 10 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81979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дкая часть почвы - вода с растворенными в ней органическими и минеральными соединени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71760" y="1928880"/>
            <a:ext cx="619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да (25–35 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85840" y="2857680"/>
            <a:ext cx="86295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ообразная часть(почвенный воздух) заполняют поры и пустоты в поч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00120" y="435780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дух (15–25 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образовалась почва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3857400"/>
            <a:ext cx="4143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ветривание - физ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038480" cy="4465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-357120" y="1428840"/>
            <a:ext cx="47149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ва – верхний плодородный слой земной коры, обладающий плодород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вообразующие фак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етривание - хим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3962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вообразующие фак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вление первых раст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айники-пион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5241960" y="1846440"/>
            <a:ext cx="2854440" cy="3960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вообразующие фак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сть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вообразующие фак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сть                     орг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2010303"/>
          <p:cNvPicPr/>
          <p:nvPr/>
        </p:nvPicPr>
        <p:blipFill>
          <a:blip r:embed="rId1"/>
          <a:stretch/>
        </p:blipFill>
        <p:spPr>
          <a:xfrm>
            <a:off x="4648320" y="1846440"/>
            <a:ext cx="4038480" cy="4033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3:30Z</dcterms:created>
  <dc:creator>Admin</dc:creator>
  <dc:description/>
  <dc:language>en-US</dc:language>
  <cp:lastModifiedBy>Юлия</cp:lastModifiedBy>
  <dcterms:modified xsi:type="dcterms:W3CDTF">2020-04-02T16:28:09Z</dcterms:modified>
  <cp:revision>81</cp:revision>
  <dc:subject/>
  <dc:title>Почва.</dc:title>
</cp:coreProperties>
</file>