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4.jpeg" ContentType="image/jpeg"/>
  <Override PartName="/ppt/media/image50.png" ContentType="image/png"/>
  <Override PartName="/ppt/media/image41.jpeg" ContentType="image/jpeg"/>
  <Override PartName="/ppt/media/image14.jpeg" ContentType="image/jpeg"/>
  <Override PartName="/ppt/media/image28.gif" ContentType="image/gif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18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26.png" ContentType="image/png"/>
  <Override PartName="/ppt/media/image17.jpeg" ContentType="image/jpeg"/>
  <Override PartName="/ppt/media/chimes.wav" ContentType="audio/x-wav"/>
  <Override PartName="/ppt/media/image2.wmf" ContentType="image/x-wmf"/>
  <Override PartName="/ppt/media/image21.jpeg" ContentType="image/jpeg"/>
  <Override PartName="/ppt/media/image60.jpeg" ContentType="image/jpeg"/>
  <Override PartName="/ppt/media/image37.jpeg" ContentType="image/jpeg"/>
  <Override PartName="/ppt/media/image49.png" ContentType="image/png"/>
  <Override PartName="/ppt/media/image12.png" ContentType="image/png"/>
  <Override PartName="/ppt/media/image58.jpeg" ContentType="image/jpeg"/>
  <Override PartName="/ppt/media/image25.jpeg" ContentType="image/jpeg"/>
  <Override PartName="/ppt/media/image32.png" ContentType="image/png"/>
  <Override PartName="/ppt/media/image22.jpeg" ContentType="image/jpeg"/>
  <Override PartName="/ppt/media/image27.gif" ContentType="image/gif"/>
  <Override PartName="/ppt/media/image51.jpeg" ContentType="image/jpeg"/>
  <Override PartName="/ppt/media/image13.jpeg" ContentType="image/jpeg"/>
  <Override PartName="/ppt/media/image53.gif" ContentType="image/gif"/>
  <Override PartName="/ppt/media/image40.jpeg" ContentType="image/jpeg"/>
  <Override PartName="/ppt/media/image61.png" ContentType="image/png"/>
  <Override PartName="/ppt/media/image24.png" ContentType="image/png"/>
  <Override PartName="/ppt/media/image43.jpeg" ContentType="image/jpeg"/>
  <Override PartName="/ppt/media/image23.jpeg" ContentType="image/jpeg"/>
  <Override PartName="/ppt/media/image8.png" ContentType="image/png"/>
  <Override PartName="/ppt/media/image5.png" ContentType="image/png"/>
  <Override PartName="/ppt/media/image39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6.png" ContentType="image/png"/>
  <Override PartName="/ppt/media/image11.png" ContentType="image/png"/>
  <Override PartName="/ppt/media/image9.jpeg" ContentType="image/jpeg"/>
  <Override PartName="/ppt/media/image55.gif" ContentType="image/gif"/>
  <Override PartName="/ppt/media/image7.gif" ContentType="image/gif"/>
  <Override PartName="/ppt/media/image10.gif" ContentType="image/gif"/>
  <Override PartName="/ppt/media/image47.gif" ContentType="image/gif"/>
  <Override PartName="/ppt/media/image29.gif" ContentType="image/gif"/>
  <Override PartName="/ppt/media/image30.jpeg" ContentType="image/jpeg"/>
  <Override PartName="/ppt/media/image31.jpeg" ContentType="image/jpeg"/>
  <Override PartName="/ppt/media/image34.jpeg" ContentType="image/jpeg"/>
  <Override PartName="/ppt/media/image36.jpeg" ContentType="image/jpeg"/>
  <Override PartName="/ppt/media/hammer.wav" ContentType="audio/x-wav"/>
  <Override PartName="/ppt/media/image16.jpeg" ContentType="image/jpeg"/>
  <Override PartName="/ppt/media/image38.jpeg" ContentType="image/jpeg"/>
  <Override PartName="/ppt/media/image44.jpeg" ContentType="image/jpeg"/>
  <Override PartName="/ppt/media/image20.jpeg" ContentType="image/jpeg"/>
  <Override PartName="/ppt/media/image52.gif" ContentType="image/gif"/>
  <Override PartName="/ppt/media/image48.png" ContentType="image/png"/>
  <Override PartName="/ppt/media/image45.jpeg" ContentType="image/jpeg"/>
  <Override PartName="/ppt/media/image4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2683-DDF2-44E9-B640-1958A94B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3FE-1249-4965-8FD6-82AD7DF3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658-7EC6-4BAF-9749-10175BF5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3222-1DC8-4520-ADF7-686B6353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24E4-3816-46B6-9A44-D3BB3032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FDE-3E17-49F1-84F6-0F6392DD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984-5631-432D-9BF4-C0C2043E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DDB-0181-4DE3-9576-75BFF209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9D4-4E71-4B60-A79F-E7E85637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1803-841D-47C3-98EB-635DED02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ED6B-4B7D-4D68-8AF1-9948192D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2C9-3D04-4D81-9F85-37F9AB69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D1AA-72B6-424A-BC44-79001F80B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26.png"/><Relationship Id="rId11" Type="http://schemas.openxmlformats.org/officeDocument/2006/relationships/image" Target="../media/image7.gi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gi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image" Target="../media/image7.gif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27.gif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0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2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3213000"/>
            <a:ext cx="25527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-ИГРА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0433000">
            <a:off x="3851280" y="4149360"/>
            <a:ext cx="13557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c7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95280" y="476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 Винни-Пуха много друз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ы помните их имена? Назов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42920" y="836640"/>
            <a:ext cx="2592360" cy="2122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2664000" cy="2179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364000" y="692280"/>
            <a:ext cx="2735280" cy="2238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651640" y="3141720"/>
            <a:ext cx="2663640" cy="2179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3995640" y="3213000"/>
            <a:ext cx="15922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6913440" cy="5656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71640" y="476280"/>
            <a:ext cx="6913440" cy="5656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971640" y="476280"/>
            <a:ext cx="6913440" cy="5656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971640" y="549360"/>
            <a:ext cx="6842160" cy="5597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971640" y="476280"/>
            <a:ext cx="6912000" cy="5656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971640" y="549360"/>
            <a:ext cx="6842160" cy="5597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971640" y="476280"/>
            <a:ext cx="6913440" cy="5657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1042920" y="476280"/>
            <a:ext cx="6913800" cy="5657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1042920" y="476280"/>
            <a:ext cx="6913800" cy="5656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0"/>
          <a:stretch/>
        </p:blipFill>
        <p:spPr>
          <a:xfrm>
            <a:off x="44197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5508720" y="476280"/>
            <a:ext cx="19368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7288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529080" cy="3528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95640" y="1125360"/>
            <a:ext cx="4932360" cy="2953080"/>
          </a:xfrm>
          <a:prstGeom prst="cloudCallout">
            <a:avLst>
              <a:gd name="adj1" fmla="val -61425"/>
              <a:gd name="adj2" fmla="val 2645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Сочиним «Кричалк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mph" presetID="3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35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6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7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38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 переменке мы крич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есело и звон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Мы «Кричалку» сочи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ак, чтоб было гром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м учитель не даё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кричаться вво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н на нас сам так орё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лышно по все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Кто ж из нас шумней, друзь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Мы ил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учител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А  на слух узнать нельз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Нужен звука измери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 для справок: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рич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 даё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друзь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звонк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вол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очин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рё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нельз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громк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школ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измер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16360" y="476280"/>
            <a:ext cx="9349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76500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00360" y="1197000"/>
            <a:ext cx="1008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27280" y="1557360"/>
            <a:ext cx="865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40360" y="1916280"/>
            <a:ext cx="93636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40360" y="2276640"/>
            <a:ext cx="79200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16360" y="2637000"/>
            <a:ext cx="64764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997360"/>
            <a:ext cx="79200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3357720"/>
            <a:ext cx="863640" cy="287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3716280"/>
            <a:ext cx="936720" cy="287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4076640"/>
            <a:ext cx="865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4437000"/>
            <a:ext cx="1438560" cy="287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171546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можем Винни-Пух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так говори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716360" y="1989000"/>
            <a:ext cx="2130480" cy="3097080"/>
            <a:chOff x="4716360" y="1989000"/>
            <a:chExt cx="2130480" cy="3097080"/>
          </a:xfrm>
        </p:grpSpPr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4716360" y="2709720"/>
              <a:ext cx="213048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364000" y="1989000"/>
              <a:ext cx="1152720" cy="576000"/>
            </a:xfrm>
            <a:prstGeom prst="cloudCallout">
              <a:avLst>
                <a:gd name="adj1" fmla="val 1930"/>
                <a:gd name="adj2" fmla="val 1257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 txBox="1"/>
          <p:nvPr/>
        </p:nvSpPr>
        <p:spPr>
          <a:xfrm>
            <a:off x="1547640" y="549360"/>
            <a:ext cx="5329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КТОРИН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42920" y="1196280"/>
            <a:ext cx="47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Мой любимый размер…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4392720" cy="35942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5724360" y="3068640"/>
            <a:ext cx="2447280" cy="2736360"/>
            <a:chOff x="5724360" y="3068640"/>
            <a:chExt cx="2447280" cy="2736360"/>
          </a:xfrm>
        </p:grpSpPr>
        <p:pic>
          <p:nvPicPr>
            <p:cNvPr id="157" name="" descr=""/>
            <p:cNvPicPr/>
            <p:nvPr/>
          </p:nvPicPr>
          <p:blipFill>
            <a:blip r:embed="rId3"/>
            <a:stretch/>
          </p:blipFill>
          <p:spPr>
            <a:xfrm>
              <a:off x="5724360" y="3752640"/>
              <a:ext cx="1592640" cy="20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900840" y="3068640"/>
              <a:ext cx="1270800" cy="7686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b8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42880" y="119592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До пятницы я совершенно свободен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3541680" cy="403200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4211640" y="2060640"/>
            <a:ext cx="2663640" cy="4030200"/>
            <a:chOff x="4211640" y="2060640"/>
            <a:chExt cx="2663640" cy="4030200"/>
          </a:xfrm>
        </p:grpSpPr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4716360" y="3932280"/>
              <a:ext cx="2158920" cy="21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211640" y="2060640"/>
              <a:ext cx="1655640" cy="1439640"/>
            </a:xfrm>
            <a:prstGeom prst="cloudCallout">
              <a:avLst>
                <a:gd name="adj1" fmla="val 23347"/>
                <a:gd name="adj2" fmla="val 8881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61760" y="785160"/>
            <a:ext cx="793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Безвозмездно, то есть даром.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859280" y="2995560"/>
            <a:ext cx="2521080" cy="2521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1763640" y="234936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11280" y="537372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«Я» бывают разные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132000" y="765000"/>
            <a:ext cx="5008680" cy="4097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206360" y="2997360"/>
            <a:ext cx="22068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900000" y="476280"/>
            <a:ext cx="7417080" cy="6068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900000" y="476280"/>
            <a:ext cx="7417080" cy="6067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900000" y="476280"/>
            <a:ext cx="7417080" cy="6067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900000" y="476280"/>
            <a:ext cx="7417080" cy="6065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5435640" y="404640"/>
            <a:ext cx="1936800" cy="1944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77583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66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4005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84360" y="981000"/>
            <a:ext cx="1876680" cy="3324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1131000">
            <a:off x="4647960" y="3068640"/>
            <a:ext cx="358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Сова, открывай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ведь пришёл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1420600">
            <a:off x="1911960" y="4507560"/>
            <a:ext cx="54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Это неправильные пчёлы!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47960" y="5384160"/>
            <a:ext cx="478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Сразу никто не уходит!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487600">
            <a:off x="490320" y="1793520"/>
            <a:ext cx="526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Кто ходит в гости по утр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от поступает мудро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Кому принадлежат следующие сло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516720" y="170028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1619280" y="1197000"/>
            <a:ext cx="5904000" cy="13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 новых встреч!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8172360" cy="1712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3565440" y="-531720"/>
            <a:ext cx="3340080" cy="360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580000" y="333360"/>
            <a:ext cx="241308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69674E-006 C 0.00903 0.00369 0.01354 0.01965 0.01997 0.02821 C 0.02274 0.03909 0.01875 0.02544 0.02587 0.03909 C 0.02656 0.04047 0.02639 0.04232 0.02691 0.04371 C 0.03194 0.05597 0.0408 0.0717 0.04809 0.08142 C 0.05382 0.10339 0.075 0.12167 0.08819 0.13624 C 0.09601 0.1448 0.09896 0.15706 0.10469 0.1677 C 0.1066 0.1714 0.10781 0.17626 0.11059 0.17857 C 0.12101 0.18736 0.13142 0.19314 0.14236 0.20055 C 0.15208 0.20702 0.15434 0.21096 0.1658 0.21304 C 0.1724 0.21766 0.17743 0.22275 0.18455 0.22553 C 0.19097 0.23131 0.19844 0.23594 0.20573 0.23964 C 0.20694 0.24126 0.20799 0.24334 0.20937 0.2445 C 0.21042 0.24542 0.21181 0.24496 0.21285 0.24589 C 0.23594 0.2674 0.21406 0.25167 0.23403 0.26485 C 0.24497 0.27226 0.22604 0.26277 0.24444 0.2711 C 0.24583 0.27156 0.24792 0.27272 0.24792 0.27272 C 0.25191 0.27758 0.25122 0.27781 0.25625 0.28058 C 0.25938 0.2822 0.26563 0.28521 0.26563 0.28521 C 0.27049 0.28984 0.27413 0.29261 0.27986 0.29469 C 0.29566 0.30788 0.26962 0.28706 0.28802 0.29932 C 0.28976 0.30048 0.29097 0.30279 0.29271 0.30395 C 0.30903 0.31598 0.33021 0.31551 0.34792 0.31644 C 0.36094 0.31598 0.37396 0.31598 0.38698 0.31505 C 0.39236 0.31459 0.39774 0.31042 0.4033 0.31019 C 0.42674 0.30927 0.45052 0.30904 0.47396 0.30857 C 0.48212 0.30695 0.4901 0.30395 0.49878 0.30233 C 0.52986 0.28984 0.55469 0.294 0.59045 0.29308 C 0.60295 0.28752 0.6276 0.29516 0.64097 0.29608 C 0.64774 0.29793 0.65434 0.29978 0.66094 0.30233 C 0.66667 0.30464 0.67378 0.3095 0.67969 0.31019 C 0.68368 0.31066 0.6875 0.31019 0.69149 0.31019 E">
                                      <p:cBhvr>
                                        <p:cTn id="4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43640" y="907920"/>
            <a:ext cx="2511360" cy="251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8207280" cy="171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ТЕМА УРОКА: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843280" y="2060640"/>
            <a:ext cx="3071880" cy="3311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50920" y="836640"/>
            <a:ext cx="763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«ПЕСЕНКИ ВИННИ-ПУХА БОРИСА ЗАХОДЕРА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0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у будем уч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  Определять основную мысль пес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  Обращать внимание 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мые слова и выражения, объяснять их, развивать свою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 Читать вырази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0994600">
            <a:off x="1042560" y="980640"/>
            <a:ext cx="2170080" cy="2664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 rot="1044000">
            <a:off x="6227280" y="907920"/>
            <a:ext cx="2162160" cy="2955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635280" y="1484280"/>
            <a:ext cx="19893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c3ebb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имое лакомство Ми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  Что сочинял Медвежон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то  из героев потерял свой хвос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го цвета был шарик, когда Мишка пел песенку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Я Тучка, Тучка, Тучка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вовсе не медведь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х, как приятно Тучк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небу лететь!»?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5709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b8a7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b8a7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b8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7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b8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0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b8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0ae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0a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03640" y="4003560"/>
            <a:ext cx="338400" cy="505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03640" y="4508640"/>
            <a:ext cx="338400" cy="504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003640" y="5011560"/>
            <a:ext cx="338400" cy="505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411280" y="549360"/>
            <a:ext cx="460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АДАЙ КА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012000" y="1700280"/>
            <a:ext cx="338040" cy="504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012000" y="2276640"/>
            <a:ext cx="338040" cy="50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6012000" y="2852640"/>
            <a:ext cx="338040" cy="505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012000" y="3357720"/>
            <a:ext cx="338040" cy="504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012000" y="3860640"/>
            <a:ext cx="338040" cy="505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7093080" y="2852640"/>
            <a:ext cx="338040" cy="505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7093080" y="3429000"/>
            <a:ext cx="338040" cy="50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7093080" y="4005360"/>
            <a:ext cx="338040" cy="50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2"/>
          <a:stretch/>
        </p:blipFill>
        <p:spPr>
          <a:xfrm>
            <a:off x="7093080" y="4510080"/>
            <a:ext cx="338040" cy="504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3"/>
          <a:stretch/>
        </p:blipFill>
        <p:spPr>
          <a:xfrm>
            <a:off x="7093080" y="5013360"/>
            <a:ext cx="338040" cy="50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4"/>
          <a:stretch/>
        </p:blipFill>
        <p:spPr>
          <a:xfrm>
            <a:off x="8101080" y="2852640"/>
            <a:ext cx="338040" cy="505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5"/>
          <a:stretch/>
        </p:blipFill>
        <p:spPr>
          <a:xfrm>
            <a:off x="8101080" y="3429000"/>
            <a:ext cx="338040" cy="504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6"/>
          <a:stretch/>
        </p:blipFill>
        <p:spPr>
          <a:xfrm>
            <a:off x="8101080" y="4005360"/>
            <a:ext cx="338040" cy="504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7"/>
          <a:stretch/>
        </p:blipFill>
        <p:spPr>
          <a:xfrm>
            <a:off x="8101080" y="4510080"/>
            <a:ext cx="338040" cy="504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8"/>
          <a:stretch/>
        </p:blipFill>
        <p:spPr>
          <a:xfrm>
            <a:off x="8101080" y="5013360"/>
            <a:ext cx="338040" cy="504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9"/>
          <a:stretch/>
        </p:blipFill>
        <p:spPr>
          <a:xfrm rot="20888400">
            <a:off x="6659640" y="-1900080"/>
            <a:ext cx="1143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12 0.10641 C 0.08819 0.11057 0.09531 0.11358 0.10208 0.11589 C 0.11389 0.12746 0.11858 0.14874 0.12691 0.16447 C 0.12882 0.17627 0.13507 0.18552 0.13976 0.1957 C 0.14097 0.20195 0.14323 0.20565 0.14444 0.21166 C 0.14531 0.21559 0.14601 0.21976 0.14687 0.22392 C 0.14722 0.22623 0.14809 0.2304 0.14809 0.2304 C 0.14896 0.24752 0.15191 0.26255 0.15399 0.27898 C 0.15312 0.29494 0.15295 0.31136 0.15156 0.32755 C 0.15069 0.3375 0.14774 0.3375 0.14444 0.34629 C 0.1401 0.35786 0.13715 0.37012 0.13038 0.37914 C 0.12743 0.3907 0.13177 0.37636 0.12569 0.38862 C 0.12326 0.39348 0.12292 0.39926 0.11979 0.40435 C 0.11545 0.41129 0.11024 0.41291 0.10451 0.41684 C 0.09792 0.42147 0.09271 0.4261 0.08559 0.4291 C 0.07882 0.43211 0.06979 0.43442 0.06337 0.43882 C 0.06215 0.43974 0.06094 0.44113 0.05972 0.44183 C 0.05816 0.44321 0.05382 0.44645 0.05503 0.44483 C 0.0566 0.44298 0.06094 0.44044 0.06094 0.44044 E">
                                      <p:cBhvr>
                                        <p:cTn id="7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0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04000" y="3284640"/>
            <a:ext cx="1508040" cy="1728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Милн Алан Александ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1882-19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8360" y="549360"/>
            <a:ext cx="3179880" cy="3816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732720" y="404640"/>
            <a:ext cx="1341360" cy="180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508720" y="1628640"/>
            <a:ext cx="1522440" cy="180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4356000" y="476280"/>
            <a:ext cx="1432080" cy="1676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4500720" y="3141720"/>
            <a:ext cx="1379520" cy="1873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3419640" y="1773360"/>
            <a:ext cx="146016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b8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рис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ход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18 - 2000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2911680" cy="3240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292720" y="476280"/>
            <a:ext cx="2857680" cy="3876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716360" y="3500280"/>
            <a:ext cx="3772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4197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292720" y="2565360"/>
            <a:ext cx="2521080" cy="252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 flipH="1">
            <a:off x="5580000" y="2565360"/>
            <a:ext cx="22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219640" y="2565360"/>
            <a:ext cx="2737080" cy="2736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219640" y="256536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692360" y="692280"/>
            <a:ext cx="3755880" cy="3816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116000" y="515772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Евгений Лео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926-199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826920" y="2852640"/>
            <a:ext cx="17402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5705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1:22:58Z</dcterms:created>
  <dc:creator>Надя</dc:creator>
  <dc:description/>
  <dc:language>en-US</dc:language>
  <cp:lastModifiedBy>Надя</cp:lastModifiedBy>
  <dcterms:modified xsi:type="dcterms:W3CDTF">2013-02-04T16:55:45Z</dcterms:modified>
  <cp:revision>60</cp:revision>
  <dc:subject/>
  <dc:title>Слайд 1</dc:title>
</cp:coreProperties>
</file>