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4.jpeg" ContentType="image/jpeg"/>
  <Override PartName="/ppt/media/image50.png" ContentType="image/png"/>
  <Override PartName="/ppt/media/image41.jpeg" ContentType="image/jpeg"/>
  <Override PartName="/ppt/media/image14.jpeg" ContentType="image/jpeg"/>
  <Override PartName="/ppt/media/image28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7.jpeg" ContentType="image/jpeg"/>
  <Override PartName="/ppt/media/chimes.wav" ContentType="audio/x-wav"/>
  <Override PartName="/ppt/media/image2.wmf" ContentType="image/x-wmf"/>
  <Override PartName="/ppt/media/image21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12.png" ContentType="image/png"/>
  <Override PartName="/ppt/media/image58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51.jpeg" ContentType="image/jpeg"/>
  <Override PartName="/ppt/media/image13.jpeg" ContentType="image/jpeg"/>
  <Override PartName="/ppt/media/image53.gif" ContentType="image/gif"/>
  <Override PartName="/ppt/media/image40.jpeg" ContentType="image/jpeg"/>
  <Override PartName="/ppt/media/image61.png" ContentType="image/png"/>
  <Override PartName="/ppt/media/image24.png" ContentType="image/png"/>
  <Override PartName="/ppt/media/image43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55.gif" ContentType="image/gif"/>
  <Override PartName="/ppt/media/image7.gif" ContentType="image/gif"/>
  <Override PartName="/ppt/media/image10.gif" ContentType="image/gif"/>
  <Override PartName="/ppt/media/image47.gif" ContentType="image/gif"/>
  <Override PartName="/ppt/media/image29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36.jpeg" ContentType="image/jpeg"/>
  <Override PartName="/ppt/media/hammer.wav" ContentType="audio/x-wav"/>
  <Override PartName="/ppt/media/image16.jpeg" ContentType="image/jpeg"/>
  <Override PartName="/ppt/media/image38.jpeg" ContentType="image/jpeg"/>
  <Override PartName="/ppt/media/image44.jpeg" ContentType="image/jpeg"/>
  <Override PartName="/ppt/media/image20.jpeg" ContentType="image/jpeg"/>
  <Override PartName="/ppt/media/image52.gif" ContentType="image/gif"/>
  <Override PartName="/ppt/media/image48.png" ContentType="image/png"/>
  <Override PartName="/ppt/media/image45.jpeg" ContentType="image/jpe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018-A991-476E-B067-1CEA1FB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2D0-1430-4E70-8F11-1975D9C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430-B48B-4163-B556-3BC5BA7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4EA-A20E-4AF4-902D-20326CDB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291-092F-4B6C-8B31-F14921C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F17-54F4-49C3-98C8-A8DF469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BB-2D47-46B5-BDBD-C2425D23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95-3DB0-4DFB-A331-DB0072E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2B0-FDE5-4498-B388-2894B2F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BA8-999B-4620-96AA-C9D50D5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0C3-3E2D-41B3-BEFB-89D883C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9CC-7E4E-4030-AF60-F92CAA2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001-A7C4-4685-A0BE-AED83098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2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7.gi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27.gif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3213000"/>
            <a:ext cx="2552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-ИГР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433000">
            <a:off x="3851280" y="4149360"/>
            <a:ext cx="13557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c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95280" y="476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Винни-Пуха много друз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 помните их имена? Назов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2592360" cy="2122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266400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64000" y="692280"/>
            <a:ext cx="2735280" cy="2238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651640" y="3141720"/>
            <a:ext cx="2663640" cy="217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995640" y="3213000"/>
            <a:ext cx="1592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71640" y="549360"/>
            <a:ext cx="6842160" cy="559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971640" y="476280"/>
            <a:ext cx="6912000" cy="5656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971640" y="549360"/>
            <a:ext cx="6842160" cy="559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971640" y="476280"/>
            <a:ext cx="6913440" cy="565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042920" y="476280"/>
            <a:ext cx="6913800" cy="565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042920" y="476280"/>
            <a:ext cx="6913800" cy="565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5508720" y="476280"/>
            <a:ext cx="1936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7288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529080" cy="3528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1125360"/>
            <a:ext cx="4932360" cy="2953080"/>
          </a:xfrm>
          <a:prstGeom prst="cloudCallout">
            <a:avLst>
              <a:gd name="adj1" fmla="val -61425"/>
              <a:gd name="adj2" fmla="val 2645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Сочиним «Кричал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3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3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переменке мы кри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ело и зво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ы «Кричалку» соч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, чтоб было гром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м учитель не да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кричаться вв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на нас сам так ор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ышно по все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то ж из нас шумней, друз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Мы и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уч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  на слух узна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Нужен звука измер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для справок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рич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аё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друз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вон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вол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чин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ё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нельз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ром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ко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измер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76280"/>
            <a:ext cx="934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76500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119700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1557360"/>
            <a:ext cx="86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1916280"/>
            <a:ext cx="936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276640"/>
            <a:ext cx="79200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2637000"/>
            <a:ext cx="64764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97360"/>
            <a:ext cx="792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357720"/>
            <a:ext cx="86364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716280"/>
            <a:ext cx="936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076640"/>
            <a:ext cx="865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4437000"/>
            <a:ext cx="143856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7154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ожем Винни-Пух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так говор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716360" y="1989000"/>
            <a:ext cx="2130480" cy="3097080"/>
            <a:chOff x="4716360" y="1989000"/>
            <a:chExt cx="2130480" cy="30970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716360" y="2709720"/>
              <a:ext cx="21304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364000" y="1989000"/>
              <a:ext cx="1152720" cy="576000"/>
            </a:xfrm>
            <a:prstGeom prst="cloudCallout">
              <a:avLst>
                <a:gd name="adj1" fmla="val 1930"/>
                <a:gd name="adj2" fmla="val 1257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1547640" y="549360"/>
            <a:ext cx="53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2920" y="11962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й любимый размер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942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724360" y="3068640"/>
            <a:ext cx="2447280" cy="2736360"/>
            <a:chOff x="5724360" y="3068640"/>
            <a:chExt cx="2447280" cy="273636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5724360" y="3752640"/>
              <a:ext cx="159264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900840" y="3068640"/>
              <a:ext cx="1270800" cy="7686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b8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2880" y="119592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 пятницы я совершенно свободен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541680" cy="40320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211640" y="2060640"/>
            <a:ext cx="2663640" cy="4030200"/>
            <a:chOff x="4211640" y="2060640"/>
            <a:chExt cx="2663640" cy="403020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716360" y="3932280"/>
              <a:ext cx="2158920" cy="21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211640" y="2060640"/>
              <a:ext cx="1655640" cy="1439640"/>
            </a:xfrm>
            <a:prstGeom prst="cloudCallout">
              <a:avLst>
                <a:gd name="adj1" fmla="val 23347"/>
                <a:gd name="adj2" fmla="val 888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1760" y="785160"/>
            <a:ext cx="79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Безвозмездно, то есть даром.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29955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763640" y="2349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1280" y="5373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«Я» бывают разны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5008680" cy="4097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06360" y="2997360"/>
            <a:ext cx="2206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00000" y="476280"/>
            <a:ext cx="7417080" cy="6068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900000" y="476280"/>
            <a:ext cx="7417080" cy="606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900000" y="476280"/>
            <a:ext cx="7417080" cy="606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900000" y="476280"/>
            <a:ext cx="7417080" cy="606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5435640" y="404640"/>
            <a:ext cx="1936800" cy="1944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7758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66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1876680" cy="332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131000">
            <a:off x="4647960" y="3068640"/>
            <a:ext cx="358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ова, открыва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ведь пришё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420600">
            <a:off x="1911960" y="4507560"/>
            <a:ext cx="54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Это неправильные пчёлы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7960" y="5384160"/>
            <a:ext cx="47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разу никто не уходит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487600">
            <a:off x="490320" y="1793520"/>
            <a:ext cx="526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то ходит в гости по утр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т поступает мудр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Кому принадлежат следующ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619280" y="1197000"/>
            <a:ext cx="59040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овых встреч!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8172360" cy="1712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3565440" y="-531720"/>
            <a:ext cx="334008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4130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69674E-006 C 0.00903 0.00369 0.01354 0.01965 0.01997 0.02821 C 0.02274 0.03909 0.01875 0.02544 0.02587 0.03909 C 0.02656 0.04047 0.02639 0.04232 0.02691 0.04371 C 0.03194 0.05597 0.0408 0.0717 0.04809 0.08142 C 0.05382 0.10339 0.075 0.12167 0.08819 0.13624 C 0.09601 0.1448 0.09896 0.15706 0.10469 0.1677 C 0.1066 0.1714 0.10781 0.17626 0.11059 0.17857 C 0.12101 0.18736 0.13142 0.19314 0.14236 0.20055 C 0.15208 0.20702 0.15434 0.21096 0.1658 0.21304 C 0.1724 0.21766 0.17743 0.22275 0.18455 0.22553 C 0.19097 0.23131 0.19844 0.23594 0.20573 0.23964 C 0.20694 0.24126 0.20799 0.24334 0.20937 0.2445 C 0.21042 0.24542 0.21181 0.24496 0.21285 0.24589 C 0.23594 0.2674 0.21406 0.25167 0.23403 0.26485 C 0.24497 0.27226 0.22604 0.26277 0.24444 0.2711 C 0.24583 0.27156 0.24792 0.27272 0.24792 0.27272 C 0.25191 0.27758 0.25122 0.27781 0.25625 0.28058 C 0.25938 0.2822 0.26563 0.28521 0.26563 0.28521 C 0.27049 0.28984 0.27413 0.29261 0.27986 0.29469 C 0.29566 0.30788 0.26962 0.28706 0.28802 0.29932 C 0.28976 0.30048 0.29097 0.30279 0.29271 0.30395 C 0.30903 0.31598 0.33021 0.31551 0.34792 0.31644 C 0.36094 0.31598 0.37396 0.31598 0.38698 0.31505 C 0.39236 0.31459 0.39774 0.31042 0.4033 0.31019 C 0.42674 0.30927 0.45052 0.30904 0.47396 0.30857 C 0.48212 0.30695 0.4901 0.30395 0.49878 0.30233 C 0.52986 0.28984 0.55469 0.294 0.59045 0.29308 C 0.60295 0.28752 0.6276 0.29516 0.64097 0.29608 C 0.64774 0.29793 0.65434 0.29978 0.66094 0.30233 C 0.66667 0.30464 0.67378 0.3095 0.67969 0.31019 C 0.68368 0.31066 0.6875 0.31019 0.69149 0.31019 E"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251136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8207280" cy="171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ТЕМА УРОКА: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43280" y="2060640"/>
            <a:ext cx="3071880" cy="331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0920" y="836640"/>
            <a:ext cx="76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«ПЕСЕНКИ ВИННИ-ПУХА БОРИСА ЗАХОДЕРА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будем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Определять основную мысль пес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Обращать внимание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ые слова и выражения, объяснять их, развивать сво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Читать выраз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994600">
            <a:off x="1042560" y="980640"/>
            <a:ext cx="217008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1044000">
            <a:off x="6227280" y="907920"/>
            <a:ext cx="2162160" cy="2955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35280" y="1484280"/>
            <a:ext cx="1989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3ebb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имое лакомство М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Что сочинял Медвежон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  из героев потерял свой хво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го цвета был шарик, когда Мишка пел песенку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Я Тучка, Тучка, Тучк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овсе не медведь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х, как приятно Тучк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небу лететь!»?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570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3640" y="4003560"/>
            <a:ext cx="338400" cy="50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38400" cy="50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3640" y="5011560"/>
            <a:ext cx="338400" cy="50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411280" y="549360"/>
            <a:ext cx="46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227664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01200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012000" y="335772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012000" y="3860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709308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7093080" y="342900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093080" y="4005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7093080" y="45100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7093080" y="5013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810108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8101080" y="342900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8101080" y="4005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8101080" y="45100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8101080" y="5013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 rot="20888400">
            <a:off x="6659640" y="-1900080"/>
            <a:ext cx="1143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12 0.10641 C 0.08819 0.11057 0.09531 0.11358 0.10208 0.11589 C 0.11389 0.12746 0.11858 0.14874 0.12691 0.16447 C 0.12882 0.17627 0.13507 0.18552 0.13976 0.1957 C 0.14097 0.20195 0.14323 0.20565 0.14444 0.21166 C 0.14531 0.21559 0.14601 0.21976 0.14687 0.22392 C 0.14722 0.22623 0.14809 0.2304 0.14809 0.2304 C 0.14896 0.24752 0.15191 0.26255 0.15399 0.27898 C 0.15312 0.29494 0.15295 0.31136 0.15156 0.32755 C 0.15069 0.3375 0.14774 0.3375 0.14444 0.34629 C 0.1401 0.35786 0.13715 0.37012 0.13038 0.37914 C 0.12743 0.3907 0.13177 0.37636 0.12569 0.38862 C 0.12326 0.39348 0.12292 0.39926 0.11979 0.40435 C 0.11545 0.41129 0.11024 0.41291 0.10451 0.41684 C 0.09792 0.42147 0.09271 0.4261 0.08559 0.4291 C 0.07882 0.43211 0.06979 0.43442 0.06337 0.43882 C 0.06215 0.43974 0.06094 0.44113 0.05972 0.44183 C 0.05816 0.44321 0.05382 0.44645 0.05503 0.44483 C 0.0566 0.44298 0.06094 0.44044 0.06094 0.44044 E">
                                      <p:cBhvr>
                                        <p:cTn id="7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50804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илн Алан Алексан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1882-19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17988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732720" y="404640"/>
            <a:ext cx="1341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1628640"/>
            <a:ext cx="152244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356000" y="476280"/>
            <a:ext cx="1432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500720" y="3141720"/>
            <a:ext cx="1379520" cy="187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419640" y="1773360"/>
            <a:ext cx="14601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b8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ис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о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18 - 2000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29116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92720" y="476280"/>
            <a:ext cx="2857680" cy="387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772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flipH="1">
            <a:off x="5580000" y="256536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21964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219640" y="2565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692360" y="692280"/>
            <a:ext cx="3755880" cy="3816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16000" y="51577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Евгений Ле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926-19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826920" y="2852640"/>
            <a:ext cx="1740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5705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1:22:58Z</dcterms:created>
  <dc:creator>Надя</dc:creator>
  <dc:description/>
  <dc:language>en-US</dc:language>
  <cp:lastModifiedBy>Надя</cp:lastModifiedBy>
  <dcterms:modified xsi:type="dcterms:W3CDTF">2013-02-04T16:55:45Z</dcterms:modified>
  <cp:revision>60</cp:revision>
  <dc:subject/>
  <dc:title>Слайд 1</dc:title>
</cp:coreProperties>
</file>