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16B-B9C6-4AB1-912F-AC790AA2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FAA-F94E-4A15-B2A8-5796639E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D12-A274-4B31-80EA-6EAA7410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0B2-D79B-4A9A-B7A7-B879D9FD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C5B-8ADD-4F4E-A202-C9D56096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FC8-CB54-4EA0-AC30-92DC5723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4B1-FB25-4F36-8512-EE15344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448-6B75-4478-9FC9-E3C944A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9B0-F156-4172-BEE9-E794B083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3B3-B283-4240-88BC-998957A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237-F335-4E6C-BA2D-F3438A1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CF4-E810-4E80-A043-151638D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1518-2E60-418D-A637-7D6690BAF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357120"/>
          <a:ext cx="9144000" cy="4735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на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ē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(кроме Н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n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   n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лн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под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эле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. 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эле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. 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эле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фотерн 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эле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ертные га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ко 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TextBox 5"/>
          <p:cNvSpPr/>
          <p:nvPr/>
        </p:nvSpPr>
        <p:spPr>
          <a:xfrm>
            <a:off x="642960" y="271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"/>
          <p:cNvPicPr/>
          <p:nvPr/>
        </p:nvPicPr>
        <p:blipFill>
          <a:blip r:embed="rId1"/>
          <a:stretch/>
        </p:blipFill>
        <p:spPr>
          <a:xfrm>
            <a:off x="8429760" y="557208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"/>
          <p:cNvPicPr/>
          <p:nvPr/>
        </p:nvPicPr>
        <p:blipFill>
          <a:blip r:embed="rId2"/>
          <a:stretch/>
        </p:blipFill>
        <p:spPr>
          <a:xfrm>
            <a:off x="2428920" y="5643720"/>
            <a:ext cx="1500120" cy="571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"/>
          <p:cNvPicPr/>
          <p:nvPr/>
        </p:nvPicPr>
        <p:blipFill>
          <a:blip r:embed="rId3"/>
          <a:stretch/>
        </p:blipFill>
        <p:spPr>
          <a:xfrm>
            <a:off x="5072040" y="5643720"/>
            <a:ext cx="30718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"/>
          <p:cNvPicPr/>
          <p:nvPr/>
        </p:nvPicPr>
        <p:blipFill>
          <a:blip r:embed="rId4"/>
          <a:stretch/>
        </p:blipFill>
        <p:spPr>
          <a:xfrm>
            <a:off x="785880" y="5643720"/>
            <a:ext cx="500040" cy="57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285840" y="635796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5"/>
          <a:stretch/>
        </p:blipFill>
        <p:spPr>
          <a:xfrm>
            <a:off x="285840" y="32860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"/>
          <p:cNvPicPr/>
          <p:nvPr/>
        </p:nvPicPr>
        <p:blipFill>
          <a:blip r:embed="rId6"/>
          <a:stretch/>
        </p:blipFill>
        <p:spPr>
          <a:xfrm>
            <a:off x="2143080" y="328608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5" descr=""/>
          <p:cNvPicPr/>
          <p:nvPr/>
        </p:nvPicPr>
        <p:blipFill>
          <a:blip r:embed="rId7"/>
          <a:stretch/>
        </p:blipFill>
        <p:spPr>
          <a:xfrm>
            <a:off x="3714840" y="3286080"/>
            <a:ext cx="42840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"/>
          <p:cNvPicPr/>
          <p:nvPr/>
        </p:nvPicPr>
        <p:blipFill>
          <a:blip r:embed="rId8"/>
          <a:stretch/>
        </p:blipFill>
        <p:spPr>
          <a:xfrm>
            <a:off x="4286160" y="3286080"/>
            <a:ext cx="114300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"/>
          <p:cNvPicPr/>
          <p:nvPr/>
        </p:nvPicPr>
        <p:blipFill>
          <a:blip r:embed="rId9"/>
          <a:stretch/>
        </p:blipFill>
        <p:spPr>
          <a:xfrm>
            <a:off x="5572080" y="328608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8" descr=""/>
          <p:cNvPicPr/>
          <p:nvPr/>
        </p:nvPicPr>
        <p:blipFill>
          <a:blip r:embed="rId10"/>
          <a:stretch/>
        </p:blipFill>
        <p:spPr>
          <a:xfrm>
            <a:off x="6143760" y="3286080"/>
            <a:ext cx="1071360" cy="571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4"/>
          <p:cNvSpPr/>
          <p:nvPr/>
        </p:nvSpPr>
        <p:spPr>
          <a:xfrm>
            <a:off x="2500200" y="26431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 flipH="1">
            <a:off x="3857040" y="2500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5857920" y="2643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7429680" y="1571760"/>
            <a:ext cx="45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8"/>
          <p:cNvSpPr/>
          <p:nvPr/>
        </p:nvSpPr>
        <p:spPr>
          <a:xfrm>
            <a:off x="7358040" y="1500120"/>
            <a:ext cx="1785960" cy="366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14200" y="214200"/>
            <a:ext cx="87156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Электронное строение ато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атоме кальци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нергетических уровня, электроны расположены следующим образом: 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+2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2ē 8ē 8ē </a:t>
            </a: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600" spc="-1" strike="noStrike" baseline="30000">
                <a:solidFill>
                  <a:srgbClr val="00b0f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м  другую презент. Сл №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s_2"/>
          <p:cNvPicPr/>
          <p:nvPr/>
        </p:nvPicPr>
        <p:blipFill>
          <a:blip r:embed="rId1"/>
          <a:stretch/>
        </p:blipFill>
        <p:spPr>
          <a:xfrm>
            <a:off x="1357200" y="26431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s_2"/>
          <p:cNvPicPr/>
          <p:nvPr/>
        </p:nvPicPr>
        <p:blipFill>
          <a:blip r:embed="rId2"/>
          <a:stretch/>
        </p:blipFill>
        <p:spPr>
          <a:xfrm>
            <a:off x="2143080" y="2643120"/>
            <a:ext cx="55080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s_2"/>
          <p:cNvPicPr/>
          <p:nvPr/>
        </p:nvPicPr>
        <p:blipFill>
          <a:blip r:embed="rId3"/>
          <a:stretch/>
        </p:blipFill>
        <p:spPr>
          <a:xfrm>
            <a:off x="571680" y="2643120"/>
            <a:ext cx="571320" cy="666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s_2"/>
          <p:cNvPicPr/>
          <p:nvPr/>
        </p:nvPicPr>
        <p:blipFill>
          <a:blip r:embed="rId4"/>
          <a:stretch/>
        </p:blipFill>
        <p:spPr>
          <a:xfrm>
            <a:off x="2714760" y="2643120"/>
            <a:ext cx="5508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s_2"/>
          <p:cNvPicPr/>
          <p:nvPr/>
        </p:nvPicPr>
        <p:blipFill>
          <a:blip r:embed="rId5"/>
          <a:stretch/>
        </p:blipFill>
        <p:spPr>
          <a:xfrm>
            <a:off x="3286080" y="264312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s_2"/>
          <p:cNvPicPr/>
          <p:nvPr/>
        </p:nvPicPr>
        <p:blipFill>
          <a:blip r:embed="rId6"/>
          <a:stretch/>
        </p:blipFill>
        <p:spPr>
          <a:xfrm>
            <a:off x="4214880" y="264312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s_2"/>
          <p:cNvPicPr/>
          <p:nvPr/>
        </p:nvPicPr>
        <p:blipFill>
          <a:blip r:embed="rId7"/>
          <a:stretch/>
        </p:blipFill>
        <p:spPr>
          <a:xfrm>
            <a:off x="5143680" y="264312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s_2"/>
          <p:cNvPicPr/>
          <p:nvPr/>
        </p:nvPicPr>
        <p:blipFill>
          <a:blip r:embed="rId8"/>
          <a:stretch/>
        </p:blipFill>
        <p:spPr>
          <a:xfrm>
            <a:off x="5643720" y="264312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s_2"/>
          <p:cNvPicPr/>
          <p:nvPr/>
        </p:nvPicPr>
        <p:blipFill>
          <a:blip r:embed="rId9"/>
          <a:stretch/>
        </p:blipFill>
        <p:spPr>
          <a:xfrm>
            <a:off x="6143760" y="264312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s_2"/>
          <p:cNvPicPr/>
          <p:nvPr/>
        </p:nvPicPr>
        <p:blipFill>
          <a:blip r:embed="rId10"/>
          <a:stretch/>
        </p:blipFill>
        <p:spPr>
          <a:xfrm>
            <a:off x="7358040" y="26431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лезо –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лемент (…3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en-US" sz="4000" spc="-1" strike="noStrike" baseline="30000">
                <a:solidFill>
                  <a:srgbClr val="ff0000"/>
                </a:solidFill>
                <a:latin typeface="Calibri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28760" y="385776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572000" y="6215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>
            <a:off x="642960" y="2571840"/>
            <a:ext cx="8072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гнутая вверх стрелка 19"/>
          <p:cNvSpPr/>
          <p:nvPr/>
        </p:nvSpPr>
        <p:spPr>
          <a:xfrm>
            <a:off x="714240" y="2071800"/>
            <a:ext cx="1714680" cy="285480"/>
          </a:xfrm>
          <a:custGeom>
            <a:avLst/>
            <a:gdLst>
              <a:gd name="textAreaLeft" fmla="*/ 401760 w 1714680"/>
              <a:gd name="textAreaRight" fmla="*/ 1277280 w 171468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25" hR="21600" stAng="10800000" swAng="5400000"/>
                <a:lnTo>
                  <a:pt x="11025" y="0"/>
                </a:lnTo>
                <a:arcTo wR="10125" hR="21600" stAng="-5400000" swAng="3669178"/>
                <a:lnTo>
                  <a:pt x="21278" y="16200"/>
                </a:lnTo>
                <a:lnTo>
                  <a:pt x="20700" y="21600"/>
                </a:lnTo>
                <a:lnTo>
                  <a:pt x="19478" y="16200"/>
                </a:lnTo>
                <a:lnTo>
                  <a:pt x="19928" y="16200"/>
                </a:lnTo>
                <a:arcTo wR="10125" hR="21600" stAng="-1730822" swAng="-3597497"/>
                <a:lnTo>
                  <a:pt x="10575" y="21"/>
                </a:lnTo>
                <a:arcTo wR="10125" hR="21600" stAng="-5471680" swAng="-5328320"/>
                <a:close/>
              </a:path>
              <a:path fill="darkenLess" w="21600" h="21600">
                <a:moveTo>
                  <a:pt x="0" y="21600"/>
                </a:moveTo>
                <a:arcTo wR="10125" hR="21600" stAng="10800000" swAng="5400000"/>
                <a:lnTo>
                  <a:pt x="10125" y="0"/>
                </a:lnTo>
                <a:arcTo wR="10125" hR="21600" stAng="-5400000" swAng="71680"/>
                <a:lnTo>
                  <a:pt x="10575" y="21"/>
                </a:lnTo>
                <a:arcTo wR="10125" hR="21600" stAng="-5471680" swAng="-5328320"/>
                <a:close/>
              </a:path>
            </a:pathLst>
          </a:custGeom>
          <a:solidFill>
            <a:srgbClr val="4f81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 flipV="1" rot="10800000">
            <a:off x="1285560" y="3286080"/>
            <a:ext cx="571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21"/>
          <p:cNvSpPr/>
          <p:nvPr/>
        </p:nvSpPr>
        <p:spPr>
          <a:xfrm>
            <a:off x="4643280" y="22860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гнутая вверх стрелка 23"/>
          <p:cNvSpPr/>
          <p:nvPr/>
        </p:nvSpPr>
        <p:spPr>
          <a:xfrm>
            <a:off x="642960" y="1928880"/>
            <a:ext cx="4286160" cy="357120"/>
          </a:xfrm>
          <a:custGeom>
            <a:avLst/>
            <a:gdLst>
              <a:gd name="textAreaLeft" fmla="*/ 1037880 w 4286160"/>
              <a:gd name="textAreaRight" fmla="*/ 3203640 w 428616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63" hR="21600" stAng="10800000" swAng="5400000"/>
                <a:lnTo>
                  <a:pt x="10913" y="0"/>
                </a:lnTo>
                <a:arcTo wR="10463" hR="21600" stAng="-5400000" swAng="2713106"/>
                <a:lnTo>
                  <a:pt x="20567" y="12242"/>
                </a:lnTo>
                <a:lnTo>
                  <a:pt x="21150" y="21600"/>
                </a:lnTo>
                <a:lnTo>
                  <a:pt x="19667" y="12242"/>
                </a:lnTo>
                <a:lnTo>
                  <a:pt x="19892" y="12242"/>
                </a:lnTo>
                <a:arcTo wR="10463" hR="21600" stAng="-2686894" swAng="-2677289"/>
                <a:lnTo>
                  <a:pt x="10688" y="5"/>
                </a:lnTo>
                <a:arcTo wR="10463" hR="21600" stAng="-5435817" swAng="-5364183"/>
                <a:close/>
              </a:path>
              <a:path fill="darkenLess" w="21600" h="21600">
                <a:moveTo>
                  <a:pt x="0" y="21600"/>
                </a:moveTo>
                <a:arcTo wR="10463" hR="21600" stAng="10800000" swAng="5400000"/>
                <a:lnTo>
                  <a:pt x="10463" y="0"/>
                </a:lnTo>
                <a:arcTo wR="10463" hR="21600" stAng="-5400000" swAng="35817"/>
                <a:lnTo>
                  <a:pt x="10688" y="5"/>
                </a:lnTo>
                <a:arcTo wR="10463" hR="21600" stAng="-5435817" swAng="-5364183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ыгнутая вверх стрелка 24"/>
          <p:cNvSpPr/>
          <p:nvPr/>
        </p:nvSpPr>
        <p:spPr>
          <a:xfrm>
            <a:off x="571680" y="1571760"/>
            <a:ext cx="7072200" cy="785520"/>
          </a:xfrm>
          <a:custGeom>
            <a:avLst/>
            <a:gdLst>
              <a:gd name="textAreaLeft" fmla="*/ 1719000 w 7072200"/>
              <a:gd name="textAreaRight" fmla="*/ 5157000 w 707220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00" hR="21600" stAng="10800000" swAng="5400000"/>
                <a:lnTo>
                  <a:pt x="10500" y="0"/>
                </a:lnTo>
                <a:arcTo wR="10500" hR="21600" stAng="-5400000" swAng="3721494"/>
                <a:lnTo>
                  <a:pt x="21267" y="16200"/>
                </a:lnTo>
                <a:lnTo>
                  <a:pt x="21000" y="21600"/>
                </a:lnTo>
                <a:lnTo>
                  <a:pt x="20067" y="16200"/>
                </a:lnTo>
                <a:lnTo>
                  <a:pt x="20667" y="16200"/>
                </a:lnTo>
                <a:arcTo wR="10500" hR="21600" stAng="-1678506" swAng="-3721494"/>
                <a:lnTo>
                  <a:pt x="10500" y="0"/>
                </a:lnTo>
                <a:arcTo wR="10500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10500" hR="21600" stAng="10800000" swAng="5400000"/>
                <a:lnTo>
                  <a:pt x="10500" y="0"/>
                </a:lnTo>
                <a:arcTo wR="10500" hR="21600" stAng="-5400000" swAng="0"/>
                <a:lnTo>
                  <a:pt x="10500" y="0"/>
                </a:lnTo>
                <a:arcTo wR="10500" hR="21600" stAng="-5400000" swAng="-5400000"/>
                <a:close/>
              </a:path>
            </a:pathLst>
          </a:cu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1143000" y="21430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5929200" y="2214720"/>
            <a:ext cx="100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хема 28" descr=""/>
          <p:cNvPicPr/>
          <p:nvPr/>
        </p:nvPicPr>
        <p:blipFill>
          <a:blip r:embed="rId1"/>
          <a:stretch/>
        </p:blipFill>
        <p:spPr>
          <a:xfrm>
            <a:off x="-19080" y="3492360"/>
            <a:ext cx="9242280" cy="2957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8"/>
          <p:cNvSpPr/>
          <p:nvPr/>
        </p:nvSpPr>
        <p:spPr>
          <a:xfrm>
            <a:off x="3214800" y="8143920"/>
            <a:ext cx="8786880" cy="25628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0"/>
          <p:cNvSpPr/>
          <p:nvPr/>
        </p:nvSpPr>
        <p:spPr>
          <a:xfrm>
            <a:off x="7429680" y="235728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6"/>
          <p:cNvSpPr/>
          <p:nvPr/>
        </p:nvSpPr>
        <p:spPr>
          <a:xfrm flipV="1">
            <a:off x="2286000" y="23565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7"/>
          <p:cNvSpPr/>
          <p:nvPr/>
        </p:nvSpPr>
        <p:spPr>
          <a:xfrm>
            <a:off x="642960" y="2428920"/>
            <a:ext cx="152280" cy="204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358280" y="28548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500040" y="250020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                    +2                        +2,+3                                     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              Fe                 Fe                           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214200"/>
          <a:ext cx="9144000" cy="2152800"/>
        </p:xfrm>
        <a:graphic>
          <a:graphicData uri="http://schemas.openxmlformats.org/drawingml/2006/table">
            <a:tbl>
              <a:tblPr/>
              <a:tblGrid>
                <a:gridCol w="2641680"/>
                <a:gridCol w="3251160"/>
                <a:gridCol w="3251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r>
                        <a:rPr b="1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r>
                        <a:rPr b="1" lang="ru-RU" sz="4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2 +3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r>
                        <a:rPr b="1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9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сти уравнения реакций со стр.203-2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2643120" y="214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единени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хема 4" descr=""/>
          <p:cNvPicPr/>
          <p:nvPr/>
        </p:nvPicPr>
        <p:blipFill>
          <a:blip r:embed="rId1"/>
          <a:stretch/>
        </p:blipFill>
        <p:spPr>
          <a:xfrm>
            <a:off x="487440" y="2133720"/>
            <a:ext cx="8040600" cy="4736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4429080" y="6429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7"/>
          <p:cNvCxnSpPr/>
          <p:nvPr/>
        </p:nvCxnSpPr>
        <p:spPr>
          <a:xfrm flipH="1">
            <a:off x="3285720" y="1000080"/>
            <a:ext cx="1215360" cy="357840"/>
          </a:xfrm>
          <a:prstGeom prst="straightConnector1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</p:cxnSp>
      <p:cxnSp>
        <p:nvCxnSpPr>
          <p:cNvPr id="94" name="Прямая со стрелкой 9"/>
          <p:cNvCxnSpPr/>
          <p:nvPr/>
        </p:nvCxnSpPr>
        <p:spPr>
          <a:xfrm>
            <a:off x="5000400" y="999720"/>
            <a:ext cx="1215000" cy="42948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sp>
        <p:nvSpPr>
          <p:cNvPr id="95" name="TextBox 11"/>
          <p:cNvSpPr/>
          <p:nvPr/>
        </p:nvSpPr>
        <p:spPr>
          <a:xfrm>
            <a:off x="5572080" y="1571760"/>
            <a:ext cx="121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643720" y="1500120"/>
            <a:ext cx="1214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6000840" y="1428840"/>
            <a:ext cx="928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6072120" y="128592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6000840" y="1357200"/>
            <a:ext cx="1214280" cy="9471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6c0a"/>
                </a:solidFill>
                <a:latin typeface="Times New Roman"/>
                <a:ea typeface="Calibri"/>
              </a:rPr>
              <a:t>Fe</a:t>
            </a:r>
            <a:r>
              <a:rPr b="1" lang="en-US" sz="2800" spc="-1" strike="noStrike" baseline="30000">
                <a:solidFill>
                  <a:srgbClr val="e36c0a"/>
                </a:solidFill>
                <a:latin typeface="Times New Roman"/>
                <a:ea typeface="Calibri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2143080" y="1357200"/>
            <a:ext cx="1285920" cy="10688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Calibri"/>
              </a:rPr>
              <a:t>Fe</a:t>
            </a:r>
            <a:r>
              <a:rPr b="1" lang="en-US" sz="3200" spc="-1" strike="noStrike" baseline="30000">
                <a:solidFill>
                  <a:srgbClr val="00b050"/>
                </a:solidFill>
                <a:latin typeface="Times New Roman"/>
                <a:ea typeface="Calibri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23"/>
          <p:cNvCxnSpPr/>
          <p:nvPr/>
        </p:nvCxnSpPr>
        <p:spPr>
          <a:xfrm>
            <a:off x="3214440" y="4357800"/>
            <a:ext cx="28580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24"/>
          <p:cNvSpPr/>
          <p:nvPr/>
        </p:nvSpPr>
        <p:spPr>
          <a:xfrm>
            <a:off x="3286080" y="3929040"/>
            <a:ext cx="250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26"/>
          <p:cNvCxnSpPr>
            <a:endCxn id="96" idx="1"/>
          </p:cNvCxnSpPr>
          <p:nvPr/>
        </p:nvCxnSpPr>
        <p:spPr>
          <a:xfrm flipV="1">
            <a:off x="3642840" y="1684440"/>
            <a:ext cx="2001240" cy="30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28"/>
          <p:cNvCxnSpPr/>
          <p:nvPr/>
        </p:nvCxnSpPr>
        <p:spPr>
          <a:xfrm flipH="1" flipV="1">
            <a:off x="3642840" y="1928520"/>
            <a:ext cx="1929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Прямая со стрелкой 30"/>
          <p:cNvCxnSpPr/>
          <p:nvPr/>
        </p:nvCxnSpPr>
        <p:spPr>
          <a:xfrm flipH="1">
            <a:off x="1856520" y="5143680"/>
            <a:ext cx="252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Прямая со стрелкой 31"/>
          <p:cNvCxnSpPr/>
          <p:nvPr/>
        </p:nvCxnSpPr>
        <p:spPr>
          <a:xfrm flipH="1">
            <a:off x="7429320" y="5214960"/>
            <a:ext cx="216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TextBox 33"/>
          <p:cNvSpPr/>
          <p:nvPr/>
        </p:nvSpPr>
        <p:spPr>
          <a:xfrm>
            <a:off x="7643880" y="4929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2143080" y="48578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ыгнутая вправо стрелка 41"/>
          <p:cNvSpPr/>
          <p:nvPr/>
        </p:nvSpPr>
        <p:spPr>
          <a:xfrm>
            <a:off x="2857680" y="2214720"/>
            <a:ext cx="500040" cy="1785960"/>
          </a:xfrm>
          <a:custGeom>
            <a:avLst/>
            <a:gdLst>
              <a:gd name="textAreaLeft" fmla="*/ 66960 w 500040"/>
              <a:gd name="textAreaRight" fmla="*/ 433080 w 500040"/>
              <a:gd name="textAreaTop" fmla="*/ 399600 h 1785960"/>
              <a:gd name="textAreaBottom" fmla="*/ 132408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66" stAng="-5400000" swAng="5400000"/>
                <a:lnTo>
                  <a:pt x="21600" y="11178"/>
                </a:lnTo>
                <a:arcTo wR="21600" hR="9666" stAng="0" swAng="3600953"/>
                <a:lnTo>
                  <a:pt x="5400" y="21293"/>
                </a:lnTo>
                <a:lnTo>
                  <a:pt x="0" y="20088"/>
                </a:lnTo>
                <a:lnTo>
                  <a:pt x="5400" y="18269"/>
                </a:lnTo>
                <a:lnTo>
                  <a:pt x="5400" y="19025"/>
                </a:lnTo>
                <a:arcTo wR="21600" hR="9666" stAng="3600953" swAng="-3480312"/>
                <a:lnTo>
                  <a:pt x="21534" y="10422"/>
                </a:lnTo>
                <a:arcTo wR="21600" hR="9666" stAng="-120641" swAng="-5279359"/>
                <a:close/>
              </a:path>
              <a:path fill="darkenLess" w="21600" h="21600">
                <a:moveTo>
                  <a:pt x="0" y="0"/>
                </a:moveTo>
                <a:arcTo wR="21600" hR="9666" stAng="-5400000" swAng="5400000"/>
                <a:lnTo>
                  <a:pt x="21600" y="11178"/>
                </a:lnTo>
                <a:arcTo wR="21600" hR="9666" stAng="0" swAng="-120641"/>
                <a:lnTo>
                  <a:pt x="21534" y="10422"/>
                </a:lnTo>
                <a:arcTo wR="21600" hR="9666" stAng="-120641" swAng="-5279359"/>
                <a:close/>
              </a:path>
            </a:pathLst>
          </a:custGeom>
          <a:solidFill>
            <a:srgbClr val="4f81bd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гнутая влево стрелка 42"/>
          <p:cNvSpPr/>
          <p:nvPr/>
        </p:nvSpPr>
        <p:spPr>
          <a:xfrm>
            <a:off x="5572080" y="2143080"/>
            <a:ext cx="500040" cy="1857600"/>
          </a:xfrm>
          <a:custGeom>
            <a:avLst/>
            <a:gdLst>
              <a:gd name="textAreaLeft" fmla="*/ 66960 w 500040"/>
              <a:gd name="textAreaRight" fmla="*/ 433080 w 500040"/>
              <a:gd name="textAreaTop" fmla="*/ 417240 h 1857600"/>
              <a:gd name="textAreaBottom" fmla="*/ 1377720 h 18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10" stAng="-5400000" swAng="-5400000"/>
                <a:lnTo>
                  <a:pt x="0" y="11164"/>
                </a:lnTo>
                <a:arcTo wR="21600" hR="9710" stAng="10800000" swAng="-3607627"/>
                <a:lnTo>
                  <a:pt x="16200" y="21292"/>
                </a:lnTo>
                <a:lnTo>
                  <a:pt x="21600" y="20146"/>
                </a:lnTo>
                <a:lnTo>
                  <a:pt x="16200" y="18384"/>
                </a:lnTo>
                <a:lnTo>
                  <a:pt x="16200" y="19111"/>
                </a:lnTo>
                <a:arcTo wR="21600" hR="9710" stAng="7192373" swAng="3491640"/>
                <a:lnTo>
                  <a:pt x="61" y="10437"/>
                </a:lnTo>
                <a:arcTo wR="21600" hR="9710" stAng="-10684013" swAng="5284013"/>
                <a:close/>
              </a:path>
              <a:path fill="darkenLess" w="21600" h="21600">
                <a:moveTo>
                  <a:pt x="21600" y="0"/>
                </a:moveTo>
                <a:arcTo wR="21600" hR="9710" stAng="-5400000" swAng="-5400000"/>
                <a:lnTo>
                  <a:pt x="0" y="9710"/>
                </a:lnTo>
                <a:arcTo wR="21600" hR="9710" stAng="10800000" swAng="-115987"/>
                <a:lnTo>
                  <a:pt x="61" y="10437"/>
                </a:lnTo>
                <a:arcTo wR="21600" hR="9710" stAng="-10684013" swAng="5284013"/>
                <a:close/>
              </a:path>
            </a:pathLst>
          </a:custGeom>
          <a:solidFill>
            <a:srgbClr val="4f81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3"/>
          <p:cNvSpPr/>
          <p:nvPr/>
        </p:nvSpPr>
        <p:spPr>
          <a:xfrm>
            <a:off x="2857680" y="27860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4"/>
          <p:cNvSpPr/>
          <p:nvPr/>
        </p:nvSpPr>
        <p:spPr>
          <a:xfrm>
            <a:off x="5500800" y="27147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5"/>
          <p:cNvSpPr/>
          <p:nvPr/>
        </p:nvSpPr>
        <p:spPr>
          <a:xfrm>
            <a:off x="328608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ис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3714840" y="1428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ис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3000240" y="7142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5286240" y="7142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4"/>
          <p:cNvSpPr/>
          <p:nvPr/>
        </p:nvSpPr>
        <p:spPr>
          <a:xfrm>
            <a:off x="5357880" y="642960"/>
            <a:ext cx="6429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5"/>
          <p:cNvSpPr/>
          <p:nvPr/>
        </p:nvSpPr>
        <p:spPr>
          <a:xfrm>
            <a:off x="642960" y="3286080"/>
            <a:ext cx="792972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6"/>
          <p:cNvSpPr/>
          <p:nvPr/>
        </p:nvSpPr>
        <p:spPr>
          <a:xfrm>
            <a:off x="3571920" y="1428840"/>
            <a:ext cx="2214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8"/>
          <p:cNvSpPr/>
          <p:nvPr/>
        </p:nvSpPr>
        <p:spPr>
          <a:xfrm>
            <a:off x="3071880" y="714240"/>
            <a:ext cx="7142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9"/>
          <p:cNvSpPr/>
          <p:nvPr/>
        </p:nvSpPr>
        <p:spPr>
          <a:xfrm>
            <a:off x="2786040" y="2143080"/>
            <a:ext cx="71424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0"/>
          <p:cNvSpPr/>
          <p:nvPr/>
        </p:nvSpPr>
        <p:spPr>
          <a:xfrm>
            <a:off x="5357880" y="2143080"/>
            <a:ext cx="85716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3"/>
          <p:cNvSpPr/>
          <p:nvPr/>
        </p:nvSpPr>
        <p:spPr>
          <a:xfrm>
            <a:off x="3071880" y="3857760"/>
            <a:ext cx="2714400" cy="14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4"/>
          <p:cNvSpPr/>
          <p:nvPr/>
        </p:nvSpPr>
        <p:spPr>
          <a:xfrm>
            <a:off x="642960" y="5072040"/>
            <a:ext cx="764388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5"/>
          <p:cNvSpPr/>
          <p:nvPr/>
        </p:nvSpPr>
        <p:spPr>
          <a:xfrm>
            <a:off x="785880" y="2143080"/>
            <a:ext cx="200016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6"/>
          <p:cNvSpPr/>
          <p:nvPr/>
        </p:nvSpPr>
        <p:spPr>
          <a:xfrm>
            <a:off x="6215040" y="2143080"/>
            <a:ext cx="221472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7"/>
          <p:cNvSpPr/>
          <p:nvPr/>
        </p:nvSpPr>
        <p:spPr>
          <a:xfrm>
            <a:off x="571680" y="6143760"/>
            <a:ext cx="77151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2643120" y="21420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нетические ряды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4" descr=""/>
          <p:cNvPicPr/>
          <p:nvPr/>
        </p:nvPicPr>
        <p:blipFill>
          <a:blip r:embed="rId1"/>
          <a:stretch/>
        </p:blipFill>
        <p:spPr>
          <a:xfrm>
            <a:off x="378000" y="2494080"/>
            <a:ext cx="7918200" cy="4717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429080" y="6429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7"/>
          <p:cNvCxnSpPr/>
          <p:nvPr/>
        </p:nvCxnSpPr>
        <p:spPr>
          <a:xfrm flipH="1">
            <a:off x="3285720" y="1000080"/>
            <a:ext cx="1215360" cy="357840"/>
          </a:xfrm>
          <a:prstGeom prst="straightConnector1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</p:cxnSp>
      <p:cxnSp>
        <p:nvCxnSpPr>
          <p:cNvPr id="132" name="Прямая со стрелкой 9"/>
          <p:cNvCxnSpPr/>
          <p:nvPr/>
        </p:nvCxnSpPr>
        <p:spPr>
          <a:xfrm>
            <a:off x="5000400" y="999720"/>
            <a:ext cx="1215000" cy="42948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sp>
        <p:nvSpPr>
          <p:cNvPr id="133" name="TextBox 11"/>
          <p:cNvSpPr/>
          <p:nvPr/>
        </p:nvSpPr>
        <p:spPr>
          <a:xfrm>
            <a:off x="5572080" y="1571760"/>
            <a:ext cx="121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643720" y="1500120"/>
            <a:ext cx="1214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6000840" y="1428840"/>
            <a:ext cx="928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6072120" y="128592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6000840" y="1357200"/>
            <a:ext cx="1571400" cy="825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Calibri"/>
                <a:ea typeface="Calibri"/>
              </a:rPr>
              <a:t>FeCl</a:t>
            </a:r>
            <a:r>
              <a:rPr b="1" lang="en-US" sz="3600" spc="-1" strike="noStrike">
                <a:solidFill>
                  <a:srgbClr val="e46c0a"/>
                </a:solidFill>
                <a:latin typeface="Calibri"/>
                <a:ea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1571760" y="1357200"/>
            <a:ext cx="1857240" cy="9169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  <a:ea typeface="Calibri"/>
              </a:rPr>
              <a:t>FeCl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30"/>
          <p:cNvCxnSpPr/>
          <p:nvPr/>
        </p:nvCxnSpPr>
        <p:spPr>
          <a:xfrm flipH="1">
            <a:off x="1784160" y="4214520"/>
            <a:ext cx="216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31"/>
          <p:cNvCxnSpPr/>
          <p:nvPr/>
        </p:nvCxnSpPr>
        <p:spPr>
          <a:xfrm flipH="1">
            <a:off x="6571440" y="4214520"/>
            <a:ext cx="252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Box 33"/>
          <p:cNvSpPr/>
          <p:nvPr/>
        </p:nvSpPr>
        <p:spPr>
          <a:xfrm>
            <a:off x="7072200" y="4286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5"/>
          <p:cNvSpPr/>
          <p:nvPr/>
        </p:nvSpPr>
        <p:spPr>
          <a:xfrm>
            <a:off x="2143080" y="421488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51"/>
          <p:cNvCxnSpPr/>
          <p:nvPr/>
        </p:nvCxnSpPr>
        <p:spPr>
          <a:xfrm flipH="1">
            <a:off x="1856520" y="2356920"/>
            <a:ext cx="50076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53"/>
          <p:cNvCxnSpPr/>
          <p:nvPr/>
        </p:nvCxnSpPr>
        <p:spPr>
          <a:xfrm>
            <a:off x="6285600" y="2357280"/>
            <a:ext cx="572040" cy="85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60"/>
          <p:cNvCxnSpPr/>
          <p:nvPr/>
        </p:nvCxnSpPr>
        <p:spPr>
          <a:xfrm flipV="1">
            <a:off x="2357280" y="1213560"/>
            <a:ext cx="2215440" cy="428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63"/>
          <p:cNvCxnSpPr/>
          <p:nvPr/>
        </p:nvCxnSpPr>
        <p:spPr>
          <a:xfrm flipH="1" flipV="1">
            <a:off x="4714560" y="1213560"/>
            <a:ext cx="1572480" cy="428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6:53:52Z</dcterms:created>
  <dc:creator>Степан</dc:creator>
  <dc:description/>
  <dc:language>en-US</dc:language>
  <cp:lastModifiedBy>Ира</cp:lastModifiedBy>
  <dcterms:modified xsi:type="dcterms:W3CDTF">2015-04-29T15:23:55Z</dcterms:modified>
  <cp:revision>44</cp:revision>
  <dc:subject/>
  <dc:title>Слайд 1</dc:title>
</cp:coreProperties>
</file>