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F36-06EE-4C39-A3D6-CF866B18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381-EEE5-49C5-AB06-D532F2A3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DFE-8353-44D0-8238-8EE08FCA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B2D-4F93-4660-A316-89A8057F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FAF3-D0F3-4880-AB86-FBC81698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21D9-A17E-4261-82CC-BCBB5713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C74E-8F65-4CF9-98B1-83297843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C447-43E7-45E4-B190-C08F48E7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3B79-EB0B-4712-B63A-77FD9E8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C40A-580B-4FE4-A867-B2A04C78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FF59-86F8-4FC3-A49D-E574385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723-3744-4897-A61B-2DC8D674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47D4-6EA5-4033-BBFD-6AA5EFE7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AE36-74EE-468D-8074-16B81AC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D08E-DF3D-4862-8A8F-098410A9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F3A-4FA1-4C7E-A26E-927FE168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853F-BC68-4C74-B8A8-64A012B7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A434-0CC6-4137-A3E4-D62BE39B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853B-3DAE-4D1C-9522-85F109EB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AF15-8ED6-4114-A293-7884AC6B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6832-DE5C-4BB8-A8D4-6C68EC6C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3933-B029-41B5-A9C5-69A6EA64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86B-B57B-441A-AAB5-68328D44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49BC-A433-4AE2-9E62-F502B67C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A5ED-0557-4BC1-B3E7-AF12FE08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C173-7DC4-4FA3-B67A-937967B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D3C4-4968-4D5A-A5AC-8784464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188B-CB13-4B21-87FA-168E9ACF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8C0D-97C2-4ACD-8474-87C1F88B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FC20-3649-4FD3-A210-E7E8BB13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6D3C-F9E9-4976-9EAE-B708732D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873F-38BD-460E-85B4-47E87B1D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71037-16E8-4A5F-A1CF-7A384EAE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F54-1F9A-45BF-97F8-24FA3E06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17B8C-4A93-4936-83D6-FD7978EA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EE598-EB2B-4D02-8054-0820AB90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01E07-51C9-4CC4-9295-1ADACEC9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10353-0326-46C2-BA1B-08D5FDA2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7779-9DF7-4FF1-89F0-9CB0180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61FA-9F0C-4848-8C1A-691B5885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2A02-24E4-4F91-A36B-440C175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ED6B-1247-4C0F-9629-52568B5E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0D5A-78E6-4489-8877-ABEC2F49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35F-FEFC-4F8D-B32F-F6586EED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8C5-80C7-42E1-9463-9A91FEB2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9AF-7CAD-4E10-820A-A351B7F8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4AF-73B8-4D23-B3E2-96B1D39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652-7395-4BD6-9287-FDF5379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7f5"/>
            </a:gs>
            <a:gs pos="100000">
              <a:srgbClr val="c1c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C27-1E44-486D-A603-72DA42024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7f5"/>
            </a:gs>
            <a:gs pos="100000">
              <a:srgbClr val="c1c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B1F4-3E25-4DC2-8D45-00A95D342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7f5"/>
            </a:gs>
            <a:gs pos="100000">
              <a:srgbClr val="c1c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57AF-E1A6-4ECE-8807-5FA8299E5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7f5"/>
            </a:gs>
            <a:gs pos="100000">
              <a:srgbClr val="c1ce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B8F9-6086-4F68-8809-F0F24743B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kpfu.ru/portal/docs/F_2128180/44.03.05.Pedagogicheskoe.obrazovanie._s.dvumya.profilyami.podgotov.pdf" TargetMode="External"/><Relationship Id="rId2" Type="http://schemas.openxmlformats.org/officeDocument/2006/relationships/hyperlink" Target="https://kpfu.ru/portal/docs/F_2128180/44.03.05.Pedagogicheskoe.obrazovanie._s.dvumya.profilyami.podgotov.pdf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91600" y="355680"/>
            <a:ext cx="8572680" cy="61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Развитие системы национального образования Зеленодольского муниципального района </a:t>
            </a:r>
            <a:br>
              <a:rPr sz="4400"/>
            </a:br>
            <a:r>
              <a:rPr b="1" lang="ru-RU" sz="44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в 2018-2019 учебном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а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 и ЛИТЕРАТУР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838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вариантной (обязательной) ча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ются вариант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тарских школах – 3/2, 3/3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сских школах - 2/2  или 2/1 часа в нед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ТАТАРСКОГО ЯЗЫКА </a:t>
            </a:r>
            <a:br>
              <a:rPr sz="24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колах с русским языком обучени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47680" y="1092240"/>
          <a:ext cx="4127400" cy="5456160"/>
        </p:xfrm>
        <a:graphic>
          <a:graphicData uri="http://schemas.openxmlformats.org/drawingml/2006/table">
            <a:tbl>
              <a:tblPr/>
              <a:tblGrid>
                <a:gridCol w="317520"/>
                <a:gridCol w="1625400"/>
                <a:gridCol w="723960"/>
                <a:gridCol w="749520"/>
                <a:gridCol w="711000"/>
              </a:tblGrid>
              <a:tr h="25092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/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95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ская СОШ №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яж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йш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латская СОШ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5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ерватор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2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иф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й им.В.В.Карп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яж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591080" y="1081080"/>
          <a:ext cx="4057560" cy="5494320"/>
        </p:xfrm>
        <a:graphic>
          <a:graphicData uri="http://schemas.openxmlformats.org/drawingml/2006/table">
            <a:tbl>
              <a:tblPr/>
              <a:tblGrid>
                <a:gridCol w="317520"/>
                <a:gridCol w="1504800"/>
                <a:gridCol w="749520"/>
                <a:gridCol w="761760"/>
                <a:gridCol w="723960"/>
              </a:tblGrid>
              <a:tr h="251280"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/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зовская Н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яшевская НШД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52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й №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й  №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й №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№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 №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2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Ш №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имназия №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ерняя СОШ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яжская вечер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ТОГО по ЗМ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2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3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4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5880" y="32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ГОСУДАРСТВЕННЫЙ ЭКЗАМЕН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татарскому языку в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ласс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Диаграмма 4" descr=""/>
          <p:cNvPicPr/>
          <p:nvPr/>
        </p:nvPicPr>
        <p:blipFill>
          <a:blip r:embed="rId1"/>
          <a:stretch/>
        </p:blipFill>
        <p:spPr>
          <a:xfrm>
            <a:off x="1486080" y="1511280"/>
            <a:ext cx="707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УЧАСТ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23800" y="963720"/>
          <a:ext cx="8099640" cy="5467320"/>
        </p:xfrm>
        <a:graphic>
          <a:graphicData uri="http://schemas.openxmlformats.org/drawingml/2006/table">
            <a:tbl>
              <a:tblPr/>
              <a:tblGrid>
                <a:gridCol w="6886800"/>
                <a:gridCol w="1212840"/>
              </a:tblGrid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81 - татарские шк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Гимназия №5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гузинская ООШ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Осиновская гимназия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82 - татарские 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Лицей им. В.В. Карпова» ЗМР 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83 - русскоязычные 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СОШ №11 с УИОП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СОШ №15 с УИОП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Гимназия №10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ООШ №17 ЗМР 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Лицей им. В.В. Карпова» ЗМР 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 ЗМ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Диаграмма 3" descr=""/>
          <p:cNvPicPr/>
          <p:nvPr/>
        </p:nvPicPr>
        <p:blipFill>
          <a:blip r:embed="rId1"/>
          <a:stretch/>
        </p:blipFill>
        <p:spPr>
          <a:xfrm>
            <a:off x="912960" y="1106640"/>
            <a:ext cx="768492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Диаграмма 3" descr=""/>
          <p:cNvPicPr/>
          <p:nvPr/>
        </p:nvPicPr>
        <p:blipFill>
          <a:blip r:embed="rId1"/>
          <a:stretch/>
        </p:blipFill>
        <p:spPr>
          <a:xfrm>
            <a:off x="912960" y="1093680"/>
            <a:ext cx="76849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равнении с показателями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Диаграмма 4" descr=""/>
          <p:cNvPicPr/>
          <p:nvPr/>
        </p:nvPicPr>
        <p:blipFill>
          <a:blip r:embed="rId1"/>
          <a:stretch/>
        </p:blipFill>
        <p:spPr>
          <a:xfrm>
            <a:off x="841320" y="1608120"/>
            <a:ext cx="76294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равнении с показателями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Диаграмма 3" descr=""/>
          <p:cNvPicPr/>
          <p:nvPr/>
        </p:nvPicPr>
        <p:blipFill>
          <a:blip r:embed="rId1"/>
          <a:stretch/>
        </p:blipFill>
        <p:spPr>
          <a:xfrm>
            <a:off x="1298520" y="1550880"/>
            <a:ext cx="66009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равнении с показателями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Диаграмма 5" descr=""/>
          <p:cNvPicPr/>
          <p:nvPr/>
        </p:nvPicPr>
        <p:blipFill>
          <a:blip r:embed="rId1"/>
          <a:stretch/>
        </p:blipFill>
        <p:spPr>
          <a:xfrm>
            <a:off x="816120" y="1582560"/>
            <a:ext cx="76165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Э по татарскому языку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равнении с показателями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Диаграмма 4" descr=""/>
          <p:cNvPicPr/>
          <p:nvPr/>
        </p:nvPicPr>
        <p:blipFill>
          <a:blip r:embed="rId1"/>
          <a:stretch/>
        </p:blipFill>
        <p:spPr>
          <a:xfrm>
            <a:off x="1038240" y="1604880"/>
            <a:ext cx="7407360" cy="4453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0"/>
            <a:ext cx="839484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6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О ходе выполнения задач по национальному образованию августовского совещания работников образования и науки Зеленодольского муниципального района РТ 29 августа 2018 года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44240" y="2209320"/>
            <a:ext cx="82803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меры по обеспечению качества воспитания и обучения на родном (татарском) языке, открытию в детских садах групп с родным (нерусским) языком воспитания и обуч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реализацию «дорожной карты» по совершенствованию преподавания татарского языка и литерату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изировать работу по преемственности дошкольного и начального общего образования в обучении татарскому язы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лжить систематическую работу с образовательными организациями регионов Российской Федер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иеся, выполнившие ОГЭ по татарскому языку на 100%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00200" y="1482840"/>
          <a:ext cx="7967520" cy="4668840"/>
        </p:xfrm>
        <a:graphic>
          <a:graphicData uri="http://schemas.openxmlformats.org/drawingml/2006/table">
            <a:tbl>
              <a:tblPr/>
              <a:tblGrid>
                <a:gridCol w="534960"/>
                <a:gridCol w="2603520"/>
                <a:gridCol w="2466720"/>
                <a:gridCol w="1314720"/>
                <a:gridCol w="1047600"/>
              </a:tblGrid>
              <a:tr h="72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 ЗМ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Кургузинская ООШ ЗМР Р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ла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ьми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Гимназия №10 ЗМР Р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гауетди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СОШ №11 с УИОП ЗМР Р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«Лицей имени В.В. Карпова» ЗМР 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360" y="144612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ОДАРЁННОСТИ ОБУЧАЮ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26880"/>
            <a:ext cx="91440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ка изменения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а призёров, победителей олимпиад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татарскому языку и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1576440"/>
          <a:ext cx="8382240" cy="4863960"/>
        </p:xfrm>
        <a:graphic>
          <a:graphicData uri="http://schemas.openxmlformats.org/drawingml/2006/table">
            <a:tbl>
              <a:tblPr/>
              <a:tblGrid>
                <a:gridCol w="4711680"/>
                <a:gridCol w="1270080"/>
                <a:gridCol w="1257480"/>
                <a:gridCol w="1143000"/>
              </a:tblGrid>
              <a:tr h="31464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лимпиады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(очны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8/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ЕЖДУНАРОДНАЯ олимпиада ТЯиЛ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(8 – 11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ЕЖДУНАРОДНАЯ олимпиада по РЯ       школ с родным (нерусским) языком обучения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(8, 10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ЕЖРЕГИОНАЛЬНАЯ олимпиада по ТЯиЛ КФУ  (9 – 11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ЕСПУБЛИКАНСКАЯ олимпиада по ТЯиЛ (4-11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ЕСПУБЛИКАНСКАЯ олимпиада по ТЯиЛ (РОЦ)  (</a:t>
                      </a: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 - 7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68760" rIns="687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ЕСПУБЛИКАНСКАЯ олимпиада по ТЯиЛ (КФУ «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WinKid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»)  (</a:t>
                      </a: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 - 8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класс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9800" y="56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победителей и призёров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спубликанской олимпиаде по татарскому языку и литературе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4 – 11 класс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Диаграмма 3" descr=""/>
          <p:cNvPicPr/>
          <p:nvPr/>
        </p:nvPicPr>
        <p:blipFill>
          <a:blip r:embed="rId1"/>
          <a:stretch/>
        </p:blipFill>
        <p:spPr>
          <a:xfrm>
            <a:off x="662040" y="2108160"/>
            <a:ext cx="7834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ские олимпиады по ТЯиЛ, проводимые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ским олимпиадным центром </a:t>
            </a:r>
            <a:br>
              <a:rPr sz="2800"/>
            </a:br>
            <a:r>
              <a:rPr b="1" lang="ru-RU" sz="28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(1 – 7 классы</a:t>
            </a:r>
            <a:r>
              <a:rPr b="1" lang="ru-RU" sz="2800" spc="-1" strike="noStrike">
                <a:solidFill>
                  <a:srgbClr val="253d75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90640" y="1528920"/>
          <a:ext cx="7284960" cy="1785960"/>
        </p:xfrm>
        <a:graphic>
          <a:graphicData uri="http://schemas.openxmlformats.org/drawingml/2006/table">
            <a:tbl>
              <a:tblPr/>
              <a:tblGrid>
                <a:gridCol w="2344680"/>
                <a:gridCol w="1911240"/>
                <a:gridCol w="1473480"/>
                <a:gridCol w="1555560"/>
              </a:tblGrid>
              <a:tr h="44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Победите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Призё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,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44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016 - 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017 - 20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,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44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018 - 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</a:tbl>
          </a:graphicData>
        </a:graphic>
      </p:graphicFrame>
      <p:pic>
        <p:nvPicPr>
          <p:cNvPr id="218" name="Диаграмма 4" descr=""/>
          <p:cNvPicPr/>
          <p:nvPr/>
        </p:nvPicPr>
        <p:blipFill>
          <a:blip r:embed="rId1"/>
          <a:stretch/>
        </p:blipFill>
        <p:spPr>
          <a:xfrm>
            <a:off x="774720" y="3530520"/>
            <a:ext cx="74804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VII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Международная олимпиада по татарскому языку и литературе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- 2019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58720" y="1346040"/>
          <a:ext cx="7925040" cy="5131080"/>
        </p:xfrm>
        <a:graphic>
          <a:graphicData uri="http://schemas.openxmlformats.org/drawingml/2006/table">
            <a:tbl>
              <a:tblPr/>
              <a:tblGrid>
                <a:gridCol w="3683160"/>
                <a:gridCol w="4241880"/>
              </a:tblGrid>
              <a:tr h="51310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Гилязова Ризал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1 класс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Нурлатская СО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(учитель Салахиева Альфия Рахимзяновн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РЭ по ТЯ - 89 баллов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упила в КФУ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направлению: «</a:t>
                      </a:r>
                      <a:r>
                        <a:rPr b="0" lang="ru-RU" sz="2200" spc="-1" strike="noStrike" u="sng">
                          <a:solidFill>
                            <a:srgbClr val="410082"/>
                          </a:solidFill>
                          <a:uFillTx/>
                          <a:latin typeface="Times New Roman"/>
                          <a:ea typeface="Calibri"/>
                          <a:hlinkClick r:id="rId1"/>
                        </a:rPr>
                        <a:t>Педагогическое образование: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410082"/>
                          </a:solidFill>
                          <a:uFillTx/>
                          <a:latin typeface="Times New Roman"/>
                          <a:ea typeface="Calibri"/>
                          <a:hlinkClick r:id="rId2"/>
                        </a:rPr>
                        <a:t>родной (татарский) язык и литература и иностранный язык (английский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7f5"/>
                    </a:solidFill>
                  </a:tcPr>
                </a:tc>
              </a:tr>
            </a:tbl>
          </a:graphicData>
        </a:graphic>
      </p:graphicFrame>
      <p:pic>
        <p:nvPicPr>
          <p:cNvPr id="221" name="Picture 13" descr="C:\Users\B2A2~1\AppData\Local\Temp\IMG-20190425-WA0014.jpg"/>
          <p:cNvPicPr/>
          <p:nvPr/>
        </p:nvPicPr>
        <p:blipFill>
          <a:blip r:embed="rId3"/>
          <a:stretch/>
        </p:blipFill>
        <p:spPr>
          <a:xfrm>
            <a:off x="853920" y="1638360"/>
            <a:ext cx="3143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Развитие творческого потенциала и </a:t>
            </a:r>
            <a:br>
              <a:rPr sz="3600"/>
            </a:br>
            <a:r>
              <a:rPr b="1" lang="ru-RU" sz="36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одаренности учащихся</a:t>
            </a:r>
            <a:br>
              <a:rPr sz="3200"/>
            </a:br>
            <a:br>
              <a:rPr sz="1200"/>
            </a:br>
            <a:r>
              <a:rPr b="1" lang="ru-RU" sz="24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КОНФЕРЕНЦИИ и  КОНКУР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04720" y="1998720"/>
          <a:ext cx="7898040" cy="3882960"/>
        </p:xfrm>
        <a:graphic>
          <a:graphicData uri="http://schemas.openxmlformats.org/drawingml/2006/table">
            <a:tbl>
              <a:tblPr/>
              <a:tblGrid>
                <a:gridCol w="2854440"/>
                <a:gridCol w="1701720"/>
                <a:gridCol w="1733760"/>
                <a:gridCol w="1608120"/>
              </a:tblGrid>
              <a:tr h="55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дители и призё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 -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568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7 -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r" pos="1568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8-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публиканс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региона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дународ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8720" y="27432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Х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27000" y="1244520"/>
          <a:ext cx="7442280" cy="4902120"/>
        </p:xfrm>
        <a:graphic>
          <a:graphicData uri="http://schemas.openxmlformats.org/drawingml/2006/table">
            <a:tbl>
              <a:tblPr/>
              <a:tblGrid>
                <a:gridCol w="7442280"/>
              </a:tblGrid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Всероссийский конкурс юных писателей и  поэтов «</a:t>
                      </a:r>
                      <a:r>
                        <a:rPr b="1" lang="tt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лһам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габутдинова Л., 5 класс, Ачасырская О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Picture 10" descr="C:\Users\B2A2~1\AppData\Local\Temp\print_5133467_3744623.jpg"/>
          <p:cNvPicPr/>
          <p:nvPr/>
        </p:nvPicPr>
        <p:blipFill>
          <a:blip r:embed="rId1"/>
          <a:stretch/>
        </p:blipFill>
        <p:spPr>
          <a:xfrm>
            <a:off x="2502000" y="2292480"/>
            <a:ext cx="45432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8720" y="27432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ЗОНАЛЬНОГО ЭТА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65160" y="692280"/>
          <a:ext cx="7442280" cy="1218960"/>
        </p:xfrm>
        <a:graphic>
          <a:graphicData uri="http://schemas.openxmlformats.org/drawingml/2006/table">
            <a:tbl>
              <a:tblPr/>
              <a:tblGrid>
                <a:gridCol w="7442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Всероссийский конкурс юных писателей и  поэтов «</a:t>
                      </a:r>
                      <a:r>
                        <a:rPr b="1" lang="tt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лһам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30200" y="1755720"/>
          <a:ext cx="8218440" cy="4834080"/>
        </p:xfrm>
        <a:graphic>
          <a:graphicData uri="http://schemas.openxmlformats.org/drawingml/2006/table">
            <a:tbl>
              <a:tblPr/>
              <a:tblGrid>
                <a:gridCol w="568440"/>
                <a:gridCol w="2562120"/>
                <a:gridCol w="1282680"/>
                <a:gridCol w="3805200"/>
              </a:tblGrid>
              <a:tr h="313200"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шь шагыйрь номинаци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учының фамилиясе, ис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йны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әктә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арова Алс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нче төп гомуми белем бирү мәктә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тфуллина Камил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нче гимн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гиева Эве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нче гомуми урта белем бирү мәктә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шь прозаик номинаци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һирова Аз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нче гимн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шь драматург номинаци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һабутдинова Ләйл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часыр төп гомуми белем бирү мәктә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өнгатуллина Ралин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нче гомуми урта белем мәктә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2760" y="2998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ИХ КОНКУР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19040" y="1130400"/>
          <a:ext cx="8369280" cy="5273640"/>
        </p:xfrm>
        <a:graphic>
          <a:graphicData uri="http://schemas.openxmlformats.org/drawingml/2006/table">
            <a:tbl>
              <a:tblPr/>
              <a:tblGrid>
                <a:gridCol w="3822840"/>
                <a:gridCol w="4546440"/>
              </a:tblGrid>
              <a:tr h="4878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Республиканская  акция «Мин татарча </a:t>
                      </a:r>
                      <a:r>
                        <a:rPr b="1" lang="tt-RU" sz="26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сөйләшәм</a:t>
                      </a:r>
                      <a:r>
                        <a:rPr b="1" lang="ru-RU" sz="26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БЕДИТЕЛЬ –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Гимназия №1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МР РТ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З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r>
                        <a:rPr b="1" lang="tt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СОШ №7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Осиновская гимназия име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.К. Гиматдинов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Гимназия №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СОШ №4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 СОШ №16 с УИО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АУРЕА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Лицей №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Лицей №9 имени А.С. Пушк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Лицей №14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СОШ №15 с УИОП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 Нурлатская СОШ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 Айшинская СОШ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660240" y="1978200"/>
            <a:ext cx="34164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27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учителей татарского языка и литературы -                   113 чел., из них имеют первую и высшую                        кв. категории - 84,95%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РТ - 67,6%)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ервую  кв. категорию – 78 чел. (69,03%)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сшую кв. категорию – 18 чел. (15,93%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Диаграмма 4" descr=""/>
          <p:cNvPicPr/>
          <p:nvPr/>
        </p:nvPicPr>
        <p:blipFill>
          <a:blip r:embed="rId1"/>
          <a:stretch/>
        </p:blipFill>
        <p:spPr>
          <a:xfrm>
            <a:off x="566640" y="2389320"/>
            <a:ext cx="80708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0560" y="4777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ИХ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84280" y="1219320"/>
          <a:ext cx="7937280" cy="5314680"/>
        </p:xfrm>
        <a:graphic>
          <a:graphicData uri="http://schemas.openxmlformats.org/drawingml/2006/table">
            <a:tbl>
              <a:tblPr/>
              <a:tblGrid>
                <a:gridCol w="793728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еспубликанский фестиваль детских и юношеских театров «Сайяр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ДОУ «Детский сад №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«Рад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»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БОУ «Гимназия №5 ЗМР РТ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Picture 2" descr="C:\Users\Роза Абраровна\Documents\АВГУСТОВКА 2018\ФОТО для банера\1619373.jpg"/>
          <p:cNvPicPr/>
          <p:nvPr/>
        </p:nvPicPr>
        <p:blipFill>
          <a:blip r:embed="rId1"/>
          <a:stretch/>
        </p:blipFill>
        <p:spPr>
          <a:xfrm>
            <a:off x="1994040" y="2373480"/>
            <a:ext cx="47624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0560" y="4777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ИТЕЛИ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жегодной премии «Сәмрух» поддержки и поощрения одаренных детей и талантливой молодежи сообщества «Сәлә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5240" y="1965240"/>
          <a:ext cx="8686800" cy="4626000"/>
        </p:xfrm>
        <a:graphic>
          <a:graphicData uri="http://schemas.openxmlformats.org/drawingml/2006/table">
            <a:tbl>
              <a:tblPr/>
              <a:tblGrid>
                <a:gridCol w="4956120"/>
                <a:gridCol w="3730680"/>
              </a:tblGrid>
              <a:tr h="462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е СОШ №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 руководством Республиканской молодёжной организации «Сәләт»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ет Клуб одарённы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әләт – Яшел Үзән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 «Сәләт – Яшел Үзән» победите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ой премии «Сәмрух»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од 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од 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әләт - Яшел Үзән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сан Низамо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уреа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ой премии в номинации «Сәлкеш года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12" descr="C:\Users\Роза Абраровна\Documents\АВГУСТОВКА 2019\ФОТО\1994634.jpg"/>
          <p:cNvPicPr/>
          <p:nvPr/>
        </p:nvPicPr>
        <p:blipFill>
          <a:blip r:embed="rId1"/>
          <a:stretch/>
        </p:blipFill>
        <p:spPr>
          <a:xfrm>
            <a:off x="5276880" y="2092320"/>
            <a:ext cx="35701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6040" y="5079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Конкурсы профессионального мастерства учителей татар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253d75"/>
                </a:solidFill>
                <a:latin typeface="Times New Roman"/>
                <a:ea typeface="Times New Roman"/>
              </a:rPr>
              <a:t>(очные, заочные, дистанцион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2041560"/>
          <a:ext cx="8115120" cy="4462560"/>
        </p:xfrm>
        <a:graphic>
          <a:graphicData uri="http://schemas.openxmlformats.org/drawingml/2006/table">
            <a:tbl>
              <a:tblPr/>
              <a:tblGrid>
                <a:gridCol w="3573360"/>
                <a:gridCol w="1685880"/>
                <a:gridCol w="1387440"/>
                <a:gridCol w="146844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 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- 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-20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н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7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бщение и распространение педагогического опы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5600" y="852480"/>
          <a:ext cx="8399520" cy="5241960"/>
        </p:xfrm>
        <a:graphic>
          <a:graphicData uri="http://schemas.openxmlformats.org/drawingml/2006/table">
            <a:tbl>
              <a:tblPr/>
              <a:tblGrid>
                <a:gridCol w="287280"/>
                <a:gridCol w="8112240"/>
              </a:tblGrid>
              <a:tr h="3052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3d75"/>
                          </a:solidFill>
                          <a:latin typeface="Times New Roman"/>
                          <a:ea typeface="Arial Unicode MS"/>
                        </a:rPr>
                        <a:t>ВЫПУСК СБОРНИКОВ по итогам семинаров и конферен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методических материалов учителей татарского языка и литературы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 теле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һәм әдәбияты укытучыларының эш тәҗрибәсеннә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 редакцией ИРО РТ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стате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Муниципальных педагогических чтений имени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Ш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. Марджани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Татар мәгърифәтчеләре һәм аларның мәгарифне үстерүдәге рол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те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V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ежрегиона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ой научно-исследовате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ской конференции «Известные татары современности»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те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V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ежрегиона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ых чтений имени А.Ша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борник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те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ежрегиона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ой научно- исследовате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ьской конференции «Горная сторона: история, культура и духовное наследие»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ей 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х материало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еждународной юношеской научно-исследовательской конференции</a:t>
                      </a:r>
                      <a:r>
                        <a:rPr b="1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мени К.Насы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на 2019 – 2020 учебный г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36680" y="1285920"/>
            <a:ext cx="8208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должить работу по реализации Концепции развития национального образования до 2020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должить реализацию «дорожной карты» по совершенствованию преподавания татарского языка и литера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ктивизировать работу по преемственности дошкольного и начального общего образования в обучении татарскому язы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должить систематическую работу с образовательными организациями регионо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28560"/>
            <a:ext cx="840096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Татар теле һәм әдәбияты укытучыларының </a:t>
            </a:r>
            <a:r>
              <a:rPr b="1" lang="tt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мпетенцияләрен бәяләү системас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533520" y="1671480"/>
            <a:ext cx="8119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әгариф һәм фән өлкәсендә күзәтчелек буенча федераль хезмәт татар теле һәм әдәбияты буенча укытучыларның компетенцияләрен бәяләү материалларына апробация үткәр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ның 14 муниципаль берәмлегендәге белем бирү оешмаларынан 2000 татар теле һәм әдәбияты укытучысы «Туган (татар) тел һәм әдәбияты» фәне буенча апробациядә катнашт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МР – 102 укытучы (10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әтиҗә РТ буенча</a:t>
            </a:r>
            <a:r>
              <a:rPr b="1" lang="tt-RU" sz="2600" spc="-1" strike="noStrike">
                <a:solidFill>
                  <a:srgbClr val="756525"/>
                </a:solidFill>
                <a:latin typeface="Times New Roman"/>
                <a:ea typeface="Times New Roman"/>
              </a:rPr>
              <a:t> – </a:t>
            </a:r>
            <a:r>
              <a:rPr b="1" lang="tt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85480" y="252000"/>
            <a:ext cx="859788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ВАТ ОБУЧЕНИЕМ НА РОДНОМ ЯЗЫКЕ В ШКОЛ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42-х ОО ЗМР обучались 16270 чел., из них татарской национальности – 5023 (30,87%) че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2017/18 у.г. – 4302 (26,87%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8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ы с татарским языком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49360" y="2692440"/>
          <a:ext cx="8013600" cy="914400"/>
        </p:xfrm>
        <a:graphic>
          <a:graphicData uri="http://schemas.openxmlformats.org/drawingml/2006/table">
            <a:tbl>
              <a:tblPr/>
              <a:tblGrid>
                <a:gridCol w="1123920"/>
                <a:gridCol w="1403280"/>
                <a:gridCol w="1279440"/>
                <a:gridCol w="1133640"/>
                <a:gridCol w="30733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Диаграмма 5" descr=""/>
          <p:cNvPicPr/>
          <p:nvPr/>
        </p:nvPicPr>
        <p:blipFill>
          <a:blip r:embed="rId1"/>
          <a:stretch/>
        </p:blipFill>
        <p:spPr>
          <a:xfrm>
            <a:off x="2050920" y="3656160"/>
            <a:ext cx="4934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80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ВАТ ОБУЧЕНИЕМ НА РОДНОМ ЯЗЫКЕ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ЕТСКИХ САДАХ, %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Диаграмма 3" descr=""/>
          <p:cNvPicPr/>
          <p:nvPr/>
        </p:nvPicPr>
        <p:blipFill>
          <a:blip r:embed="rId1"/>
          <a:stretch/>
        </p:blipFill>
        <p:spPr>
          <a:xfrm>
            <a:off x="1352520" y="1306440"/>
            <a:ext cx="6191280" cy="357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46120" y="5029200"/>
          <a:ext cx="8039160" cy="1432080"/>
        </p:xfrm>
        <a:graphic>
          <a:graphicData uri="http://schemas.openxmlformats.org/drawingml/2006/table">
            <a:tbl>
              <a:tblPr/>
              <a:tblGrid>
                <a:gridCol w="803916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Татар теленд</a:t>
                      </a:r>
                      <a:r>
                        <a:rPr b="1" lang="tt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ә тәрбия һәм белем бирүче балалар бакчалары саны – 12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200" spc="-1" strike="noStrike">
                          <a:solidFill>
                            <a:srgbClr val="253d75"/>
                          </a:solidFill>
                          <a:latin typeface="Times New Roman"/>
                          <a:ea typeface="Times New Roman"/>
                        </a:rPr>
                        <a:t>Рус балалар бакчаларында – 36 татар төркеме </a:t>
                      </a:r>
                      <a:r>
                        <a:rPr b="1" lang="tt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018-2019 елда – 38 группа булган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3128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дмета </a:t>
            </a: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 и ЛИТЕРАТУР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822240" y="5151600"/>
            <a:ext cx="81504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Диаграмма 5"/>
          <p:cNvGraphicFramePr/>
          <p:nvPr/>
        </p:nvGraphicFramePr>
        <p:xfrm>
          <a:off x="417600" y="1362240"/>
          <a:ext cx="8319960" cy="441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0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600" y="1362240"/>
                    <a:ext cx="831996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1280" y="457200"/>
            <a:ext cx="82933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ЕНИЕ ТАТАРСКОГО ЯЗЫКА в рамках предмета</a:t>
            </a: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 и ЛИТЕРАТУР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822240" y="5151600"/>
            <a:ext cx="81504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495360" y="1236600"/>
          <a:ext cx="8115120" cy="5189760"/>
        </p:xfrm>
        <a:graphic>
          <a:graphicData uri="http://schemas.openxmlformats.org/drawingml/2006/table">
            <a:tbl>
              <a:tblPr/>
              <a:tblGrid>
                <a:gridCol w="4038480"/>
                <a:gridCol w="4076640"/>
              </a:tblGrid>
              <a:tr h="518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зучение татарского язы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 </a:t>
                      </a: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дного </a:t>
                      </a: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татарских школах и в татарских группах  русских школ,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зучение татарского язы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к </a:t>
                      </a: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сударственного язы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русскоязычных группах  русских школ,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Диаграмма 7" descr=""/>
          <p:cNvPicPr/>
          <p:nvPr/>
        </p:nvPicPr>
        <p:blipFill>
          <a:blip r:embed="rId2"/>
          <a:stretch/>
        </p:blipFill>
        <p:spPr>
          <a:xfrm>
            <a:off x="536400" y="2859120"/>
            <a:ext cx="3908520" cy="3301920"/>
          </a:xfrm>
          <a:prstGeom prst="rect">
            <a:avLst/>
          </a:prstGeom>
          <a:ln w="0">
            <a:noFill/>
          </a:ln>
        </p:spPr>
      </p:pic>
      <p:pic>
        <p:nvPicPr>
          <p:cNvPr id="185" name="Диаграмма 8" descr=""/>
          <p:cNvPicPr/>
          <p:nvPr/>
        </p:nvPicPr>
        <p:blipFill>
          <a:blip r:embed="rId3"/>
          <a:stretch/>
        </p:blipFill>
        <p:spPr>
          <a:xfrm>
            <a:off x="4737240" y="2870280"/>
            <a:ext cx="3822480" cy="330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283680"/>
            <a:ext cx="850104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учебных планов ОО ЗМР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го школ – 42, из ни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Ш – 25, ООШ – 8, НОШ – 7, вечерних - 2</a:t>
            </a:r>
            <a:br>
              <a:rPr sz="2000"/>
            </a:b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77920" y="2313000"/>
          <a:ext cx="8640720" cy="3435480"/>
        </p:xfrm>
        <a:graphic>
          <a:graphicData uri="http://schemas.openxmlformats.org/drawingml/2006/table">
            <a:tbl>
              <a:tblPr/>
              <a:tblGrid>
                <a:gridCol w="4392360"/>
                <a:gridCol w="4248360"/>
              </a:tblGrid>
              <a:tr h="981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ы с татарским языком обучения -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ы с русским языком обучения - 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ьное общее образование – 4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ое общее образование – 5 вариан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ьное общее образование – 3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ое общее образование – 4 вариан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1:42:47Z</dcterms:created>
  <dc:creator>МУ "УО ИК ЗМР РТ"</dc:creator>
  <dc:description/>
  <dc:language>en-US</dc:language>
  <cp:lastModifiedBy>123</cp:lastModifiedBy>
  <dcterms:modified xsi:type="dcterms:W3CDTF">2020-04-03T12:39:40Z</dcterms:modified>
  <cp:revision>744</cp:revision>
  <dc:subject/>
  <dc:title>Слайд 1</dc:title>
</cp:coreProperties>
</file>