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991-D6B3-4970-86D3-7EC844B2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8D6-79FA-49A3-A9C5-6176DD11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9D2-6DE1-4064-83CC-07A39879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D36-D362-4C0F-ADDD-A483570A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41EE-F63F-4C2C-8C54-68AA0013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2E57-69CE-40E4-B6EA-D017B0CC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154C-B232-4031-ADEC-ADDFD86C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5693-9247-4F2A-AD34-95019F9C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D9FE-8B7B-436E-BD6F-1E2E3CE5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8783-3912-4D3A-A84D-769D07D6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0A2B-C3BB-401C-A8C8-E53F4A71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3B5-7442-4A70-85BE-E1B16BB6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9DB5-9C64-4EE6-97FE-453814B8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E031-56D5-4BB4-A878-30B4F7C3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9E60-3FE1-4BA7-95F1-304C9EA2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28B0-2561-4457-87BD-22416EB6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E44A-D124-4CCE-8012-71D376C5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C6751-D6BF-4627-A7CE-B2345865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3E596-2389-47C9-AD29-BD526926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D9717-F067-4F2B-886B-B2F6B3D6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3CB98-0BCE-4804-9A77-294C1A69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7ADCE-5C3F-47D9-94D2-AADE73EC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660-981F-417D-866D-746C08EF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F79A-0794-4DA2-A62D-2F0F01D1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2D1BC-7EFB-4F74-805A-396090E3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B7752-ED79-4946-862C-1DB49B09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DF5CB-335C-486F-BB9E-789331DE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763E7-DCD7-4A18-AC27-C35459F1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15949-E719-481E-B0BD-1E13FA97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FEAF0-9297-497D-963B-D3678155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635CA-88BF-455E-B9E3-E34BDD23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A8355-DE03-4DE9-BB22-DF5124F4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54492-396F-4E9F-A1DD-7D790756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DA5-5524-4F4B-9780-43D38AD9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49807-F55E-4055-BEE6-0217E579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2FF28-B426-4BEE-9552-ABDCD4C6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CA378-FEA1-49D0-82D8-FBB94334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3972B-B088-44A5-8D2D-EB0D30C3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864EF-A2FC-47C3-B812-F8042ABE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9DEB5-E6F3-49F3-A13F-226CF07C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E6AC6-54A9-45D6-8D1D-BAC7B9AB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0D217-E902-4091-B429-532E39DA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CCAE7-4041-4E4C-A850-A4B7C41F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A9E-0CEA-4B47-8A8D-77D3B949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688-CD58-4472-81B1-23A544CC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30D-1C3E-439D-A552-06B65389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CC7-7486-4724-91EE-A36AC5E5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64E-98BD-4688-B019-950840CA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7f5"/>
            </a:gs>
            <a:gs pos="100000">
              <a:srgbClr val="c1ce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04DC-0231-4442-ABA4-0644FF0345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7f5"/>
            </a:gs>
            <a:gs pos="100000">
              <a:srgbClr val="c1ce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2D4E-EFB3-45BA-8DB0-D132FAF134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7f5"/>
            </a:gs>
            <a:gs pos="100000">
              <a:srgbClr val="c1ce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CC45-A572-45D3-B355-01BE1DC14B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7f5"/>
            </a:gs>
            <a:gs pos="100000">
              <a:srgbClr val="c1ce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9B88-9C05-484F-82C4-05201DBE3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kpfu.ru/portal/docs/F_2128180/44.03.05.Pedagogicheskoe.obrazovanie._s.dvumya.profilyami.podgotov.pdf" TargetMode="External"/><Relationship Id="rId2" Type="http://schemas.openxmlformats.org/officeDocument/2006/relationships/hyperlink" Target="https://kpfu.ru/portal/docs/F_2128180/44.03.05.Pedagogicheskoe.obrazovanie._s.dvumya.profilyami.podgotov.pdf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91600" y="355680"/>
            <a:ext cx="857268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Развитие системы национального образования Зеленодольского муниципального района </a:t>
            </a:r>
            <a:br>
              <a:rPr sz="4400"/>
            </a:br>
            <a:r>
              <a:rPr b="1" lang="ru-RU" sz="44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в 2018-2019 учебном го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НИЕ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а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ОДНОЙ ЯЗЫК и ЛИТЕРАТУР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600200"/>
            <a:ext cx="838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вариантной (обязательной) ча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ГО ПЛ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ются вариант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тарских школах – 3/2, 3/3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усских школах - 2/2  или 2/1 часа в неде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47772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ОР ТАТАРСКОГО ЯЗЫКА </a:t>
            </a:r>
            <a:br>
              <a:rPr sz="24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школах с русским языком обучения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47680" y="1092240"/>
          <a:ext cx="4127400" cy="5456160"/>
        </p:xfrm>
        <a:graphic>
          <a:graphicData uri="http://schemas.openxmlformats.org/drawingml/2006/table">
            <a:tbl>
              <a:tblPr/>
              <a:tblGrid>
                <a:gridCol w="317520"/>
                <a:gridCol w="1625400"/>
                <a:gridCol w="723960"/>
                <a:gridCol w="749520"/>
                <a:gridCol w="711000"/>
              </a:tblGrid>
              <a:tr h="25092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/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/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/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95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ская СОШ №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ская СОШ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яж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йш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рлатская СОШ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5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ерватор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527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иф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5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ей им.В.В.Карп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яж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591080" y="1081080"/>
          <a:ext cx="4057560" cy="5494320"/>
        </p:xfrm>
        <a:graphic>
          <a:graphicData uri="http://schemas.openxmlformats.org/drawingml/2006/table">
            <a:tbl>
              <a:tblPr/>
              <a:tblGrid>
                <a:gridCol w="317520"/>
                <a:gridCol w="1504800"/>
                <a:gridCol w="749520"/>
                <a:gridCol w="761760"/>
                <a:gridCol w="723960"/>
              </a:tblGrid>
              <a:tr h="25128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/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/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/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язовская Н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яшевская НШД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527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2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ей №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ей  №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ей №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52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зия№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зия №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2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Ш №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имназия №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черняя СОШ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яжская вечер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ТОГО по ЗМ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2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3,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4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15880" y="32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Й ГОСУДАРСТВЕННЫЙ ЭКЗАМЕН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татарскому языку в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X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ласс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Диаграмма 4" descr=""/>
          <p:cNvPicPr/>
          <p:nvPr/>
        </p:nvPicPr>
        <p:blipFill>
          <a:blip r:embed="rId1"/>
          <a:stretch/>
        </p:blipFill>
        <p:spPr>
          <a:xfrm>
            <a:off x="1486080" y="1511280"/>
            <a:ext cx="7073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УЧАСТ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23800" y="963720"/>
          <a:ext cx="8099640" cy="5467320"/>
        </p:xfrm>
        <a:graphic>
          <a:graphicData uri="http://schemas.openxmlformats.org/drawingml/2006/table">
            <a:tbl>
              <a:tblPr/>
              <a:tblGrid>
                <a:gridCol w="6886800"/>
                <a:gridCol w="1212840"/>
              </a:tblGrid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81 - татарские шко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Гимназия №5 ЗМР Р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ргузинская ООШ ЗМР Р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синовская гимназия ЗМР Р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82 - татарские 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Лицей им. В.В. Карпова» ЗМР Р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83 - русскоязычные 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БОУ «СОШ №11 с УИОП ЗМР Р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БОУ «СОШ №15 с УИОП ЗМР Р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БОУ «Гимназия №10 ЗМР Р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БОУ «ООШ №17 ЗМР Р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Лицей им. В.В. Карпова» ЗМР Р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по ЗМ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Э по татарскому язы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Диаграмма 3" descr=""/>
          <p:cNvPicPr/>
          <p:nvPr/>
        </p:nvPicPr>
        <p:blipFill>
          <a:blip r:embed="rId1"/>
          <a:stretch/>
        </p:blipFill>
        <p:spPr>
          <a:xfrm>
            <a:off x="912960" y="1106640"/>
            <a:ext cx="768492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Э по татарскому язы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Диаграмма 3" descr=""/>
          <p:cNvPicPr/>
          <p:nvPr/>
        </p:nvPicPr>
        <p:blipFill>
          <a:blip r:embed="rId1"/>
          <a:stretch/>
        </p:blipFill>
        <p:spPr>
          <a:xfrm>
            <a:off x="912960" y="1093680"/>
            <a:ext cx="768492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Э по татарскому языку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равнении с показателями 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Диаграмма 4" descr=""/>
          <p:cNvPicPr/>
          <p:nvPr/>
        </p:nvPicPr>
        <p:blipFill>
          <a:blip r:embed="rId1"/>
          <a:stretch/>
        </p:blipFill>
        <p:spPr>
          <a:xfrm>
            <a:off x="841320" y="1608120"/>
            <a:ext cx="762948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Э по татарскому языку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равнении с показателями 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Диаграмма 3" descr=""/>
          <p:cNvPicPr/>
          <p:nvPr/>
        </p:nvPicPr>
        <p:blipFill>
          <a:blip r:embed="rId1"/>
          <a:stretch/>
        </p:blipFill>
        <p:spPr>
          <a:xfrm>
            <a:off x="1298520" y="1550880"/>
            <a:ext cx="66009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Э по татарскому языку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равнении с показателями 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Диаграмма 5" descr=""/>
          <p:cNvPicPr/>
          <p:nvPr/>
        </p:nvPicPr>
        <p:blipFill>
          <a:blip r:embed="rId1"/>
          <a:stretch/>
        </p:blipFill>
        <p:spPr>
          <a:xfrm>
            <a:off x="816120" y="1582560"/>
            <a:ext cx="76165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Э по татарскому языку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равнении с показателями 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Диаграмма 4" descr=""/>
          <p:cNvPicPr/>
          <p:nvPr/>
        </p:nvPicPr>
        <p:blipFill>
          <a:blip r:embed="rId1"/>
          <a:stretch/>
        </p:blipFill>
        <p:spPr>
          <a:xfrm>
            <a:off x="1038240" y="1604880"/>
            <a:ext cx="7407360" cy="4453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080" y="0"/>
            <a:ext cx="839484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6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О ходе выполнения задач по национальному образованию августовского совещания работников образования и науки Зеленодольского муниципального района РТ 29 августа 2018 года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44240" y="2209320"/>
            <a:ext cx="82803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меры по обеспечению качества воспитания и обучения на родном (татарском) языке, открытию в детских садах групп с родным (нерусским) языком воспитания и обуч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ь реализацию «дорожной карты» по совершенствованию преподавания татарского языка и литератур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ивизировать работу по преемственности дошкольного и начального общего образования в обучении татарскому язы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олжить систематическую работу с образовательными организациями регионов Российской Федер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9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ающиеся, выполнившие ОГЭ по татарскому языку на 100%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00200" y="1482840"/>
          <a:ext cx="7967520" cy="4668840"/>
        </p:xfrm>
        <a:graphic>
          <a:graphicData uri="http://schemas.openxmlformats.org/drawingml/2006/table">
            <a:tbl>
              <a:tblPr/>
              <a:tblGrid>
                <a:gridCol w="534960"/>
                <a:gridCol w="2603520"/>
                <a:gridCol w="2466720"/>
                <a:gridCol w="1314720"/>
                <a:gridCol w="1047600"/>
              </a:tblGrid>
              <a:tr h="72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 ЗМ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ргузинская ООШ ЗМР Р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ла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ьми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Гимназия №10 ЗМР Р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гауетдин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СОШ №11 с УИОП ЗМР Р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Лицей имени В.В. Карпова» ЗМР 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и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2360" y="1446120"/>
            <a:ext cx="8229600" cy="25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ОДАРЁННОСТИ ОБУЧАЮ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26880"/>
            <a:ext cx="914400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намика изменения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а призёров, победителей олимпиад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татарскому языку и литера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80880" y="1576440"/>
          <a:ext cx="8382240" cy="4863960"/>
        </p:xfrm>
        <a:graphic>
          <a:graphicData uri="http://schemas.openxmlformats.org/drawingml/2006/table">
            <a:tbl>
              <a:tblPr/>
              <a:tblGrid>
                <a:gridCol w="4711680"/>
                <a:gridCol w="1270080"/>
                <a:gridCol w="1257480"/>
                <a:gridCol w="1143000"/>
              </a:tblGrid>
              <a:tr h="31464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Олимпиады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(очны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8/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МЕЖДУНАРОДНАЯ олимпиада ТЯиЛ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(8 – 11 класс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МЕЖДУНАРОДНАЯ олимпиада по РЯ       школ с родным (нерусским) языком обучения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(8, 10 класс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МЕЖРЕГИОНАЛЬНАЯ олимпиада по ТЯиЛ КФУ  (9 – 11 класс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РЕСПУБЛИКАНСКАЯ олимпиада по ТЯиЛ (4-11 класс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РЕСПУБЛИКАНСКАЯ олимпиада по ТЯиЛ (РОЦ)  (</a:t>
                      </a:r>
                      <a:r>
                        <a:rPr b="1" lang="tt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 - 7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класс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РЕСПУБЛИКАНСКАЯ олимпиада по ТЯиЛ (КФУ «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WinKid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»)  (</a:t>
                      </a:r>
                      <a:r>
                        <a:rPr b="1" lang="tt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 - 8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класс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9800" y="56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я победителей и призёров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еспубликанской олимпиаде по татарскому языку и литературе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4 – 11 класс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Диаграмма 3" descr=""/>
          <p:cNvPicPr/>
          <p:nvPr/>
        </p:nvPicPr>
        <p:blipFill>
          <a:blip r:embed="rId1"/>
          <a:stretch/>
        </p:blipFill>
        <p:spPr>
          <a:xfrm>
            <a:off x="662040" y="2108160"/>
            <a:ext cx="7834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спубликанские олимпиады по ТЯиЛ, проводимые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спубликанским олимпиадным центром </a:t>
            </a:r>
            <a:br>
              <a:rPr sz="2800"/>
            </a:br>
            <a:r>
              <a:rPr b="1" lang="ru-RU" sz="28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(1 – 7 классы</a:t>
            </a:r>
            <a:r>
              <a:rPr b="1" lang="ru-RU" sz="2800" spc="-1" strike="noStrike">
                <a:solidFill>
                  <a:srgbClr val="253d75"/>
                </a:solidFill>
                <a:latin typeface="Calibri"/>
              </a:rPr>
              <a:t>)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90640" y="1528920"/>
          <a:ext cx="7284960" cy="1785960"/>
        </p:xfrm>
        <a:graphic>
          <a:graphicData uri="http://schemas.openxmlformats.org/drawingml/2006/table">
            <a:tbl>
              <a:tblPr/>
              <a:tblGrid>
                <a:gridCol w="2344680"/>
                <a:gridCol w="1911240"/>
                <a:gridCol w="1473480"/>
                <a:gridCol w="1555560"/>
              </a:tblGrid>
              <a:tr h="44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Победите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Призё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,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44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2016 - 20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2017 - 20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8,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44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2018 - 2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</a:tbl>
          </a:graphicData>
        </a:graphic>
      </p:graphicFrame>
      <p:pic>
        <p:nvPicPr>
          <p:cNvPr id="218" name="Диаграмма 4" descr=""/>
          <p:cNvPicPr/>
          <p:nvPr/>
        </p:nvPicPr>
        <p:blipFill>
          <a:blip r:embed="rId1"/>
          <a:stretch/>
        </p:blipFill>
        <p:spPr>
          <a:xfrm>
            <a:off x="774720" y="3530520"/>
            <a:ext cx="74804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22960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VII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Международная олимпиада по татарскому языку и литературе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- 2019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58720" y="1346040"/>
          <a:ext cx="7925040" cy="5131080"/>
        </p:xfrm>
        <a:graphic>
          <a:graphicData uri="http://schemas.openxmlformats.org/drawingml/2006/table">
            <a:tbl>
              <a:tblPr/>
              <a:tblGrid>
                <a:gridCol w="3683160"/>
                <a:gridCol w="4241880"/>
              </a:tblGrid>
              <a:tr h="51310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Гилязова Ризаля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1 класс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Нурлатская СОШ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(учитель Салахиева Альфия Рахимзяновн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РЭ по ТЯ - 89 баллов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упила в КФУ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направлению: «</a:t>
                      </a:r>
                      <a:r>
                        <a:rPr b="0" lang="ru-RU" sz="2200" spc="-1" strike="noStrike" u="sng">
                          <a:solidFill>
                            <a:srgbClr val="410082"/>
                          </a:solidFill>
                          <a:uFillTx/>
                          <a:latin typeface="Times New Roman"/>
                          <a:ea typeface="Calibri"/>
                          <a:hlinkClick r:id="rId1"/>
                        </a:rPr>
                        <a:t>Педагогическое образование: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410082"/>
                          </a:solidFill>
                          <a:uFillTx/>
                          <a:latin typeface="Times New Roman"/>
                          <a:ea typeface="Calibri"/>
                          <a:hlinkClick r:id="rId2"/>
                        </a:rPr>
                        <a:t>родной (татарский) язык и литература и иностранный язык (английский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7f5"/>
                    </a:solidFill>
                  </a:tcPr>
                </a:tc>
              </a:tr>
            </a:tbl>
          </a:graphicData>
        </a:graphic>
      </p:graphicFrame>
      <p:pic>
        <p:nvPicPr>
          <p:cNvPr id="221" name="Picture 13" descr="C:\Users\B2A2~1\AppData\Local\Temp\IMG-20190425-WA0014.jpg"/>
          <p:cNvPicPr/>
          <p:nvPr/>
        </p:nvPicPr>
        <p:blipFill>
          <a:blip r:embed="rId3"/>
          <a:stretch/>
        </p:blipFill>
        <p:spPr>
          <a:xfrm>
            <a:off x="853920" y="1638360"/>
            <a:ext cx="3143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Развитие творческого потенциала и </a:t>
            </a:r>
            <a:br>
              <a:rPr sz="3600"/>
            </a:br>
            <a:r>
              <a:rPr b="1" lang="ru-RU" sz="36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одаренности учащихся</a:t>
            </a:r>
            <a:br>
              <a:rPr sz="3200"/>
            </a:br>
            <a:br>
              <a:rPr sz="1200"/>
            </a:br>
            <a:r>
              <a:rPr b="1" lang="ru-RU" sz="24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КОНФЕРЕНЦИИ и  КОНКУР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04720" y="1998720"/>
          <a:ext cx="7898040" cy="3882960"/>
        </p:xfrm>
        <a:graphic>
          <a:graphicData uri="http://schemas.openxmlformats.org/drawingml/2006/table">
            <a:tbl>
              <a:tblPr/>
              <a:tblGrid>
                <a:gridCol w="2854440"/>
                <a:gridCol w="1701720"/>
                <a:gridCol w="1733760"/>
                <a:gridCol w="1608120"/>
              </a:tblGrid>
              <a:tr h="55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бедители и призё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6 - 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r" pos="1568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7 - 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r" pos="1568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8-2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публиканс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региональ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российс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дународ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8720" y="27432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ИХ КОН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27000" y="1244520"/>
          <a:ext cx="7442280" cy="4902120"/>
        </p:xfrm>
        <a:graphic>
          <a:graphicData uri="http://schemas.openxmlformats.org/drawingml/2006/table">
            <a:tbl>
              <a:tblPr/>
              <a:tblGrid>
                <a:gridCol w="7442280"/>
              </a:tblGrid>
              <a:tr h="15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Всероссийский конкурс юных писателей и  поэтов «</a:t>
                      </a:r>
                      <a:r>
                        <a:rPr b="1" lang="tt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Илһам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габутдинова Л., 5 класс, Ачасырская О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Picture 10" descr="C:\Users\B2A2~1\AppData\Local\Temp\print_5133467_3744623.jpg"/>
          <p:cNvPicPr/>
          <p:nvPr/>
        </p:nvPicPr>
        <p:blipFill>
          <a:blip r:embed="rId1"/>
          <a:stretch/>
        </p:blipFill>
        <p:spPr>
          <a:xfrm>
            <a:off x="2502000" y="2292480"/>
            <a:ext cx="45432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58720" y="27432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ЗОНАЛЬНОГО ЭТА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65160" y="692280"/>
          <a:ext cx="7442280" cy="1218960"/>
        </p:xfrm>
        <a:graphic>
          <a:graphicData uri="http://schemas.openxmlformats.org/drawingml/2006/table">
            <a:tbl>
              <a:tblPr/>
              <a:tblGrid>
                <a:gridCol w="7442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Всероссийский конкурс юных писателей и  поэтов «</a:t>
                      </a:r>
                      <a:r>
                        <a:rPr b="1" lang="tt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Илһам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30200" y="1755720"/>
          <a:ext cx="8218440" cy="4834080"/>
        </p:xfrm>
        <a:graphic>
          <a:graphicData uri="http://schemas.openxmlformats.org/drawingml/2006/table">
            <a:tbl>
              <a:tblPr/>
              <a:tblGrid>
                <a:gridCol w="568440"/>
                <a:gridCol w="2562120"/>
                <a:gridCol w="1282680"/>
                <a:gridCol w="3805200"/>
              </a:tblGrid>
              <a:tr h="313200">
                <a:tc gridSpan="4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шь шагыйрь номинация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кучының фамилиясе, исе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ыйны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әктә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арова Алс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нче төп гомуми белем бирү мәктә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тфуллина Камил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нче гимна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агиева Эве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нче гомуми урта белем бирү мәктә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gridSpan="4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шь прозаик номинация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һирова Аз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нче гимна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gridSpan="4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шь драматург номинация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һабутдинова Ләйл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часыр төп гомуми белем бирү мәктә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өнгатуллина Ралин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нче гомуми урта белем мәктә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82760" y="2998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И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НСКИХ КОНКУРС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19040" y="1130400"/>
          <a:ext cx="8369280" cy="5273640"/>
        </p:xfrm>
        <a:graphic>
          <a:graphicData uri="http://schemas.openxmlformats.org/drawingml/2006/table">
            <a:tbl>
              <a:tblPr/>
              <a:tblGrid>
                <a:gridCol w="3822840"/>
                <a:gridCol w="4546440"/>
              </a:tblGrid>
              <a:tr h="4878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Республиканская  акция «Мин татарча </a:t>
                      </a:r>
                      <a:r>
                        <a:rPr b="1" lang="tt-RU" sz="26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сөйләшәм</a:t>
                      </a:r>
                      <a:r>
                        <a:rPr b="1" lang="ru-RU" sz="26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БЕДИТЕЛЬ –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Гимназия №1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МР РТ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tt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З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r>
                        <a:rPr b="1" lang="tt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СОШ №7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Осиновская гимназия име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.К. Гиматдинов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Гимназия №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 СОШ №4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 СОШ №16 с УИО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АУРЕА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Лицей №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Лицей №9 имени А.С. Пушкин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Лицей №14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 СОШ №15 с УИОП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 Нурлатская СОШ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 Айшинская СОШ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660240" y="1978200"/>
            <a:ext cx="34164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278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 учителей татарского языка и литературы -                   113 чел., из них имеют первую и высшую                        кв. категории - 84,95%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РТ - 67,6%)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ервую  кв. категорию – 78 чел. (69,03%)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сшую кв. категорию – 18 чел. (15,93%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Диаграмма 4" descr=""/>
          <p:cNvPicPr/>
          <p:nvPr/>
        </p:nvPicPr>
        <p:blipFill>
          <a:blip r:embed="rId1"/>
          <a:stretch/>
        </p:blipFill>
        <p:spPr>
          <a:xfrm>
            <a:off x="566640" y="2389320"/>
            <a:ext cx="807084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20560" y="47772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НСКИХ КОН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84280" y="1219320"/>
          <a:ext cx="7937280" cy="5314680"/>
        </p:xfrm>
        <a:graphic>
          <a:graphicData uri="http://schemas.openxmlformats.org/drawingml/2006/table">
            <a:tbl>
              <a:tblPr/>
              <a:tblGrid>
                <a:gridCol w="793728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Республиканский фестиваль детских и юношеских театров «Сайяр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БДОУ «Детский сад №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«Рад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г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»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БОУ «Гимназия №5 ЗМР РТ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Picture 2" descr="C:\Users\Роза Абраровна\Documents\АВГУСТОВКА 2018\ФОТО для банера\1619373.jpg"/>
          <p:cNvPicPr/>
          <p:nvPr/>
        </p:nvPicPr>
        <p:blipFill>
          <a:blip r:embed="rId1"/>
          <a:stretch/>
        </p:blipFill>
        <p:spPr>
          <a:xfrm>
            <a:off x="1994040" y="2373480"/>
            <a:ext cx="476244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0560" y="47772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ДИТЕЛИ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жегодной премии «Сәмрух» поддержки и поощрения одаренных детей и талантливой молодежи сообщества «Сәлә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5240" y="1965240"/>
          <a:ext cx="8686800" cy="4626000"/>
        </p:xfrm>
        <a:graphic>
          <a:graphicData uri="http://schemas.openxmlformats.org/drawingml/2006/table">
            <a:tbl>
              <a:tblPr/>
              <a:tblGrid>
                <a:gridCol w="4956120"/>
                <a:gridCol w="3730680"/>
              </a:tblGrid>
              <a:tr h="462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азе СОШ №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 руководством Республиканской молодёжной организации «Сәләт»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ет Клуб одарённы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әләт – Яшел Үзән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б «Сәләт – Яшел Үзән» победите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нской премии «Сәмрух»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 год –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 год –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луб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әләт - Яшел Үзән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сан Низамо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уреа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нской премии в номинации «Сәлкеш года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8" name="Picture 12" descr="C:\Users\Роза Абраровна\Documents\АВГУСТОВКА 2019\ФОТО\1994634.jpg"/>
          <p:cNvPicPr/>
          <p:nvPr/>
        </p:nvPicPr>
        <p:blipFill>
          <a:blip r:embed="rId1"/>
          <a:stretch/>
        </p:blipFill>
        <p:spPr>
          <a:xfrm>
            <a:off x="5276880" y="2092320"/>
            <a:ext cx="35701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6040" y="5079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Конкурсы профессионального мастерства учителей татарского языка и литературы</a:t>
            </a:r>
            <a:br>
              <a:rPr sz="3200"/>
            </a:br>
            <a:r>
              <a:rPr b="1" lang="ru-RU" sz="32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(очные, заочные, дистанционны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33520" y="2041560"/>
          <a:ext cx="8115120" cy="4462560"/>
        </p:xfrm>
        <a:graphic>
          <a:graphicData uri="http://schemas.openxmlformats.org/drawingml/2006/table">
            <a:tbl>
              <a:tblPr/>
              <a:tblGrid>
                <a:gridCol w="3573360"/>
                <a:gridCol w="1685880"/>
                <a:gridCol w="1387440"/>
                <a:gridCol w="146844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 20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 - 20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-20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70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70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н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70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70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70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общение и распространение педагогического опы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55600" y="852480"/>
          <a:ext cx="8399520" cy="5241960"/>
        </p:xfrm>
        <a:graphic>
          <a:graphicData uri="http://schemas.openxmlformats.org/drawingml/2006/table">
            <a:tbl>
              <a:tblPr/>
              <a:tblGrid>
                <a:gridCol w="287280"/>
                <a:gridCol w="8112240"/>
              </a:tblGrid>
              <a:tr h="3052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53d75"/>
                          </a:solidFill>
                          <a:latin typeface="Times New Roman"/>
                          <a:ea typeface="Arial Unicode MS"/>
                        </a:rPr>
                        <a:t>ВЫПУСК СБОРНИКОВ по итогам семинаров и конферен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борник методических материалов учителей татарского языка и литературы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 теле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һәм әдәбияты укытучыларының эш тәҗрибәсеннән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 редакцией ИРО РТ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борник стате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Муниципальных педагогических чтений имени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Ш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. Марджани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Татар мәгърифәтчеләре һәм аларның мәгарифне үстерүдәге рол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борник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тате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V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Межрегионал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ь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ной научно-исследовател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ьской конференции «Известные татары современности»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борник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тате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V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Межрегионал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ь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н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ых чтений имени А.Ша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борник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тате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Межрегионал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ь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ной научно- исследовател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ьской конференции «Горная сторона: история, культура и духовное наследие»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94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ик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ей 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х материалов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еждународной юношеской научно-исследовательской конференции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мени К.Насы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 на 2019 – 2020 учебный г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36680" y="1285920"/>
            <a:ext cx="82087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должить работу по реализации Концепции развития национального образования до 2020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должить реализацию «дорожной карты» по совершенствованию преподавания татарского языка и литерату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ктивизировать работу по преемственности дошкольного и начального общего образования в обучении татарскому язы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должить систематическую работу с образовательными организациями регионов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40096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Татар теле һәм әдәбияты укытучыларының </a:t>
            </a:r>
            <a:r>
              <a:rPr b="1" lang="tt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мпетенцияләрен бәяләү системас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533520" y="1671480"/>
            <a:ext cx="81198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әгариф һәм фән өлкәсендә күзәтчелек буенча федераль хезмәт татар теле һәм әдәбияты буенча укытучыларның компетенцияләрен бәяләү материалларына апробация үткәрд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спубликаның 14 муниципаль берәмлегендәге белем бирү оешмаларынан 2000 татар теле һәм әдәбияты укытучысы «Туган (татар) тел һәм әдәбияты» фәне буенча апробациядә катнашт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ЗМР – 102 укытучы (10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әтиҗә РТ буенча</a:t>
            </a:r>
            <a:r>
              <a:rPr b="1" lang="tt-RU" sz="2600" spc="-1" strike="noStrike">
                <a:solidFill>
                  <a:srgbClr val="756525"/>
                </a:solidFill>
                <a:latin typeface="Times New Roman"/>
                <a:ea typeface="Times New Roman"/>
              </a:rPr>
              <a:t> – </a:t>
            </a:r>
            <a:r>
              <a:rPr b="1" lang="tt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85480" y="252000"/>
            <a:ext cx="859788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ХВАТ ОБУЧЕНИЕМ НА РОДНОМ ЯЗЫКЕ В ШКОЛ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8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42-х ОО ЗМР обучались 16270 чел., из них татарской национальности – 5023 (30,87%) че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8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 2017/18 у.г. – 4302 (26,87%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8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8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колы с татарским языком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49360" y="2692440"/>
          <a:ext cx="8013600" cy="914400"/>
        </p:xfrm>
        <a:graphic>
          <a:graphicData uri="http://schemas.openxmlformats.org/drawingml/2006/table">
            <a:tbl>
              <a:tblPr/>
              <a:tblGrid>
                <a:gridCol w="1123920"/>
                <a:gridCol w="1403280"/>
                <a:gridCol w="1279440"/>
                <a:gridCol w="1133640"/>
                <a:gridCol w="30733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д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3" name="Диаграмма 5" descr=""/>
          <p:cNvPicPr/>
          <p:nvPr/>
        </p:nvPicPr>
        <p:blipFill>
          <a:blip r:embed="rId1"/>
          <a:stretch/>
        </p:blipFill>
        <p:spPr>
          <a:xfrm>
            <a:off x="2050920" y="3656160"/>
            <a:ext cx="49341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9800" y="40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ХВАТ ОБУЧЕНИЕМ НА РОДНОМ ЯЗЫКЕ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ЕТСКИХ САДАХ, %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Диаграмма 3" descr=""/>
          <p:cNvPicPr/>
          <p:nvPr/>
        </p:nvPicPr>
        <p:blipFill>
          <a:blip r:embed="rId1"/>
          <a:stretch/>
        </p:blipFill>
        <p:spPr>
          <a:xfrm>
            <a:off x="1352520" y="1306440"/>
            <a:ext cx="6191280" cy="357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546120" y="5029200"/>
          <a:ext cx="8039160" cy="1432080"/>
        </p:xfrm>
        <a:graphic>
          <a:graphicData uri="http://schemas.openxmlformats.org/drawingml/2006/table">
            <a:tbl>
              <a:tblPr/>
              <a:tblGrid>
                <a:gridCol w="803916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Татар теленд</a:t>
                      </a:r>
                      <a:r>
                        <a:rPr b="1" lang="tt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ә тәрбия һәм белем бирүче балалар бакчалары саны – 12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Рус балалар бакчаларында – 36 татар төркеме </a:t>
                      </a:r>
                      <a:r>
                        <a:rPr b="1" lang="tt-RU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2018-2019 елда – 38 группа булган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31280"/>
            <a:ext cx="9144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ОР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дмета </a:t>
            </a:r>
            <a:br>
              <a:rPr sz="28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ОДНОЙ ЯЗЫК и ЛИТЕРАТУР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822240" y="5151600"/>
            <a:ext cx="81504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Диаграмма 5"/>
          <p:cNvGraphicFramePr/>
          <p:nvPr/>
        </p:nvGraphicFramePr>
        <p:xfrm>
          <a:off x="417600" y="1362240"/>
          <a:ext cx="8319960" cy="441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0" name="Диаграмма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7600" y="1362240"/>
                    <a:ext cx="831996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1280" y="457200"/>
            <a:ext cx="829332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ЕНИЕ ТАТАРСКОГО ЯЗЫКА в рамках предмета</a:t>
            </a:r>
            <a:br>
              <a:rPr sz="28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ОДНОЙ ЯЗЫК и ЛИТЕРАТУР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822240" y="5151600"/>
            <a:ext cx="81504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495360" y="1236600"/>
          <a:ext cx="8115120" cy="5189760"/>
        </p:xfrm>
        <a:graphic>
          <a:graphicData uri="http://schemas.openxmlformats.org/drawingml/2006/table">
            <a:tbl>
              <a:tblPr/>
              <a:tblGrid>
                <a:gridCol w="4038480"/>
                <a:gridCol w="4076640"/>
              </a:tblGrid>
              <a:tr h="518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зучение татарского язы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 </a:t>
                      </a: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одного </a:t>
                      </a: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татарских школах и в татарских группах  русских школ,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зучение татарского язы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 </a:t>
                      </a: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осударственного язы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русскоязычных группах  русских школ,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4" name="Диаграмма 7" descr=""/>
          <p:cNvPicPr/>
          <p:nvPr/>
        </p:nvPicPr>
        <p:blipFill>
          <a:blip r:embed="rId2"/>
          <a:stretch/>
        </p:blipFill>
        <p:spPr>
          <a:xfrm>
            <a:off x="536400" y="2859120"/>
            <a:ext cx="3908520" cy="3301920"/>
          </a:xfrm>
          <a:prstGeom prst="rect">
            <a:avLst/>
          </a:prstGeom>
          <a:ln w="0">
            <a:noFill/>
          </a:ln>
        </p:spPr>
      </p:pic>
      <p:pic>
        <p:nvPicPr>
          <p:cNvPr id="185" name="Диаграмма 8" descr=""/>
          <p:cNvPicPr/>
          <p:nvPr/>
        </p:nvPicPr>
        <p:blipFill>
          <a:blip r:embed="rId3"/>
          <a:stretch/>
        </p:blipFill>
        <p:spPr>
          <a:xfrm>
            <a:off x="4737240" y="2870280"/>
            <a:ext cx="3822480" cy="3301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283680"/>
            <a:ext cx="850104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ор учебных планов ОО ЗМР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го школ – 42, из ни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Ш – 25, ООШ – 8, НОШ – 7, вечерних - 2</a:t>
            </a:r>
            <a:br>
              <a:rPr sz="2000"/>
            </a:b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77920" y="2313000"/>
          <a:ext cx="8640720" cy="3435480"/>
        </p:xfrm>
        <a:graphic>
          <a:graphicData uri="http://schemas.openxmlformats.org/drawingml/2006/table">
            <a:tbl>
              <a:tblPr/>
              <a:tblGrid>
                <a:gridCol w="4392360"/>
                <a:gridCol w="4248360"/>
              </a:tblGrid>
              <a:tr h="981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ы с татарским языком обучения -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ы с русским языком обучения - 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чальное общее образование – 4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ое общее образование – 5 вариан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чальное общее образование – 3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ое общее образование – 4 вариан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1:42:47Z</dcterms:created>
  <dc:creator>МУ "УО ИК ЗМР РТ"</dc:creator>
  <dc:description/>
  <dc:language>en-US</dc:language>
  <cp:lastModifiedBy>123</cp:lastModifiedBy>
  <dcterms:modified xsi:type="dcterms:W3CDTF">2020-04-03T12:39:40Z</dcterms:modified>
  <cp:revision>744</cp:revision>
  <dc:subject/>
  <dc:title>Слайд 1</dc:title>
</cp:coreProperties>
</file>