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549-F885-4C5F-836C-0CFB1915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AC4-7F12-49D0-96C3-4B4C93E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A46-B1A7-43D3-B387-8D64760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10C-2766-466D-8221-3CD7A601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CB96-5DF2-4651-9F6E-DEEB6D9E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DD5B-5EA8-4FB0-9D22-E247079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4C10-64B3-4C5C-B61D-3DD9FD0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1062-DF69-4505-84B2-7DF5E46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FA23-459E-403B-A308-40E5287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869-5FD5-4A4B-8F32-AA6A1211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EE3D-EEC7-4997-9DD0-ECF801E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2E0-3A03-496D-95E8-0DA82999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02FF-A701-4962-9766-4468E7DD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EAE-587E-4D05-9234-1FCFD61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A2A-74E9-4086-BC9F-E8BF4E81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3AE3-31FF-418D-9D2A-CBFA24B1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189-5C2B-4466-AB1D-DA3B2E94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8DB0-E5FA-4FFC-A66E-CA56DA01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6D65-6A40-447B-A043-2984F52A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9300-6356-414E-963F-0CE9109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8772-F66B-439B-B340-A989FA0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732F-C6A3-4B11-8A84-1777C36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4F2-CF36-434C-A016-0A4429CF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F82C-3F67-4752-ADD0-CCD6F2A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4AAB-2464-4166-BA40-817CDEF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55BE-CF39-4510-BF40-8D403D7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F92F-233A-4428-B941-07E6719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AA5D-5DC1-4AFD-83E8-C6DF856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7B09-54AC-4DAF-AF39-AA60034D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B4E3-794F-4AAF-9B56-153E4E95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1292-3191-49A2-8453-565B131C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4FA6-7C30-4A4C-A3EA-CAD84FF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947C-29C5-4F55-A954-B3BE2AA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D40-2CE5-453C-8F0D-9EA8967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61A6-DF49-4C9A-8E91-E254B2A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F2817-090E-440B-BE85-3C71FDFF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9B3D-E3B1-4A03-9F2F-AFB1BFA4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30895-163E-4A1F-BAE6-B0345A7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28FA-0F23-49AF-A013-EA77344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CA96-F0EE-4A54-9EB9-12AF9DF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05F8-3604-4A45-857B-829AB5A5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568C-30A4-4B26-9446-E5E43DD0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80B2-7AFA-4248-8C76-7AAA59C7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BB7C-2728-47E6-9AAC-7FEABF03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E2F-C25A-43CD-9948-84042396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1296-2403-4105-9055-906B378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6DD2-ED6A-4162-94D6-83563A0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F228-E6ED-4B57-BAE0-53FD2EA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7258B-E76D-470F-8549-09636B9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C091-DDD0-4313-9248-9A8348AC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E4B4-A2C1-4615-8976-AEB113D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1765B-A597-4EAB-B2B1-D8C06E8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88B0-7C7B-4C31-BCD7-623B0E8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F223-A77C-49D8-98BE-B01F739B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4BE7-CD9B-42D0-8E49-161969E3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C1-41D0-44D8-B4FC-AF66580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1680-5A72-475D-91F0-CDC0124B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0572-0AE3-4E77-BFA6-E60766D6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4EE6-2CFC-48D0-8C6E-2CA573A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8127-AC57-4A48-8ABD-08620751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EA49B-D735-48DF-8AA8-0EF2BE5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0C07-3F1F-4B49-9687-CE3D3EB8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F571-808E-467C-9F4B-3A196BF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EB71-F585-451E-8FEF-5EC3752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8DE7-20E6-4B87-BC92-3F8B7C7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652D-1329-4C76-B137-60270BC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EAF-A836-48F5-B789-E1AE9EE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171B-94FF-41F9-8D4E-5B25F0F7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E0FCB-43AC-48B3-9F8C-10ACA0EF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FC5FF-9497-4EDA-92AA-86E4B527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F0D5C-F1B5-4388-A0B1-C5C07938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3B0F-4CC1-46E7-A24E-42B442D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952B-6240-4E5E-9CC8-66FF058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BCB0-088C-40C1-BCE3-CF53FBA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E4C90-ABD7-4686-A0E8-40B9F00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2B0B-8BB2-4153-84F1-70BDEED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FCE2-D436-4FC7-9C4A-AF2A76F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42D-DEF9-47BE-A129-D20F4D43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49FA-A13A-4FEA-83EC-A4EEC20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DED4-A40B-487D-AFFD-B934B8BE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0A6F-4816-4BAB-A8CD-4931F762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A477-3938-44A7-B878-45F57D3E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04C8-B812-4E30-AED4-37BB718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A7E7-651B-45EC-99A1-E2ACBB28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F305-235B-4129-A7E0-A38B7329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C19F-CC4B-4CEC-992D-8C855F7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5643E-44BE-4F05-BB9E-16705D5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E220-B3DF-49C9-A329-F459CAF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E73-7D14-4C68-9E48-996423E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CCA4-4D51-4697-A36D-4755BE4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702D-7559-4C5D-9489-80DCE79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8284-56B7-4393-B2C6-49F4843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C81C-B362-4D2D-8D58-A81D0AC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06582-9D9E-459C-992A-0F99EDD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5A46D-7E37-4469-A805-D919CF80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2235-FEF9-4749-BAA7-54FE6DD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D87F3-D987-4B17-8D4C-6DE4A8F7A27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C13F1-E615-4722-AF39-9E33F5F0250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83F90-176F-4672-95FD-D09BB47D27E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2DA52-3663-4CFD-A42C-4201CBE6A236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7925A-377D-4339-A7DD-0DFD9615743A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A912C-453B-45BE-961F-74860B86D64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0992D-F328-4D51-9E9B-D9DA8ECDE77C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6186B-481F-4193-9719-21BD363B080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Прямоугольник 9" descr=""/>
          <p:cNvPicPr/>
          <p:nvPr/>
        </p:nvPicPr>
        <p:blipFill>
          <a:blip r:embed="rId2"/>
          <a:stretch/>
        </p:blipFill>
        <p:spPr>
          <a:xfrm>
            <a:off x="927000" y="420840"/>
            <a:ext cx="72900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7"/>
          <p:cNvSpPr/>
          <p:nvPr/>
        </p:nvSpPr>
        <p:spPr>
          <a:xfrm>
            <a:off x="450720" y="74520"/>
            <a:ext cx="83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бат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7" descr="C:\Users\user\Desktop\хлебозавод — копия\батоны\DSC04826.JPG"/>
          <p:cNvPicPr/>
          <p:nvPr/>
        </p:nvPicPr>
        <p:blipFill>
          <a:blip r:embed="rId1"/>
          <a:stretch/>
        </p:blipFill>
        <p:spPr>
          <a:xfrm>
            <a:off x="246240" y="782640"/>
            <a:ext cx="2768400" cy="20764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8" descr="C:\Users\user\Desktop\хлебозавод — копия\батоны\DSC04828.JPG"/>
          <p:cNvPicPr/>
          <p:nvPr/>
        </p:nvPicPr>
        <p:blipFill>
          <a:blip r:embed="rId2"/>
          <a:stretch/>
        </p:blipFill>
        <p:spPr>
          <a:xfrm>
            <a:off x="3179880" y="118908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9" descr="C:\Users\user\Desktop\хлебозавод — копия\батоны\DSC04842.JPG"/>
          <p:cNvPicPr/>
          <p:nvPr/>
        </p:nvPicPr>
        <p:blipFill>
          <a:blip r:embed="rId3"/>
          <a:stretch/>
        </p:blipFill>
        <p:spPr>
          <a:xfrm>
            <a:off x="6192720" y="1638360"/>
            <a:ext cx="28558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0" descr="C:\Users\user\Desktop\хлебозавод — копия\батоны\DSC04865.JPG"/>
          <p:cNvPicPr/>
          <p:nvPr/>
        </p:nvPicPr>
        <p:blipFill>
          <a:blip r:embed="rId4"/>
          <a:stretch/>
        </p:blipFill>
        <p:spPr>
          <a:xfrm>
            <a:off x="246240" y="338148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1" descr="C:\Users\user\Desktop\хлебозавод — копия\батоны\DSC04866.JPG"/>
          <p:cNvPicPr/>
          <p:nvPr/>
        </p:nvPicPr>
        <p:blipFill>
          <a:blip r:embed="rId5"/>
          <a:stretch/>
        </p:blipFill>
        <p:spPr>
          <a:xfrm>
            <a:off x="3179880" y="3781440"/>
            <a:ext cx="2705040" cy="2028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2" descr="C:\Users\user\Desktop\хлебозавод — копия\батоны\DSC04867.JPG"/>
          <p:cNvPicPr/>
          <p:nvPr/>
        </p:nvPicPr>
        <p:blipFill>
          <a:blip r:embed="rId6"/>
          <a:stretch/>
        </p:blipFill>
        <p:spPr>
          <a:xfrm>
            <a:off x="6067440" y="440208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7"/>
          <p:cNvSpPr/>
          <p:nvPr/>
        </p:nvSpPr>
        <p:spPr>
          <a:xfrm>
            <a:off x="450720" y="745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ржаного хле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18" descr="C:\Users\user\Desktop\хлебозавод — копия\ржаной хлеб\DSC04845.JPG"/>
          <p:cNvPicPr/>
          <p:nvPr/>
        </p:nvPicPr>
        <p:blipFill>
          <a:blip r:embed="rId1"/>
          <a:stretch/>
        </p:blipFill>
        <p:spPr>
          <a:xfrm>
            <a:off x="2944800" y="1244520"/>
            <a:ext cx="2606760" cy="1955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9" descr="C:\Users\user\Desktop\хлебозавод — копия\ржаной хлеб\DSC04846.JPG"/>
          <p:cNvPicPr/>
          <p:nvPr/>
        </p:nvPicPr>
        <p:blipFill>
          <a:blip r:embed="rId2"/>
          <a:stretch/>
        </p:blipFill>
        <p:spPr>
          <a:xfrm>
            <a:off x="5937120" y="1509840"/>
            <a:ext cx="2648160" cy="1985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0" descr="C:\Users\user\Desktop\хлебозавод — копия\ржаной хлеб\DSC04847.JPG"/>
          <p:cNvPicPr/>
          <p:nvPr/>
        </p:nvPicPr>
        <p:blipFill>
          <a:blip r:embed="rId3"/>
          <a:stretch/>
        </p:blipFill>
        <p:spPr>
          <a:xfrm>
            <a:off x="177840" y="3330720"/>
            <a:ext cx="2492280" cy="1869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1" descr="C:\Users\user\Desktop\хлебозавод — копия\ржаной хлеб\DSC04848.JPG"/>
          <p:cNvPicPr/>
          <p:nvPr/>
        </p:nvPicPr>
        <p:blipFill>
          <a:blip r:embed="rId4"/>
          <a:stretch/>
        </p:blipFill>
        <p:spPr>
          <a:xfrm>
            <a:off x="2886120" y="3844800"/>
            <a:ext cx="2665440" cy="2000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2" descr="C:\Users\user\Desktop\хлебозавод — копия\ржаной хлеб\DSC04849.JPG"/>
          <p:cNvPicPr/>
          <p:nvPr/>
        </p:nvPicPr>
        <p:blipFill>
          <a:blip r:embed="rId5"/>
          <a:stretch/>
        </p:blipFill>
        <p:spPr>
          <a:xfrm>
            <a:off x="5900760" y="4486320"/>
            <a:ext cx="2684520" cy="2012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C:\Users\user\Desktop\хлебозавод — копия\ржаной хлеб\DSC04815.JPG"/>
          <p:cNvPicPr/>
          <p:nvPr/>
        </p:nvPicPr>
        <p:blipFill>
          <a:blip r:embed="rId6"/>
          <a:stretch/>
        </p:blipFill>
        <p:spPr>
          <a:xfrm>
            <a:off x="141120" y="782640"/>
            <a:ext cx="2529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450720" y="74520"/>
            <a:ext cx="83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ватруш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C:\Users\user\Desktop\хлебозавод — копия\ватрушка\DSC04837.JPG"/>
          <p:cNvPicPr/>
          <p:nvPr/>
        </p:nvPicPr>
        <p:blipFill>
          <a:blip r:embed="rId1"/>
          <a:stretch/>
        </p:blipFill>
        <p:spPr>
          <a:xfrm>
            <a:off x="3016080" y="1409760"/>
            <a:ext cx="2909880" cy="2181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user\Desktop\хлебозавод — копия\ватрушка\DSC04843.JPG"/>
          <p:cNvPicPr/>
          <p:nvPr/>
        </p:nvPicPr>
        <p:blipFill>
          <a:blip r:embed="rId2"/>
          <a:stretch/>
        </p:blipFill>
        <p:spPr>
          <a:xfrm>
            <a:off x="157320" y="893880"/>
            <a:ext cx="2858760" cy="21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Users\user\Desktop\хлебозавод — копия\ватрушка\DSC04844.JPG"/>
          <p:cNvPicPr/>
          <p:nvPr/>
        </p:nvPicPr>
        <p:blipFill>
          <a:blip r:embed="rId3"/>
          <a:stretch/>
        </p:blipFill>
        <p:spPr>
          <a:xfrm>
            <a:off x="5745240" y="3036960"/>
            <a:ext cx="3029040" cy="2271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user\Desktop\хлебозавод — копия\ватрушка\DSC04858.JPG"/>
          <p:cNvPicPr/>
          <p:nvPr/>
        </p:nvPicPr>
        <p:blipFill>
          <a:blip r:embed="rId4"/>
          <a:stretch/>
        </p:blipFill>
        <p:spPr>
          <a:xfrm>
            <a:off x="204840" y="3591000"/>
            <a:ext cx="2811240" cy="2108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C:\Users\user\Desktop\хлебозавод — копия\ватрушка\DSC04861.JPG"/>
          <p:cNvPicPr/>
          <p:nvPr/>
        </p:nvPicPr>
        <p:blipFill>
          <a:blip r:embed="rId5"/>
          <a:stretch/>
        </p:blipFill>
        <p:spPr>
          <a:xfrm>
            <a:off x="2670120" y="4395960"/>
            <a:ext cx="29354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450720" y="745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та с ма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C:\Users\user\Desktop\хлебозавод — копия\конверт\DSC04834.JPG"/>
          <p:cNvPicPr/>
          <p:nvPr/>
        </p:nvPicPr>
        <p:blipFill>
          <a:blip r:embed="rId1"/>
          <a:stretch/>
        </p:blipFill>
        <p:spPr>
          <a:xfrm>
            <a:off x="63360" y="123516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user\Desktop\хлебозавод — копия\конверт\DSC04835.JPG"/>
          <p:cNvPicPr/>
          <p:nvPr/>
        </p:nvPicPr>
        <p:blipFill>
          <a:blip r:embed="rId2"/>
          <a:stretch/>
        </p:blipFill>
        <p:spPr>
          <a:xfrm>
            <a:off x="2968560" y="189864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Users\user\Desktop\хлебозавод — копия\конверт\DSC04856.JPG"/>
          <p:cNvPicPr/>
          <p:nvPr/>
        </p:nvPicPr>
        <p:blipFill>
          <a:blip r:embed="rId3"/>
          <a:stretch/>
        </p:blipFill>
        <p:spPr>
          <a:xfrm>
            <a:off x="5989680" y="2513160"/>
            <a:ext cx="3089160" cy="2315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C:\Users\user\Desktop\хлебозавод — копия\конверт\DSC04869.JPG"/>
          <p:cNvPicPr/>
          <p:nvPr/>
        </p:nvPicPr>
        <p:blipFill>
          <a:blip r:embed="rId4"/>
          <a:stretch/>
        </p:blipFill>
        <p:spPr>
          <a:xfrm>
            <a:off x="243000" y="4346640"/>
            <a:ext cx="31287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450720" y="74520"/>
            <a:ext cx="83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рога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C:\Users\user\Desktop\хлебозавод — копия\рогалик\DSC04832.JPG"/>
          <p:cNvPicPr/>
          <p:nvPr/>
        </p:nvPicPr>
        <p:blipFill>
          <a:blip r:embed="rId1"/>
          <a:stretch/>
        </p:blipFill>
        <p:spPr>
          <a:xfrm>
            <a:off x="203040" y="925560"/>
            <a:ext cx="2799000" cy="2098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Users\user\Desktop\хлебозавод — копия\рогалик\DSC04851.JPG"/>
          <p:cNvPicPr/>
          <p:nvPr/>
        </p:nvPicPr>
        <p:blipFill>
          <a:blip r:embed="rId2"/>
          <a:stretch/>
        </p:blipFill>
        <p:spPr>
          <a:xfrm>
            <a:off x="3002040" y="1409760"/>
            <a:ext cx="3057480" cy="2293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C:\Users\user\Desktop\хлебозавод — копия\рогалик\DSC04852.JPG"/>
          <p:cNvPicPr/>
          <p:nvPr/>
        </p:nvPicPr>
        <p:blipFill>
          <a:blip r:embed="rId3"/>
          <a:stretch/>
        </p:blipFill>
        <p:spPr>
          <a:xfrm>
            <a:off x="5899320" y="2625840"/>
            <a:ext cx="2874960" cy="2155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user\Desktop\хлебозавод — копия\рогалик\DSC04859.JPG"/>
          <p:cNvPicPr/>
          <p:nvPr/>
        </p:nvPicPr>
        <p:blipFill>
          <a:blip r:embed="rId4"/>
          <a:stretch/>
        </p:blipFill>
        <p:spPr>
          <a:xfrm>
            <a:off x="98280" y="398952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user\Desktop\хлебозавод — копия\рогалик\DSC04860.JPG"/>
          <p:cNvPicPr/>
          <p:nvPr/>
        </p:nvPicPr>
        <p:blipFill>
          <a:blip r:embed="rId5"/>
          <a:stretch/>
        </p:blipFill>
        <p:spPr>
          <a:xfrm>
            <a:off x="3255840" y="4589640"/>
            <a:ext cx="28036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3067200" y="74520"/>
            <a:ext cx="607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зготовл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овых булоче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2" descr="C:\Users\user\Desktop\хлебозавод — копия\булки\DSC04829.JPG"/>
          <p:cNvPicPr/>
          <p:nvPr/>
        </p:nvPicPr>
        <p:blipFill>
          <a:blip r:embed="rId1"/>
          <a:stretch/>
        </p:blipFill>
        <p:spPr>
          <a:xfrm>
            <a:off x="150840" y="65088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Users\user\Desktop\хлебозавод — копия\булки\DSC04830.JPG"/>
          <p:cNvPicPr/>
          <p:nvPr/>
        </p:nvPicPr>
        <p:blipFill>
          <a:blip r:embed="rId2"/>
          <a:stretch/>
        </p:blipFill>
        <p:spPr>
          <a:xfrm>
            <a:off x="4506840" y="1639800"/>
            <a:ext cx="3786120" cy="2838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C:\Users\user\Desktop\хлебозавод — копия\булки\DSC04857.JPG"/>
          <p:cNvPicPr/>
          <p:nvPr/>
        </p:nvPicPr>
        <p:blipFill>
          <a:blip r:embed="rId3"/>
          <a:stretch/>
        </p:blipFill>
        <p:spPr>
          <a:xfrm>
            <a:off x="382680" y="3510000"/>
            <a:ext cx="3868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382680" y="1476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ные изделия  Ильинского хлебозав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2" descr="C:\Users\user\Desktop\хлебозавод — копия\батоны\DSC04868.JPG"/>
          <p:cNvPicPr/>
          <p:nvPr/>
        </p:nvPicPr>
        <p:blipFill>
          <a:blip r:embed="rId1"/>
          <a:stretch/>
        </p:blipFill>
        <p:spPr>
          <a:xfrm>
            <a:off x="217440" y="73188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user\Desktop\хлебозавод — копия\ватрушка\DSC04861.JPG"/>
          <p:cNvPicPr/>
          <p:nvPr/>
        </p:nvPicPr>
        <p:blipFill>
          <a:blip r:embed="rId2"/>
          <a:stretch/>
        </p:blipFill>
        <p:spPr>
          <a:xfrm>
            <a:off x="3017880" y="731880"/>
            <a:ext cx="2881440" cy="195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user\Desktop\хлебозавод — копия\конверт\DSC04869.JPG"/>
          <p:cNvPicPr/>
          <p:nvPr/>
        </p:nvPicPr>
        <p:blipFill>
          <a:blip r:embed="rId3"/>
          <a:stretch/>
        </p:blipFill>
        <p:spPr>
          <a:xfrm>
            <a:off x="3036960" y="2868480"/>
            <a:ext cx="2655720" cy="199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user\Desktop\хлебозавод — копия\липа\DSC04871.JPG"/>
          <p:cNvPicPr/>
          <p:nvPr/>
        </p:nvPicPr>
        <p:blipFill>
          <a:blip r:embed="rId4"/>
          <a:stretch/>
        </p:blipFill>
        <p:spPr>
          <a:xfrm>
            <a:off x="217440" y="28684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:\Users\user\Desktop\хлебозавод — копия\ржаной хлеб\DSC04864.JPG"/>
          <p:cNvPicPr/>
          <p:nvPr/>
        </p:nvPicPr>
        <p:blipFill>
          <a:blip r:embed="rId5"/>
          <a:stretch/>
        </p:blipFill>
        <p:spPr>
          <a:xfrm>
            <a:off x="6324480" y="2685960"/>
            <a:ext cx="2194200" cy="1922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C:\Users\user\Desktop\хлебозавод — копия\рогалик\DSC04860.JPG"/>
          <p:cNvPicPr/>
          <p:nvPr/>
        </p:nvPicPr>
        <p:blipFill>
          <a:blip r:embed="rId6"/>
          <a:stretch/>
        </p:blipFill>
        <p:spPr>
          <a:xfrm>
            <a:off x="3056040" y="4902120"/>
            <a:ext cx="2636640" cy="1625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C:\Users\user\Desktop\хлебозавод — копия\булки\DSC04857.JPG"/>
          <p:cNvPicPr/>
          <p:nvPr/>
        </p:nvPicPr>
        <p:blipFill>
          <a:blip r:embed="rId7"/>
          <a:stretch/>
        </p:blipFill>
        <p:spPr>
          <a:xfrm>
            <a:off x="6175440" y="731880"/>
            <a:ext cx="2709720" cy="1701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C:\Users\user\Desktop\хлебозавод — копия\DSC04862.JPG"/>
          <p:cNvPicPr/>
          <p:nvPr/>
        </p:nvPicPr>
        <p:blipFill>
          <a:blip r:embed="rId8"/>
          <a:stretch/>
        </p:blipFill>
        <p:spPr>
          <a:xfrm>
            <a:off x="147600" y="4859280"/>
            <a:ext cx="2657520" cy="1668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C:\Users\user\Desktop\DSC04874.JPG"/>
          <p:cNvPicPr/>
          <p:nvPr/>
        </p:nvPicPr>
        <p:blipFill>
          <a:blip r:embed="rId9"/>
          <a:stretch/>
        </p:blipFill>
        <p:spPr>
          <a:xfrm>
            <a:off x="6324480" y="4902120"/>
            <a:ext cx="2386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6:16:52Z</dcterms:created>
  <dc:creator>Vicari Vollmar</dc:creator>
  <dc:description/>
  <dc:language>en-US</dc:language>
  <cp:lastModifiedBy>uzer</cp:lastModifiedBy>
  <dcterms:modified xsi:type="dcterms:W3CDTF">2020-04-03T13:38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B0DF1FB0ABEE249ADE30E16273C3A22</vt:lpwstr>
  </property>
</Properties>
</file>