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FFC4-9387-49ED-B511-8E2B7514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16B0-2353-4D1A-B5B5-FE4416EE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B9E3-6834-4A7A-B57C-8CC0E845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4698-1179-486E-ABD5-CFA80ABF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C075-DA4D-4668-9F50-460DBAFC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4DF3-4DA8-4465-93C5-FB793643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1C77-BDD0-490A-8988-4BC1F64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3A87-D8F8-45E8-956D-D1DC485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65ED-0A3F-4BFC-A50F-0F68E38A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D604-0056-45A2-8045-C0DAC3F4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77F8-9505-430A-8163-C6F8696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0DBE-8D4F-40B4-ADB3-2E33E36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8B7E-46B0-45B4-A8D9-8DE67A7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2434-1961-460D-824F-8DE7A04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929-5F33-4C46-A388-3E3CF2C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46D-15D2-4872-94D0-1CDF505D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D90A-DC5A-4798-B61A-A19D807A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E6CC-D13A-4300-93D3-1E14BCEA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0B83-4E7D-47CF-9370-8AB1011D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59C9-BEFE-464D-BC79-C0F18D3D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496B-F49B-414B-8DBC-8836BC5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14E9-A0B9-47C1-98A0-50A4BDA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F0B2-9E33-4199-B14D-E700954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6C99-6773-4DBF-952E-66B3A03B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58320" y="6433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96920" y="643428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174E-8F25-4858-A7FB-F49DC7913A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" name="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64240" y="643068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499520" y="635796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7543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848-CCF4-4842-BF20-881495ED62E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9738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971800"/>
            <a:ext cx="7010280" cy="76320"/>
            <a:chOff x="0" y="2971800"/>
            <a:chExt cx="7010280" cy="76320"/>
          </a:xfrm>
        </p:grpSpPr>
        <p:sp>
          <p:nvSpPr>
            <p:cNvPr id="52" name=""/>
            <p:cNvSpPr/>
            <p:nvPr/>
          </p:nvSpPr>
          <p:spPr>
            <a:xfrm>
              <a:off x="0" y="3048120"/>
              <a:ext cx="701028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81400" y="2971800"/>
              <a:ext cx="12852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20342400">
            <a:off x="-380520" y="0"/>
            <a:ext cx="5114880" cy="421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05200" y="2362320"/>
            <a:ext cx="42865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05920" y="632448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57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Когда встречаем мы рас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Мы говорим ему,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С улыбкой солнце дарит свет, Нам посылая свой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20364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При встрече через много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Вы крикните друзьям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И улыбнутся вам в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От слова доброго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И вы запомните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Дарите всем друзьям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0f7b"/>
                </a:solidFill>
                <a:latin typeface="Arial"/>
              </a:rPr>
              <a:t>Я - роб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219320"/>
            <a:ext cx="464832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Это чей там слышен топ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На работу вышел ро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Мышцы металл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Мысли электриче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лампой помиг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лапой помах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«Посмотрите-ка реб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Как я пашню распаха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в шахте уголь руб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уголь очень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224000"/>
            <a:ext cx="464796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Ни каких других п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Кроме угля не бер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рыбок наблюд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дно морское изу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«Выручай меня, матро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Весь ракушками обро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Это маленькая Та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А у Тани робот – ня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«Слушайся, Танюша, ма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Как я слушаюсь программ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4430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76520"/>
            <a:ext cx="87631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повар готовить обед в спортза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стиральная машина работать на берегу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ноутбук обрабатывать информацию на кух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футболист играть в футбол в дремучем заросшем ле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медведь кататься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8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286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Уберите лиш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4320" y="1447920"/>
            <a:ext cx="2939760" cy="3581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0f7b"/>
                </a:solidFill>
                <a:latin typeface="Arial"/>
              </a:rPr>
              <a:t>КОФЕВ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286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743880" y="91440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743880" y="335268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505320" y="4038480"/>
            <a:ext cx="2666880" cy="180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УХ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5334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АННАЯ 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505320" y="1600200"/>
            <a:ext cx="2590560" cy="1800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581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БЕРЕГ 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286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Уберите лиш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0f7b"/>
                </a:solidFill>
                <a:latin typeface="Arial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ОНЬКОБЕЖ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ТР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ЛЕСО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ЛОШ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276360" cy="3143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09880" y="38098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6477120" y="3294000"/>
            <a:ext cx="2514600" cy="194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858000" y="99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Среда исполн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133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0678"/>
                </a:solidFill>
                <a:latin typeface="Arial"/>
              </a:rPr>
              <a:t>Условия при которых исполнитель существует и может выполнять команды, «среда обит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04920"/>
            <a:ext cx="86868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ФОРМА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e0678"/>
                </a:solidFill>
                <a:latin typeface="Times New Roman"/>
              </a:rPr>
              <a:t>(по толковому словарю Ефремовой)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0678"/>
                </a:solidFill>
                <a:latin typeface="Arial"/>
              </a:rPr>
              <a:t>1.Соотносящийся по значению с существительным: форма, связанный с ним. </a:t>
            </a:r>
            <a:br>
              <a:rPr sz="2800"/>
            </a:br>
            <a:r>
              <a:rPr b="0" lang="en-US" sz="2800" spc="-1" strike="noStrike">
                <a:solidFill>
                  <a:srgbClr val="1e0678"/>
                </a:solidFill>
                <a:latin typeface="Arial"/>
              </a:rPr>
              <a:t>2. Свойственный форме, характерный для нее. </a:t>
            </a:r>
            <a:br>
              <a:rPr sz="2800"/>
            </a:br>
            <a:r>
              <a:rPr b="0" lang="en-US" sz="2800" spc="-1" strike="noStrike">
                <a:solidFill>
                  <a:srgbClr val="1e0678"/>
                </a:solidFill>
                <a:latin typeface="Arial"/>
              </a:rPr>
              <a:t>3. </a:t>
            </a:r>
            <a:r>
              <a:rPr b="1" lang="en-US" sz="2800" spc="-1" strike="noStrike" u="sng">
                <a:solidFill>
                  <a:srgbClr val="1e0678"/>
                </a:solidFill>
                <a:uFillTx/>
                <a:latin typeface="Arial"/>
              </a:rPr>
              <a:t>Приверженный форме, соблюдающий лишь внешнюю сторону дела в ущерб существу. Не вникающий  в смысл того, что он делает, и не рассуждает, почему он поступает так, а не ина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7632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3751200" cy="4343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371600" y="228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0678"/>
                </a:solidFill>
                <a:latin typeface="Arial"/>
              </a:rPr>
              <a:t>Тест:</a:t>
            </a: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e0678"/>
                </a:solidFill>
                <a:latin typeface="Arial"/>
              </a:rPr>
              <a:t>Исполнители вокруг 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3124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2880" y="76320"/>
            <a:ext cx="1022400" cy="1572840"/>
            <a:chOff x="272880" y="76320"/>
            <a:chExt cx="1022400" cy="1572840"/>
          </a:xfrm>
        </p:grpSpPr>
        <p:sp>
          <p:nvSpPr>
            <p:cNvPr id="209" name=""/>
            <p:cNvSpPr/>
            <p:nvPr/>
          </p:nvSpPr>
          <p:spPr>
            <a:xfrm>
              <a:off x="272880" y="76320"/>
              <a:ext cx="533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66"/>
                  </a:solidFill>
                  <a:latin typeface="Book Antiqua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480" y="92160"/>
              <a:ext cx="6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66"/>
                  </a:solidFill>
                  <a:latin typeface="Book Antiqua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0d6d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6765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0678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1e0678"/>
                </a:solidFill>
                <a:latin typeface="Arial"/>
                <a:ea typeface="Arial"/>
              </a:rPr>
              <a:t> 3.2, стр. 66-69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0678"/>
                </a:solidFill>
                <a:latin typeface="Arial"/>
                <a:ea typeface="Arial"/>
              </a:rPr>
              <a:t>вопросы стр. 69 – ус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0678"/>
                </a:solidFill>
                <a:latin typeface="Arial"/>
                <a:ea typeface="Arial"/>
              </a:rPr>
              <a:t>Рабочая тетрадь: №№ 7,8,9,10 стр. 79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04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0678"/>
                </a:solidFill>
                <a:latin typeface="Arial"/>
              </a:rPr>
              <a:t>Александр Григорьевич Гейн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160020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1e0678"/>
                </a:solidFill>
                <a:latin typeface="Book Antiqua"/>
              </a:rPr>
              <a:t>«Ум» компьютера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1e0678"/>
                </a:solidFill>
                <a:latin typeface="Book Antiqua"/>
              </a:rPr>
              <a:t>это ум человека, воплощенный в программ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1981080"/>
            <a:ext cx="5486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0678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0678"/>
                </a:solidFill>
                <a:latin typeface="Arial"/>
              </a:rPr>
              <a:t>До свидани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1298520"/>
            <a:ext cx="3795840" cy="374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3808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600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295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581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3526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30492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5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b3191"/>
                </a:solidFill>
                <a:latin typeface="Verdana"/>
              </a:rPr>
              <a:t>Исполнители вокруг нас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Цель урока: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Иметь представление о разнообразных исполнителях окружающих нас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Уметь характеризовать их по плану: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Имя исполнителя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Система команд исполнителя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Среда исполнителя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2286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00800" y="2286000"/>
            <a:ext cx="2158920" cy="280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209680" y="228600"/>
            <a:ext cx="221292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04920" y="23623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539720" y="441972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3900600" y="2362320"/>
            <a:ext cx="187956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90512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Исаак Левитан,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609588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0d6d"/>
                </a:solidFill>
                <a:latin typeface="Arial"/>
              </a:rPr>
              <a:t>Доналд Золан, Скрип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28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Надежда Каменская, Трактор поле распах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492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Иван Агеев, Букет в голубой в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1447920"/>
            <a:ext cx="19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Автор не известен, На арене ц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0642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0d6d"/>
                </a:solidFill>
                <a:latin typeface="Arial"/>
              </a:rPr>
              <a:t>Луис Астон Книт, Цветы у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28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b3191"/>
                </a:solidFill>
                <a:latin typeface="Arial"/>
              </a:rPr>
              <a:t>Исполнит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98108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0678"/>
                </a:solidFill>
                <a:latin typeface="Arial"/>
              </a:rPr>
              <a:t>человек, группа людей, животное или техническое устройство, способные выполнять заданные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52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Рядом с изображением  исполнителя впишите номер команды, которую он может выпол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тиральная_машина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1552680" cy="1611360"/>
          </a:xfrm>
          <a:prstGeom prst="rect">
            <a:avLst/>
          </a:prstGeom>
          <a:ln w="0">
            <a:noFill/>
          </a:ln>
        </p:spPr>
      </p:pic>
      <p:pic>
        <p:nvPicPr>
          <p:cNvPr id="131" name="повар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1468440" cy="180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914400"/>
          <a:ext cx="5486040" cy="5467320"/>
        </p:xfrm>
        <a:graphic>
          <a:graphicData uri="http://schemas.openxmlformats.org/drawingml/2006/table">
            <a:tbl>
              <a:tblPr/>
              <a:tblGrid>
                <a:gridCol w="618120"/>
                <a:gridCol w="2240640"/>
                <a:gridCol w="2627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ир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печатать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лоск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ать гол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арить с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охрани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Чистить картош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Встать на задние л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ереда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Ле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Жар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компьютер" descr=""/>
          <p:cNvPicPr/>
          <p:nvPr/>
        </p:nvPicPr>
        <p:blipFill>
          <a:blip r:embed="rId4"/>
          <a:stretch/>
        </p:blipFill>
        <p:spPr>
          <a:xfrm>
            <a:off x="6400800" y="1523880"/>
            <a:ext cx="2103480" cy="1635120"/>
          </a:xfrm>
          <a:prstGeom prst="rect">
            <a:avLst/>
          </a:prstGeom>
          <a:ln w="0">
            <a:noFill/>
          </a:ln>
        </p:spPr>
      </p:pic>
      <p:pic>
        <p:nvPicPr>
          <p:cNvPr id="136" name="собачка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343160" cy="18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867280" y="914400"/>
          <a:ext cx="3048120" cy="5467320"/>
        </p:xfrm>
        <a:graphic>
          <a:graphicData uri="http://schemas.openxmlformats.org/drawingml/2006/table">
            <a:tbl>
              <a:tblPr/>
              <a:tblGrid>
                <a:gridCol w="567000"/>
                <a:gridCol w="2481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28600" y="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2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тиральная_машина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1552680" cy="1611360"/>
          </a:xfrm>
          <a:prstGeom prst="rect">
            <a:avLst/>
          </a:prstGeom>
          <a:ln w="0">
            <a:noFill/>
          </a:ln>
        </p:spPr>
      </p:pic>
      <p:pic>
        <p:nvPicPr>
          <p:cNvPr id="144" name="повар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1468440" cy="1803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914400"/>
          <a:ext cx="5486400" cy="5467320"/>
        </p:xfrm>
        <a:graphic>
          <a:graphicData uri="http://schemas.openxmlformats.org/drawingml/2006/table">
            <a:tbl>
              <a:tblPr/>
              <a:tblGrid>
                <a:gridCol w="685800"/>
                <a:gridCol w="2173320"/>
                <a:gridCol w="2627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ир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печатать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лоск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ать гол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арить с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охрани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Чистить картош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Встать на задние л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ереда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Ле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Жар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компьютер" descr=""/>
          <p:cNvPicPr/>
          <p:nvPr/>
        </p:nvPicPr>
        <p:blipFill>
          <a:blip r:embed="rId4"/>
          <a:stretch/>
        </p:blipFill>
        <p:spPr>
          <a:xfrm>
            <a:off x="6705720" y="1371600"/>
            <a:ext cx="2103480" cy="1635120"/>
          </a:xfrm>
          <a:prstGeom prst="rect">
            <a:avLst/>
          </a:prstGeom>
          <a:ln w="0">
            <a:noFill/>
          </a:ln>
        </p:spPr>
      </p:pic>
      <p:pic>
        <p:nvPicPr>
          <p:cNvPr id="149" name="собачка" descr=""/>
          <p:cNvPicPr/>
          <p:nvPr/>
        </p:nvPicPr>
        <p:blipFill>
          <a:blip r:embed="rId5"/>
          <a:stretch/>
        </p:blipFill>
        <p:spPr>
          <a:xfrm>
            <a:off x="7086600" y="4114800"/>
            <a:ext cx="1343160" cy="180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67280" y="914400"/>
          <a:ext cx="3048120" cy="5467320"/>
        </p:xfrm>
        <a:graphic>
          <a:graphicData uri="http://schemas.openxmlformats.org/drawingml/2006/table">
            <a:tbl>
              <a:tblPr/>
              <a:tblGrid>
                <a:gridCol w="685800"/>
                <a:gridCol w="2362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80880" y="380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1e0678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3808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1e0678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Система команд исполн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096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0f7b"/>
                </a:solidFill>
                <a:latin typeface="Arial"/>
              </a:rPr>
              <a:t>команды, которые может выполнять конкретный исполн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слов Андрей</cp:lastModifiedBy>
  <dcterms:modified xsi:type="dcterms:W3CDTF">2012-03-18T11:27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