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0D4-7FB8-4527-8A54-BFF9B094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421-BFA0-4AC2-AB3C-CC6C0E82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1CC81-DE32-4D47-9335-87755B48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EAB6F-50CE-44FB-8D2B-B9F4D211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CDDA4-CE39-4058-AB55-5FE3BB96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F4E18-2CFE-494F-98D0-D1938842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8AAC6-F3EE-42A0-BD40-5FB3BB7E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EA3C8-FC44-47C3-8964-F41946CD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934E8-E709-4D2B-A41F-C07A160C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D1FC4-1B7B-4B38-9CC9-80613A8D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EF220-65D2-4052-80EE-8ACC47F6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834BF-AA03-4320-A2B4-738E251B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2A5-5E75-4EB8-8C4F-5787E161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64D39-658C-46D3-949D-A4B9BC24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0D296-551A-42C6-B938-86AD298D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13E65-A750-4A71-BDB8-E9C68D1B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2DD7A-5DCD-4FAF-87E7-B7C532C9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AA9EA-3859-43D8-93DE-AFBB8FE9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0AA74-ACB7-400E-B201-573307DD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A91BF-60B7-49E6-83B5-2395BCB4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2787B-C767-4A6D-8EEB-C4328FD9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6F507-4156-4D34-9FDC-9EE43FCF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273F4-887D-4591-A88B-C2B5DE26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1AE-B263-4F42-B795-47153FAD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D83FC-F71C-4FDC-B1C8-47EBBDCF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3AC42-C5C1-4018-85AE-DB1D17B2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6E316-1FB1-4D5A-914A-543CDEFC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7D069-8CB6-4FDC-8095-7B0CD73E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E2ECC-6523-4E62-A56B-00F8EA61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2A37A-B7B6-4465-9158-7704E800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AAF3C-E75D-411E-A6AC-F4380E18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898F9-461A-40F7-9DA5-A0671170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28E14-38B5-4372-9113-4B23ED2D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4DD66-5025-468B-B10B-76BCE18A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30D8-2F53-44CD-9D47-7C580BEC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796B8-6BB9-47D8-A3DB-2CE51233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51F4F-1768-4EB4-8161-DCC966FE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79C29-3E70-4571-9489-3EA8F63D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8B719-52C8-4B61-B436-B8C790B5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85CA6-140D-432E-82FA-2CB4DC02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4F121-2535-4F80-A4C8-60B2FAD2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5D17F-D9C0-4A33-97B0-C43A2672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1B3A5-0DCC-4E06-8F0F-44ACC550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F2B38-230D-4B9A-8F51-36D89C7D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E1AD5-C2A9-435D-80EA-040752D5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E2D3-7CC9-440D-B6AC-063147B6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39ABA-4B3B-482F-BF6F-69367A94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29663-9440-42E2-B61E-F5440D08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C5B60-0D37-45D6-AF98-085461B1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8A886-462A-48DA-848B-1E6CA519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37327-2F9D-4076-83A3-32247F66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BBF86F-4F68-4872-88A3-4527E7E8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9C4EB6-4FD6-45B3-A5F6-EB0F4BEA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86BC1F-BCE4-487B-957C-A53DD603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16F260-EAEA-49D1-B013-A8D0EAEB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331216-9B41-4E1C-B682-8006E74A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4F38-0F1C-4ECB-AD10-906E7E5C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05FDC2-368A-4A4D-B15B-1996960B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7E4226-B078-4846-B334-A78C4308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8AB7B6-F69D-482C-A8B7-CB72EC73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F0DBD1-2D1B-4477-B7EB-F3C4747A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C495C1-A3ED-4859-8DB3-92968F3A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ACF785-C2E6-41B7-B597-3E633BDE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F50069-ECA2-4F6A-BA71-2CE556CE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21E14-9DAF-4F28-85C9-71EDB7EA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D48B2-4DCD-4982-A0D3-B3E36D89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64B90-81EC-40D2-B6E2-895769A7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632E-A804-486D-B386-D5D47564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6EA80-5BAA-43D3-813E-76FB8EE4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AD3C9-49DE-4BB3-982B-3587D53F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11FAA-A255-46DB-A9C4-C23398F8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1C3E6-3942-4504-A51F-5566A020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7C1C0-AF01-4C7E-98F2-3751AB2F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11F35-7377-4F9D-B573-D266C829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E064D-379E-4C1B-8441-639B88F7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8F55C3-5F4E-4441-BAA3-6BA5235F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BD1BA3-9B0C-484C-BBD6-66C92782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2F5040-96CE-421D-B6CB-DD105CFC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EED2-709A-4982-849A-419AD8B1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1B273-FF3D-42AC-949A-B970006F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0F012-356C-4047-ACC3-11FFF7A7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8FB771-39E6-4538-9241-81A4F605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E3C694-AE70-414B-9DD7-53EAD4C6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EF30ED-6677-41FD-9BBB-AF540451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2DB6F-8A7C-405A-81BF-E08DF893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F7819F-E506-4115-901C-54724F88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4126A-A62E-420F-968D-2F0A55D1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58918-52FA-4099-8008-38F7FCFF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2A599-DF2D-48F5-9CFF-939BAE54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A31C-17BF-4C78-AF32-8749892B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64F5C7-B401-4B33-B8DB-20B89693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E8EC62-A623-4E69-B59B-5E4F5DF3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73D44-F47E-45CA-AA60-84B8BDFB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C6E259-DAC8-4ECC-B2C9-4AD2F569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F502C1-C22C-4609-82A8-4BA142D9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DFCADC-A072-4E78-8CA2-099DB714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BD14D2-E0A4-48F8-93F3-CF86426F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1559E2-8687-45E9-AE9D-331D6A6F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097D17-97D2-4B8F-8AAD-5CB80104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1B7C0-E18C-48A7-84E3-E7D5962B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1FB5-BB18-4186-946C-AEAF5BC3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1EF33-37CF-4EAF-89EB-07F66AF1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D706E6-D690-42CA-8D00-462A4735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FFD6A8-91C0-4EE3-9B20-7D26FB98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B2CC9C-52FA-4E4D-990E-F0DAC4E6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8483A-6EAE-4D90-9890-93C8D1F0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5C8E5B-DD1B-499B-82BC-BB6B82D9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938787-6D0E-44B9-86C0-4BF3F48F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38FE8F-CD68-480F-A2ED-8D16B1E6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81A638-FBD6-4B6F-8991-D6EB4B65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A009C6-2136-44BA-9BDA-D0840F14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8BD-A2FE-4F1B-84C9-D17C00EF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B910-52B1-4413-A30D-516B9728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BECA4E-0626-46B6-9C98-DF7DCFFA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F825B3-1A28-4C69-B25C-77EB54B1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24232-B26E-4C82-9428-A6CD3F28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0A75E-C211-4629-95BC-86E6C8EF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1FF2F5-4E0D-492F-A3AE-58E91DA4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C4D77A-8B56-43E8-8E25-B5C89893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37B233-E4BD-4786-9094-DDC6E9A7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93A79-46B4-42DA-94FA-FDD743B5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AD9831-F7B5-4B09-BCA2-161A3902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78A9F-CE20-446E-9CC9-99395CDF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4AD7-C372-41FD-AC1B-D8E8D460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97FD17-F8CD-4C9E-B058-1F23CBAF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8E9C06-7137-4872-B4F6-1652B6F2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8BF85C-D5A0-4CB0-BE03-495A9068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4D3F75-FC4E-4F77-BBD9-0B480B36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8AF712-49DA-443B-A0EC-FC911214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A773CA-2054-45D2-91BD-66E2DFE1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EC90B9-ED3F-41C2-8C47-B92C9DA2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699021-2088-43F7-A794-5F15056B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4EB07C-0E96-4813-87B6-CAE57178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1AE22D-6121-4610-9326-4941AF2E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CBD3-D977-4D82-917A-91C38A82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6149D6-3D3C-4232-B335-5F736BFD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C2EA0F-8C00-4084-ADD8-B1DB92B6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E1B0DC-D4F9-49DC-B312-7E156F26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F5C577-34AC-40A2-A058-F2A34F4D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FB8439-8662-464F-BAD8-3F6B4026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EA819F-CFC1-4F85-9384-A3089D98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1F4219-8988-4743-B43C-DF04609C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84EB4B-D64F-4E1A-A105-4CE4740F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E7E17D-9126-49C0-87B9-4C3E9B76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410B99-EF3B-4EF9-9065-6D1E361B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9B23-A196-4F71-9E74-8EEB0077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9A94BD-93B2-4D1C-A996-AF67FE16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E0B452-1FFF-4021-B59B-651EA50A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3A5C2A-5419-4FF2-A771-D07E79CD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1E083D-AD4C-4097-AFF8-29DF9036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C6239E-61F5-4280-B478-3FF6FBBD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163E6E-8FA1-4EFB-BB63-ED9C7AD1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8F082B-AD69-408C-B03A-8A9A5797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AD3E8B-09BB-465E-9AA5-A596CA59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16A3AD-8615-4B02-BC2D-A45A8B26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65B226-D1F2-41D7-9F33-3571BF2E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57D5-7A66-4A56-8225-EAADC688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43AB2E-A6F5-4CCF-8213-DD029A8D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9C56A-425B-4593-A891-A8545984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02173-8943-4E42-9249-5662DFDA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E8DF-8940-4C8D-B826-31760409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BF84-428C-40AC-9A22-65BDA93C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2214E-9806-49BB-BBB5-B01807DF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5DA-6598-4C12-A8BD-04056110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F9E43-63E7-4220-86B9-E06B4B9D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075F1-98EC-45B2-8835-C07EA05E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DF8A-A2FD-438D-94EB-FD6D421C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D58AD-3562-4679-809B-B3E841FA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1784B-41C7-4EFE-B8E0-F00E54E6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4D62A-902E-42AE-B4CC-9C6AFFD4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C986-CB07-4D66-9376-9262F6E9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D29B6-D786-4C31-8F34-AEF2C992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E71E7-51A9-45C9-930C-318094A0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7DA4B-7258-4664-9F1C-EB2BEE29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655-A9AC-47CD-BB29-6C09C3E6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10E90-1689-4327-A3AD-F978E78D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42A02-3E14-430E-B08F-9B4C9F19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2AC20-3256-47D4-A31B-92431999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26EEE-162A-46F8-9492-C27D89DD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8996-A91F-4BC9-A2A1-2ABB1482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1CF3B-158C-4E2C-B831-C4684779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B129C-A842-41B2-81A7-94D5B9C6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15364-50EE-492F-A867-183A7973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3E35A-9F71-4DFA-9FEB-9A0C40B5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768CC-40FE-4545-87EC-FFD31D60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411-5378-4B9B-8AD2-2F1ADE2B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A8740F-4F62-4A40-901B-81AAE071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2DDD5-0D79-42C0-B803-33730D71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0A336-38A5-4E8A-8F68-FE8A65CB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A55E9-CE42-4423-B330-EACF9BF0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6A02E4-320B-459E-A7FF-B98ADB4D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E8885-CE0E-47EF-841E-E646B0E6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E96A2-2AE3-47A3-B0B9-230337D5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4A4825-3543-4DA9-AE95-26B88617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47508-EB93-4340-80C5-CF5790D6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E5D17-9362-4904-839F-DC0DFFBE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1E1-4DB4-4C26-AAFD-FE921522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87E5D-12CE-4B23-9A10-25450DFD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38469-51C8-4F74-A041-22C777BB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80860-3F76-4906-B3D7-16265FEE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EE772-5E2E-4175-A2CD-1680E7E5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759B5-076A-40F1-B14D-79358B2C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B8EE3-806E-493E-8C3D-7EC779B3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60919-BA1F-47B5-BB1B-829EF43A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414F8-DAE4-400B-9685-A103386E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4AD20-11F7-4048-B725-F4A616A1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B054E-FAC0-499B-92BB-49BD697B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C60-FA07-4FE9-A72A-EAA2F828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A9AF4-DDBC-4DF3-AEFB-12FCB887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0BE92-FB21-4720-AE49-12CF90FD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85416-4AF0-4632-9752-E14C6E80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212B8-9C68-4DF9-90A1-DC5CE012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8F2F6-082C-43A8-AB8D-27D5CDDC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998DF-6551-4D63-8ACB-658A40FC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F3D18-58CA-49FD-95F4-51708365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ABF2C-A711-43F9-85D3-D4676E5F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5643F-BFA3-41DE-849E-921D0FBA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2C57E-2564-43C0-B7FB-289ACE1C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65A-6D09-4225-8C97-4EA0938C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4A1BA-9DA6-4ACC-8299-A5F90D64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AC229-1492-492E-B016-F32381D0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656BF-1FC9-49FB-95FC-0FEB562E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BA8BA-8D87-4E37-8067-F339E8B1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B6929-B7D7-4706-9849-827792C6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AC329-F244-4455-9DB1-BFE8B228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A203D-79A9-4A5E-8B62-FB6270EF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5CD0F-F059-44B6-A55D-13BB31F0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69D1D-DFAF-4C04-A9A8-B92C9715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28C65-87CA-4CB5-8024-FA662D18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790-D800-4AD2-A8A2-83DC354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7092A-8E1D-41EA-A724-6CCC91E8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4753D-39F0-4CFB-92DE-6A33FC24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F4B5D-C60D-4CF8-AC0C-B2B7CEEC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8A858-0F99-43CF-A779-1A56B010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538B3-9B39-42EA-B7E4-4173AD35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64434-A527-41E0-BE33-BFE71850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47FEC-06B5-4253-AAA1-9C3DDE9B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7FB1E-E62C-4817-BE1F-F6CC6A3A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F5AE5-CF56-4751-A729-00669BF0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C081F-E05F-4424-8204-8C804C17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805F-07F9-4103-A356-F749DB6F1F9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2B62-899F-4141-96FA-DB4B35551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8F3E-ABF5-42C8-A479-FF9B91948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8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7536-BB93-4B9F-8BCB-B85503D1D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2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40D5-F6C4-4FD9-AE19-E2A2A23D492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9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E9FA-21D5-409E-A9EA-A0602FE106B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5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9E56-3A02-4C0A-93CC-2FEC850101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1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3A7E-1B57-49FA-9557-C5FB0A7411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67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68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69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4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5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C01D-FE82-4B89-BADC-F8AB3F80E8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214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216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220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dt" idx="5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ftr" idx="5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sldNum" idx="5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4846-6396-4479-A410-962829F38D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22C1-6239-4B04-9DED-8166B3C2DA4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D8DE-4FA5-463E-8B86-8FB10FC506D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4C6A-1CC6-4DD1-A14F-F0F95E7DF6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312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DBA6-1341-476C-A9EF-F385B64E15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937F-3872-4503-92CE-339101EB2EE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5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6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7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EFA1-34C7-4C1F-A149-31A612F27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2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7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5E2F-FC14-4859-BE41-62E7D4B6C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2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1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66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33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434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5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6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7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8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2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6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7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1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2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1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2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3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4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6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9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70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471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5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6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0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1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2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3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4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5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6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7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8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9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0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1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4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5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3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4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1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4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5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520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32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533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540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5" name="PlaceHolder 1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0941-D941-4542-8B64-DC2D6BBB58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587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590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6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597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66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98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0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2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5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6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8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9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0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1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3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4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35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636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7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8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9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0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1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2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3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4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5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6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7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669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48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9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0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1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2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3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4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5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6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7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8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9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0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1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2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3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4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5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6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7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8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9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0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1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2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3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4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5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6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7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8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9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0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1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2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3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66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84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685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687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97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704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705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E96C-2D2A-4D99-8048-7EA9393012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8011-D192-4EB4-B250-839E92654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2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2685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6078600" cy="2897280"/>
          </a:xfrm>
          <a:prstGeom prst="rect">
            <a:avLst/>
          </a:prstGeom>
          <a:ln w="0">
            <a:noFill/>
          </a:ln>
        </p:spPr>
      </p:pic>
      <p:sp>
        <p:nvSpPr>
          <p:cNvPr id="1394" name=""/>
          <p:cNvSpPr/>
          <p:nvPr/>
        </p:nvSpPr>
        <p:spPr>
          <a:xfrm>
            <a:off x="3132000" y="45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шиншилл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ряд Зайцеобразн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2781360" cy="391500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755640" y="1628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ключает 60 видов. Питаются растительной пищей. Сверху – две пары резцов (наружные и внутренние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692360" y="6308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99" name="" descr=""/>
          <p:cNvPicPr/>
          <p:nvPr/>
        </p:nvPicPr>
        <p:blipFill>
          <a:blip r:embed="rId2"/>
          <a:stretch/>
        </p:blipFill>
        <p:spPr>
          <a:xfrm>
            <a:off x="5580000" y="2492280"/>
            <a:ext cx="2757600" cy="354492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6227640" y="6165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роли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тряд Хищны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2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1403" name=""/>
          <p:cNvSpPr/>
          <p:nvPr/>
        </p:nvSpPr>
        <p:spPr>
          <a:xfrm>
            <a:off x="684360" y="126828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ключает 200 видов. Питаются животной пищей, активные хищники. Клыки! Шерсть длинная и густая. Полушария переднего мозга имеют извилины – сложное поведен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556000" y="263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емейство Кунь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116000" y="587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униц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06" name="" descr=""/>
          <p:cNvPicPr/>
          <p:nvPr/>
        </p:nvPicPr>
        <p:blipFill>
          <a:blip r:embed="rId2"/>
          <a:stretch/>
        </p:blipFill>
        <p:spPr>
          <a:xfrm>
            <a:off x="5003640" y="3284640"/>
            <a:ext cx="3598920" cy="2427120"/>
          </a:xfrm>
          <a:prstGeom prst="rect">
            <a:avLst/>
          </a:prstGeom>
          <a:ln w="0">
            <a:noFill/>
          </a:ln>
        </p:spPr>
      </p:pic>
      <p:sp>
        <p:nvSpPr>
          <p:cNvPr id="1407" name=""/>
          <p:cNvSpPr/>
          <p:nvPr/>
        </p:nvSpPr>
        <p:spPr>
          <a:xfrm>
            <a:off x="6300720" y="58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обол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1835280" y="18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емейство Медвед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3076560" cy="4572000"/>
          </a:xfrm>
          <a:prstGeom prst="rect">
            <a:avLst/>
          </a:prstGeom>
          <a:ln w="0">
            <a:noFill/>
          </a:ln>
        </p:spPr>
      </p:pic>
      <p:sp>
        <p:nvSpPr>
          <p:cNvPr id="1410" name=""/>
          <p:cNvSpPr/>
          <p:nvPr/>
        </p:nvSpPr>
        <p:spPr>
          <a:xfrm>
            <a:off x="1332000" y="5516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анд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11" name="" descr=""/>
          <p:cNvPicPr/>
          <p:nvPr/>
        </p:nvPicPr>
        <p:blipFill>
          <a:blip r:embed="rId2"/>
          <a:stretch/>
        </p:blipFill>
        <p:spPr>
          <a:xfrm>
            <a:off x="5435640" y="981000"/>
            <a:ext cx="3333600" cy="3943440"/>
          </a:xfrm>
          <a:prstGeom prst="rect">
            <a:avLst/>
          </a:prstGeom>
          <a:ln w="0">
            <a:noFill/>
          </a:ln>
        </p:spPr>
      </p:pic>
      <p:sp>
        <p:nvSpPr>
          <p:cNvPr id="1412" name=""/>
          <p:cNvSpPr/>
          <p:nvPr/>
        </p:nvSpPr>
        <p:spPr>
          <a:xfrm>
            <a:off x="4788000" y="2565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372360" y="501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елый медвед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2627280" y="1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емейство Волчь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096240" cy="404820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/>
          <p:nvPr/>
        </p:nvSpPr>
        <p:spPr>
          <a:xfrm>
            <a:off x="3419640" y="5373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есец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7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3595680" cy="532620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4067280" y="632628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ол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1523880" y="1424160"/>
            <a:ext cx="6096240" cy="40096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392436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ис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/>
          <p:nvPr/>
        </p:nvSpPr>
        <p:spPr>
          <a:xfrm>
            <a:off x="2268360" y="18900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емейство Кошачь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22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2990880" cy="457200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3809880" cy="213372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/>
          <p:nvPr/>
        </p:nvSpPr>
        <p:spPr>
          <a:xfrm>
            <a:off x="147636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ев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796000" y="393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еопард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24440" cy="457200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2"/>
          <a:stretch/>
        </p:blipFill>
        <p:spPr>
          <a:xfrm>
            <a:off x="3362400" y="1052640"/>
            <a:ext cx="5781600" cy="4572000"/>
          </a:xfrm>
          <a:prstGeom prst="rect">
            <a:avLst/>
          </a:prstGeom>
          <a:ln w="0">
            <a:noFill/>
          </a:ln>
        </p:spPr>
      </p:pic>
      <p:sp>
        <p:nvSpPr>
          <p:cNvPr id="1428" name=""/>
          <p:cNvSpPr/>
          <p:nvPr/>
        </p:nvSpPr>
        <p:spPr>
          <a:xfrm>
            <a:off x="826920" y="5013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ману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580000" y="5734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ошка домашня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тряд Ластоног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755640" y="1268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ключает 30 видов. Крупные хищники. Живут в воде, но не потеряли связи с сушей. Задние конечности превращены в ласты. Жировой слой, толстая кож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32" name="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604224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ласс Млекопитающ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ключает более 4 тысяч видов. Это – самая молодая и высокоразвитая группа позвоночных. Произошла она от примитивных пресмыкающихся около 150 млн лет назад, но расцвет начался лишь 80 млн лет наза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2981160" cy="4572000"/>
          </a:xfrm>
          <a:prstGeom prst="rect">
            <a:avLst/>
          </a:prstGeom>
          <a:ln w="0">
            <a:noFill/>
          </a:ln>
        </p:spPr>
      </p:pic>
      <p:pic>
        <p:nvPicPr>
          <p:cNvPr id="1434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809880" cy="255276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1187280" y="50133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Морской коти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435640" y="422100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580000" y="429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тюлен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тряд Китообразные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Утратили связь с сушей. На теле нет желез и волосяного покрова. Конечности превращены в ласт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0" name="" descr=""/>
          <p:cNvPicPr/>
          <p:nvPr/>
        </p:nvPicPr>
        <p:blipFill>
          <a:blip r:embed="rId1"/>
          <a:stretch/>
        </p:blipFill>
        <p:spPr>
          <a:xfrm>
            <a:off x="4648320" y="2557440"/>
            <a:ext cx="4038480" cy="2614680"/>
          </a:xfrm>
          <a:prstGeom prst="rect">
            <a:avLst/>
          </a:prstGeom>
          <a:ln w="0">
            <a:noFill/>
          </a:ln>
        </p:spPr>
      </p:pic>
      <p:sp>
        <p:nvSpPr>
          <p:cNvPr id="1441" name=""/>
          <p:cNvSpPr/>
          <p:nvPr/>
        </p:nvSpPr>
        <p:spPr>
          <a:xfrm>
            <a:off x="3995640" y="537372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убатые Китообразные. Дельфин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443" name=""/>
          <p:cNvSpPr/>
          <p:nvPr/>
        </p:nvSpPr>
        <p:spPr>
          <a:xfrm>
            <a:off x="395280" y="3141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убатые Китообразные: Кашало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2"/>
          <a:stretch/>
        </p:blipFill>
        <p:spPr>
          <a:xfrm>
            <a:off x="4064040" y="2421000"/>
            <a:ext cx="5079960" cy="2882880"/>
          </a:xfrm>
          <a:prstGeom prst="rect">
            <a:avLst/>
          </a:prstGeom>
          <a:ln w="0">
            <a:noFill/>
          </a:ln>
        </p:spPr>
      </p:pic>
      <p:sp>
        <p:nvSpPr>
          <p:cNvPr id="1445" name=""/>
          <p:cNvSpPr/>
          <p:nvPr/>
        </p:nvSpPr>
        <p:spPr>
          <a:xfrm>
            <a:off x="4788000" y="544500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Усатые Китообразные. Синий кит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тряд Хоботны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живали пору расцвета в третичном периоде. Сейчас представлен 2 видами: индийским и африканским слоном. Верхняя губа и нос превращены в хо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1"/>
          <a:stretch/>
        </p:blipFill>
        <p:spPr>
          <a:xfrm>
            <a:off x="4876920" y="251316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тряд Непарнокопытны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0" name="" descr=""/>
          <p:cNvPicPr/>
          <p:nvPr/>
        </p:nvPicPr>
        <p:blipFill>
          <a:blip r:embed="rId1"/>
          <a:stretch/>
        </p:blipFill>
        <p:spPr>
          <a:xfrm>
            <a:off x="2843280" y="1628640"/>
            <a:ext cx="32320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3809880" cy="2923920"/>
          </a:xfrm>
          <a:prstGeom prst="rect">
            <a:avLst/>
          </a:prstGeom>
          <a:ln w="0">
            <a:noFill/>
          </a:ln>
        </p:spPr>
      </p:pic>
      <p:sp>
        <p:nvSpPr>
          <p:cNvPr id="1452" name=""/>
          <p:cNvSpPr/>
          <p:nvPr/>
        </p:nvSpPr>
        <p:spPr>
          <a:xfrm>
            <a:off x="1547640" y="3645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осорог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53" name="" descr=""/>
          <p:cNvPicPr/>
          <p:nvPr/>
        </p:nvPicPr>
        <p:blipFill>
          <a:blip r:embed="rId2"/>
          <a:stretch/>
        </p:blipFill>
        <p:spPr>
          <a:xfrm>
            <a:off x="4716360" y="3573360"/>
            <a:ext cx="3810240" cy="2260800"/>
          </a:xfrm>
          <a:prstGeom prst="rect">
            <a:avLst/>
          </a:prstGeom>
          <a:ln w="0">
            <a:noFill/>
          </a:ln>
        </p:spPr>
      </p:pic>
      <p:sp>
        <p:nvSpPr>
          <p:cNvPr id="1454" name=""/>
          <p:cNvSpPr/>
          <p:nvPr/>
        </p:nvSpPr>
        <p:spPr>
          <a:xfrm>
            <a:off x="5796000" y="595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тапир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1456" name=""/>
          <p:cNvSpPr/>
          <p:nvPr/>
        </p:nvSpPr>
        <p:spPr>
          <a:xfrm>
            <a:off x="1835280" y="386064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ебр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тряд Парнокопытные.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ключает два подотряда: жвачные и нежвачны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жва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3394080" cy="2233440"/>
          </a:xfrm>
          <a:prstGeom prst="rect">
            <a:avLst/>
          </a:prstGeom>
          <a:ln w="0">
            <a:noFill/>
          </a:ln>
        </p:spPr>
      </p:pic>
      <p:sp>
        <p:nvSpPr>
          <p:cNvPr id="1460" name=""/>
          <p:cNvSpPr/>
          <p:nvPr/>
        </p:nvSpPr>
        <p:spPr>
          <a:xfrm>
            <a:off x="5940360" y="566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егемо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720960" cy="266724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179280" y="5589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абан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755640" y="333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Жвачны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64" name="" descr=""/>
          <p:cNvPicPr/>
          <p:nvPr/>
        </p:nvPicPr>
        <p:blipFill>
          <a:blip r:embed="rId1"/>
          <a:stretch/>
        </p:blipFill>
        <p:spPr>
          <a:xfrm>
            <a:off x="1238400" y="1157400"/>
            <a:ext cx="6667200" cy="454320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3995640" y="5877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жираф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4260600" cy="2712960"/>
          </a:xfrm>
          <a:prstGeom prst="rect">
            <a:avLst/>
          </a:prstGeom>
          <a:ln w="0">
            <a:noFill/>
          </a:ln>
        </p:spPr>
      </p:pic>
      <p:sp>
        <p:nvSpPr>
          <p:cNvPr id="1467" name=""/>
          <p:cNvSpPr/>
          <p:nvPr/>
        </p:nvSpPr>
        <p:spPr>
          <a:xfrm>
            <a:off x="1979640" y="378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убр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6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1469" name=""/>
          <p:cNvSpPr/>
          <p:nvPr/>
        </p:nvSpPr>
        <p:spPr>
          <a:xfrm>
            <a:off x="6156360" y="645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ос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2627280" y="40464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ласс Млекопитающ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2916360" y="836640"/>
            <a:ext cx="107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435640" y="83664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619280" y="1268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дкласс Однопроходны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651640" y="1268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дкласс Живородящ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4356000" y="1557360"/>
            <a:ext cx="1440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093080" y="1989000"/>
            <a:ext cx="43164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419640" y="2349360"/>
            <a:ext cx="2374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дотряд Низш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(Сумчатые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516720" y="292428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6659640" y="2924280"/>
            <a:ext cx="216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дотряд Высш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(Плацентарные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659640" y="4005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7 отрядов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65" name="" descr=""/>
          <p:cNvPicPr/>
          <p:nvPr/>
        </p:nvPicPr>
        <p:blipFill>
          <a:blip r:embed="rId1"/>
          <a:stretch/>
        </p:blipFill>
        <p:spPr>
          <a:xfrm>
            <a:off x="3419640" y="3141720"/>
            <a:ext cx="26096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3333600" cy="4400640"/>
          </a:xfrm>
          <a:prstGeom prst="rect">
            <a:avLst/>
          </a:prstGeom>
          <a:ln w="0">
            <a:noFill/>
          </a:ln>
        </p:spPr>
      </p:pic>
      <p:sp>
        <p:nvSpPr>
          <p:cNvPr id="1471" name=""/>
          <p:cNvSpPr/>
          <p:nvPr/>
        </p:nvSpPr>
        <p:spPr>
          <a:xfrm>
            <a:off x="2484360" y="49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лен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Отряд Прима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3" name=""/>
          <p:cNvSpPr/>
          <p:nvPr/>
        </p:nvSpPr>
        <p:spPr>
          <a:xfrm>
            <a:off x="1692360" y="6237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емур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292720" y="1773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дотряд Полуобезьян – по своему развитию являются промежуточным звеном между насекомоядными и обезьянам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75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3089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3809880" cy="4927680"/>
          </a:xfrm>
          <a:prstGeom prst="rect">
            <a:avLst/>
          </a:prstGeom>
          <a:ln w="0">
            <a:noFill/>
          </a:ln>
        </p:spPr>
      </p:pic>
      <p:sp>
        <p:nvSpPr>
          <p:cNvPr id="1477" name=""/>
          <p:cNvSpPr/>
          <p:nvPr/>
        </p:nvSpPr>
        <p:spPr>
          <a:xfrm>
            <a:off x="197964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горилл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372360" y="105264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5580000" y="836640"/>
            <a:ext cx="3240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 группу высших приматов включаются три семейства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артышкообразные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Человекообразные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Люд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019760" cy="5715000"/>
          </a:xfrm>
          <a:prstGeom prst="rect">
            <a:avLst/>
          </a:prstGeom>
          <a:ln w="0">
            <a:noFill/>
          </a:ln>
        </p:spPr>
      </p:pic>
      <p:sp>
        <p:nvSpPr>
          <p:cNvPr id="1481" name=""/>
          <p:cNvSpPr/>
          <p:nvPr/>
        </p:nvSpPr>
        <p:spPr>
          <a:xfrm>
            <a:off x="305928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гиббон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4762440" cy="6553080"/>
          </a:xfrm>
          <a:prstGeom prst="rect">
            <a:avLst/>
          </a:prstGeom>
          <a:ln w="0">
            <a:noFill/>
          </a:ln>
        </p:spPr>
      </p:pic>
      <p:sp>
        <p:nvSpPr>
          <p:cNvPr id="1483" name=""/>
          <p:cNvSpPr/>
          <p:nvPr/>
        </p:nvSpPr>
        <p:spPr>
          <a:xfrm>
            <a:off x="6012000" y="306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ливковый бабуин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7367760" cy="4066920"/>
          </a:xfrm>
          <a:prstGeom prst="rect">
            <a:avLst/>
          </a:prstGeom>
          <a:ln w="0">
            <a:noFill/>
          </a:ln>
        </p:spPr>
      </p:pic>
      <p:sp>
        <p:nvSpPr>
          <p:cNvPr id="1485" name=""/>
          <p:cNvSpPr/>
          <p:nvPr/>
        </p:nvSpPr>
        <p:spPr>
          <a:xfrm>
            <a:off x="3059280" y="5805360"/>
            <a:ext cx="30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шимпанз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36752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центарные зв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7" name=""/>
          <p:cNvGraphicFramePr/>
          <p:nvPr/>
        </p:nvGraphicFramePr>
        <p:xfrm>
          <a:off x="0" y="1989000"/>
          <a:ext cx="9001080" cy="3167280"/>
        </p:xfrm>
        <a:graphic>
          <a:graphicData uri="http://schemas.openxmlformats.org/drawingml/2006/table">
            <a:tbl>
              <a:tblPr/>
              <a:tblGrid>
                <a:gridCol w="1835280"/>
                <a:gridCol w="1463400"/>
                <a:gridCol w="3686400"/>
                <a:gridCol w="201600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отряд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черты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-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ели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Отряд Насекомоядные</a:t>
            </a:r>
            <a:br>
              <a:rPr sz="4000"/>
            </a:b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057480" cy="201924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/>
          <p:cNvPicPr/>
          <p:nvPr/>
        </p:nvPicPr>
        <p:blipFill>
          <a:blip r:embed="rId2"/>
          <a:stretch/>
        </p:blipFill>
        <p:spPr>
          <a:xfrm>
            <a:off x="4762440" y="1679400"/>
            <a:ext cx="3810240" cy="202896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324000" y="9079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ключает 370 видов. Зубы не дифференцированы. Головной мозг небольшой, полушария без извилин (это и ежу понятно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72" name="" descr=""/>
          <p:cNvPicPr/>
          <p:nvPr/>
        </p:nvPicPr>
        <p:blipFill>
          <a:blip r:embed="rId3"/>
          <a:stretch/>
        </p:blipFill>
        <p:spPr>
          <a:xfrm>
            <a:off x="3276720" y="4149720"/>
            <a:ext cx="2873160" cy="2189160"/>
          </a:xfrm>
          <a:prstGeom prst="rect">
            <a:avLst/>
          </a:prstGeom>
          <a:ln w="0">
            <a:noFill/>
          </a:ln>
        </p:spPr>
      </p:pic>
      <p:sp>
        <p:nvSpPr>
          <p:cNvPr id="1373" name=""/>
          <p:cNvSpPr/>
          <p:nvPr/>
        </p:nvSpPr>
        <p:spPr>
          <a:xfrm>
            <a:off x="1187280" y="4149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еж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804000" y="386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емлерой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995640" y="6381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ро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тряд Рукокрылы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2"/>
          <a:stretch/>
        </p:blipFill>
        <p:spPr>
          <a:xfrm>
            <a:off x="1176480" y="2076480"/>
            <a:ext cx="2600280" cy="3924360"/>
          </a:xfrm>
          <a:prstGeom prst="rect">
            <a:avLst/>
          </a:prstGeom>
          <a:ln w="0">
            <a:noFill/>
          </a:ln>
        </p:spPr>
      </p:pic>
      <p:sp>
        <p:nvSpPr>
          <p:cNvPr id="1378" name=""/>
          <p:cNvSpPr/>
          <p:nvPr/>
        </p:nvSpPr>
        <p:spPr>
          <a:xfrm>
            <a:off x="179280" y="184464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68360" y="141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ключает 850 видов. Способны к полету. Между передними конечностями, туловищем и задними конечностями – кожистая перепонка. Киль. Эхолокаци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00000" y="63817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алонг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81" name="" descr=""/>
          <p:cNvPicPr/>
          <p:nvPr/>
        </p:nvPicPr>
        <p:blipFill>
          <a:blip r:embed="rId3"/>
          <a:stretch/>
        </p:blipFill>
        <p:spPr>
          <a:xfrm>
            <a:off x="4762440" y="2540160"/>
            <a:ext cx="3810240" cy="2997000"/>
          </a:xfrm>
          <a:prstGeom prst="rect">
            <a:avLst/>
          </a:prstGeom>
          <a:ln w="0">
            <a:noFill/>
          </a:ln>
        </p:spPr>
      </p:pic>
      <p:sp>
        <p:nvSpPr>
          <p:cNvPr id="1382" name=""/>
          <p:cNvSpPr/>
          <p:nvPr/>
        </p:nvSpPr>
        <p:spPr>
          <a:xfrm>
            <a:off x="5651640" y="566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олотоголов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3" name="" descr=""/>
          <p:cNvPicPr/>
          <p:nvPr/>
        </p:nvPicPr>
        <p:blipFill>
          <a:blip r:embed="rId2"/>
          <a:stretch/>
        </p:blipFill>
        <p:spPr>
          <a:xfrm>
            <a:off x="1258920" y="692280"/>
            <a:ext cx="5880240" cy="4116240"/>
          </a:xfrm>
          <a:prstGeom prst="rect">
            <a:avLst/>
          </a:prstGeom>
          <a:ln w="0">
            <a:noFill/>
          </a:ln>
        </p:spPr>
      </p:pic>
      <p:sp>
        <p:nvSpPr>
          <p:cNvPr id="1384" name=""/>
          <p:cNvSpPr/>
          <p:nvPr/>
        </p:nvSpPr>
        <p:spPr>
          <a:xfrm>
            <a:off x="1908000" y="501336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етучая мыш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ряд Грызу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1"/>
          <a:stretch/>
        </p:blipFill>
        <p:spPr>
          <a:xfrm>
            <a:off x="1214280" y="2260440"/>
            <a:ext cx="3175200" cy="3480120"/>
          </a:xfrm>
          <a:prstGeom prst="rect">
            <a:avLst/>
          </a:prstGeom>
          <a:ln w="0">
            <a:noFill/>
          </a:ln>
        </p:spPr>
      </p:pic>
      <p:sp>
        <p:nvSpPr>
          <p:cNvPr id="1387" name=""/>
          <p:cNvSpPr/>
          <p:nvPr/>
        </p:nvSpPr>
        <p:spPr>
          <a:xfrm>
            <a:off x="611280" y="14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ключает 1500 видов. Питаются растительной пищей. Крупные резцы, которые растут всю жизнь. Клыков не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2"/>
          <a:stretch/>
        </p:blipFill>
        <p:spPr>
          <a:xfrm>
            <a:off x="4976640" y="2730600"/>
            <a:ext cx="3810240" cy="2539800"/>
          </a:xfrm>
          <a:prstGeom prst="rect">
            <a:avLst/>
          </a:prstGeom>
          <a:ln w="0">
            <a:noFill/>
          </a:ln>
        </p:spPr>
      </p:pic>
      <p:sp>
        <p:nvSpPr>
          <p:cNvPr id="1389" name=""/>
          <p:cNvSpPr/>
          <p:nvPr/>
        </p:nvSpPr>
        <p:spPr>
          <a:xfrm>
            <a:off x="1547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ел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077160" y="5676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1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  <p:sp>
        <p:nvSpPr>
          <p:cNvPr id="1392" name=""/>
          <p:cNvSpPr/>
          <p:nvPr/>
        </p:nvSpPr>
        <p:spPr>
          <a:xfrm>
            <a:off x="2916360" y="609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апибар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9:52:30Z</dcterms:created>
  <dc:creator>leh</dc:creator>
  <dc:description/>
  <dc:language>en-US</dc:language>
  <cp:lastModifiedBy>leh</cp:lastModifiedBy>
  <dcterms:modified xsi:type="dcterms:W3CDTF">2007-05-22T16:07:58Z</dcterms:modified>
  <cp:revision>6</cp:revision>
  <dc:subject/>
  <dc:title>Слайд 1</dc:title>
</cp:coreProperties>
</file>