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3FC-C244-4328-9C9F-B6051A4C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587-EB00-434B-8A86-1887AE4C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153-9BD7-49F2-8C57-7C08BC1C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866-078F-4B9B-A0E3-9C2138E4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1E04-D70C-41E7-ADAA-0FE5F18C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D45F-0D40-48A8-AAB9-3B3D3DA4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24A5-E58D-453B-8357-36D5378E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E916-2BA6-448A-94ED-396944AC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1C3C-DC6C-4359-9E67-BFA2837F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206B-FA47-4ABA-82CF-08F0B074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CA59-2DDC-4429-AC15-ADAEACAB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1FA-E43F-4F05-B1EB-5C7791B0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3E58-1AF4-4150-8C52-646FEE4B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4F31-2D5F-42DD-8332-E89343D4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0FF8-E77C-4816-9FCF-9E2B9FB5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3C12-17D4-4492-96A7-3694CB8E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32F0-7861-4E30-AB0E-58C1E405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1438F-87D3-4F14-BA45-8AB57A0D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D92D3-EDD1-4259-816B-4D24349C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1296-59BF-43ED-846C-FD935D52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D5CD4-944A-4C7F-84BC-74A95AC3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382B2-EF85-4C1A-9043-7BF9E39B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DF7-2464-4C1D-8CA5-62D2FC23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EDE68-AE09-4E68-8FCF-B90D4650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96C81-9E33-46C8-B0E0-AF68F749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61227-3FA6-42B7-84A3-2C3146C0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56676-B4B1-4A6B-B8F1-520412C5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4B978-D738-47E5-8ADD-AF9034C3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028D5-890D-450C-8AA4-9BCB65BC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61F20-0719-47D1-AB25-627319CD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B4B00-986D-4DEE-B271-4772C3B9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11A55-A56B-492F-9528-397905BC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1B8C2-5AA6-495E-8FC3-330305F2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FAC8-9D83-42DF-99D7-79BF70CE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E2C86-8825-42E3-8112-F9F33EF5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9A3D5-6A1E-4D11-807D-375F7CEA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C58A9-4B68-4635-B0D5-13C6695E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86A8F-8483-42FD-A5E0-5D3E014F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CDDEF-9AB4-4879-988E-71B4FF25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AC2F9-1714-4FB3-9032-43D3F110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2BADF-2930-4DE9-8889-95759CAF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A0C39-46B2-4236-889A-B215AB65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AD529-2AE2-4463-A59D-89560625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170-CFA7-4114-91A7-F114977A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E5A6-D3DF-4EFC-9ACD-A656E43D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07F-FBE4-4F36-ABFA-2D77BFF0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86F-88A0-4F1E-8EB6-47D86539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124-496C-47EE-8F14-40A0B586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EBEF-DA26-4BC2-8CD8-4DC69FE0CD3C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FB0A-6057-4AD1-A66E-B61AB75706E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0610-2B64-41B6-858C-373F9CB4C250}" type="datetime"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E8F0-5444-482B-B518-9861FA7634BE}" type="slidenum"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2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3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grpSp>
          <p:nvGrpSpPr>
            <p:cNvPr id="13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3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3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3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3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3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4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2BAC-5D35-4A8E-B1F5-5E3E48A0D1F0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7FBB-F50F-4BE2-9A35-B421CF9FE04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0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780000"/>
                </a:gs>
                <a:gs pos="50000">
                  <a:srgbClr val="800000"/>
                </a:gs>
                <a:gs pos="100000">
                  <a:srgbClr val="78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0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0f0f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0f0f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0f0f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1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BF7D-0603-499B-8960-E9F6E31E4CEF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A8C4-2525-431D-B221-3A2A0A8BC8ED}" type="slidenum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Дата 1"/>
          <p:cNvSpPr/>
          <p:nvPr/>
        </p:nvSpPr>
        <p:spPr>
          <a:xfrm>
            <a:off x="4572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WordArt 5"/>
          <p:cNvSpPr txBox="1"/>
          <p:nvPr/>
        </p:nvSpPr>
        <p:spPr>
          <a:xfrm>
            <a:off x="304920" y="762120"/>
            <a:ext cx="853416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ЛЕГКАЯ АТЛЕТ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Бег на результат 60 м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Дата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5F6B-DDA2-4C4D-AAB3-1C55B01150EF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8" name="Picture 5" descr="bd0149-005"/>
          <p:cNvPicPr/>
          <p:nvPr/>
        </p:nvPicPr>
        <p:blipFill>
          <a:blip r:embed="rId1"/>
          <a:stretch/>
        </p:blipFill>
        <p:spPr>
          <a:xfrm>
            <a:off x="304920" y="3276720"/>
            <a:ext cx="3276360" cy="2455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bd0149-004"/>
          <p:cNvPicPr/>
          <p:nvPr/>
        </p:nvPicPr>
        <p:blipFill>
          <a:blip r:embed="rId2"/>
          <a:stretch/>
        </p:blipFill>
        <p:spPr>
          <a:xfrm>
            <a:off x="5562720" y="609480"/>
            <a:ext cx="3276360" cy="245772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7"/>
          <p:cNvSpPr/>
          <p:nvPr/>
        </p:nvSpPr>
        <p:spPr>
          <a:xfrm>
            <a:off x="304920" y="457200"/>
            <a:ext cx="525780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00"/>
                </a:solidFill>
                <a:latin typeface="French Script MT"/>
              </a:rPr>
              <a:t>Заключительным усилием для сохранения скорости бега является</a:t>
            </a:r>
            <a:r>
              <a:rPr b="1" lang="ru-RU" sz="3600" spc="-1" strike="noStrike">
                <a:solidFill>
                  <a:srgbClr val="00ccff"/>
                </a:solidFill>
                <a:latin typeface="French Script MT"/>
              </a:rPr>
              <a:t> </a:t>
            </a:r>
            <a:r>
              <a:rPr b="1" lang="ru-RU" sz="3800" spc="-1" strike="noStrike">
                <a:solidFill>
                  <a:srgbClr val="00ccff"/>
                </a:solidFill>
                <a:latin typeface="French Script MT"/>
              </a:rPr>
              <a:t>ФИНИШИРОВАНИЕ.</a:t>
            </a:r>
            <a:r>
              <a:rPr b="1" lang="ru-RU" sz="3600" spc="-1" strike="noStrike">
                <a:solidFill>
                  <a:srgbClr val="00ccff"/>
                </a:solidFill>
                <a:latin typeface="French Script M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3886200" y="3505320"/>
            <a:ext cx="525780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00"/>
                </a:solidFill>
                <a:latin typeface="French Script MT"/>
              </a:rPr>
              <a:t>Финишировать нельзя прыжком. После финиша нужно постепенно, замедляя бег, перейти на ходьбу.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A5CB-37D9-45C6-B453-EFD559D57B38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048120" y="45720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urier New"/>
              </a:rPr>
              <a:t>Бег – естественный способ передвижения, входящий во многие виды спорта.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228600" y="320040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urier New"/>
              </a:rPr>
              <a:t>В легкой атлетике, бег  делится на гладкий,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urier New"/>
              </a:rPr>
              <a:t>с препятствиями, эстафетный и по пересечённой местности.</a:t>
            </a:r>
            <a:r>
              <a:rPr b="1" lang="ru-RU" sz="2400" spc="-1" strike="noStrike">
                <a:solidFill>
                  <a:srgbClr val="ffff99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Picture 8" descr="888155-003"/>
          <p:cNvPicPr/>
          <p:nvPr/>
        </p:nvPicPr>
        <p:blipFill>
          <a:blip r:embed="rId1"/>
          <a:stretch/>
        </p:blipFill>
        <p:spPr>
          <a:xfrm>
            <a:off x="6629400" y="2819520"/>
            <a:ext cx="2295360" cy="2590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888155-004"/>
          <p:cNvPicPr/>
          <p:nvPr/>
        </p:nvPicPr>
        <p:blipFill>
          <a:blip r:embed="rId2"/>
          <a:stretch/>
        </p:blipFill>
        <p:spPr>
          <a:xfrm>
            <a:off x="228600" y="457200"/>
            <a:ext cx="266688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EDF1-0C7B-4C0E-9076-12E0834DA7D4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urier New"/>
              </a:rPr>
              <a:t>Бег на короткие дистанции (спринт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Verdana"/>
              </a:rPr>
              <a:t>Для учащихся </a:t>
            </a:r>
            <a:r>
              <a:rPr b="0" lang="en-US" sz="3600" spc="-1" strike="noStrike">
                <a:solidFill>
                  <a:srgbClr val="00ccff"/>
                </a:solidFill>
                <a:latin typeface="Verdana"/>
              </a:rPr>
              <a:t>V</a:t>
            </a:r>
            <a:r>
              <a:rPr b="0" lang="ru-RU" sz="3600" spc="-1" strike="noStrike">
                <a:solidFill>
                  <a:srgbClr val="00ccff"/>
                </a:solidFill>
                <a:latin typeface="Verdana"/>
              </a:rPr>
              <a:t>-</a:t>
            </a:r>
            <a:r>
              <a:rPr b="0" lang="en-US" sz="3600" spc="-1" strike="noStrike">
                <a:solidFill>
                  <a:srgbClr val="00ccff"/>
                </a:solidFill>
                <a:latin typeface="Verdana"/>
              </a:rPr>
              <a:t>VII</a:t>
            </a:r>
            <a:r>
              <a:rPr b="0" lang="ru-RU" sz="3600" spc="-1" strike="noStrike">
                <a:solidFill>
                  <a:srgbClr val="00ccff"/>
                </a:solidFill>
                <a:latin typeface="Verdana"/>
              </a:rPr>
              <a:t> классов  - 30, 60 метров – условно разделяется на четыре фазы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66640" indent="-566640">
              <a:spcBef>
                <a:spcPts val="9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Старт;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66640" indent="-566640">
              <a:spcBef>
                <a:spcPts val="9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Стартовый разгон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66640" indent="-566640">
              <a:spcBef>
                <a:spcPts val="9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Бег по дистанции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66640" indent="-566640">
              <a:spcBef>
                <a:spcPts val="9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Финиширован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5486400" y="3809880"/>
            <a:ext cx="342900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4FA1-9CDB-41E1-9DC1-359DCE91FFA2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281916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cc00"/>
                </a:solidFill>
                <a:latin typeface="Courier New"/>
              </a:rPr>
              <a:t>Высокий старт</a:t>
            </a:r>
            <a:r>
              <a:rPr b="0" lang="ru-RU" sz="5400" spc="-1" strike="noStrike">
                <a:solidFill>
                  <a:srgbClr val="ffcc00"/>
                </a:solidFill>
                <a:latin typeface="Courier New"/>
              </a:rPr>
              <a:t> </a:t>
            </a:r>
            <a:br>
              <a:rPr sz="5400"/>
            </a:br>
            <a:r>
              <a:rPr b="0" lang="ru-RU" sz="2800" spc="-1" strike="noStrike">
                <a:solidFill>
                  <a:srgbClr val="ffcc00"/>
                </a:solidFill>
                <a:latin typeface="Courier New"/>
              </a:rPr>
              <a:t>Применяется практически на всех дистанциях бега.</a:t>
            </a: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74" name="Picture 9" descr="bd0149-001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Дата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186F-C4C5-48B6-A3B7-4985EC2CB87F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>
            <a:lum contrast="42000"/>
          </a:blip>
          <a:srcRect l="0" t="0" r="64437" b="-1098"/>
          <a:stretch/>
        </p:blipFill>
        <p:spPr>
          <a:xfrm>
            <a:off x="5638680" y="304920"/>
            <a:ext cx="3065760" cy="38098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533520" y="1676520"/>
            <a:ext cx="4952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ученик подходит к стартовой линии и ставит сильнейшую ногу носком к ней.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80880" y="42670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Другую ногу отставляет назад, упираясь в грунт носком. Туловище выпрямлено, руки свободно опущены.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04920" y="22860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По команд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1409760" y="990720"/>
            <a:ext cx="340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French Script MT"/>
              </a:rPr>
              <a:t>«НА СТАРТ!»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8B99-2E15-4F72-BFEE-C5F62EAE9184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5562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ученик слегка сгибает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ногу, перенося ве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тела на впереди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стоящую ногу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5" name="Picture 6" descr=""/>
          <p:cNvPicPr/>
          <p:nvPr/>
        </p:nvPicPr>
        <p:blipFill>
          <a:blip r:embed="rId1">
            <a:lum contrast="42000"/>
          </a:blip>
          <a:srcRect l="30934" t="0" r="38017" b="0"/>
          <a:stretch/>
        </p:blipFill>
        <p:spPr>
          <a:xfrm>
            <a:off x="5715000" y="380880"/>
            <a:ext cx="2925720" cy="48769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7"/>
          <p:cNvSpPr/>
          <p:nvPr/>
        </p:nvSpPr>
        <p:spPr>
          <a:xfrm>
            <a:off x="380880" y="4724280"/>
            <a:ext cx="84582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Руки чуть согнуты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в локтях. Взгляд направлен вперед</a:t>
            </a:r>
            <a:r>
              <a:rPr b="0" lang="ru-RU" sz="1800" spc="-1" strike="noStrike">
                <a:solidFill>
                  <a:srgbClr val="ffcc00"/>
                </a:solidFill>
                <a:latin typeface="French Script M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304920" y="304920"/>
            <a:ext cx="281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По команд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1120680" y="1143000"/>
            <a:ext cx="407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French Script MT"/>
              </a:rPr>
              <a:t>«ВНИМАНИЕ!»</a:t>
            </a: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1110-AAB3-49CB-ABE4-61AEF80C4D7A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5486400" cy="4297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French Script MT"/>
              </a:rPr>
              <a:t>учащийся, энергично отталкиваясь ногами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French Script MT"/>
              </a:rPr>
              <a:t>от земли, начинает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French Script MT"/>
              </a:rPr>
              <a:t>бег, стараясь быстро набрать скорость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>
            <a:lum contrast="42000"/>
          </a:blip>
          <a:srcRect l="59607" t="0" r="65" b="0"/>
          <a:stretch/>
        </p:blipFill>
        <p:spPr>
          <a:xfrm>
            <a:off x="5486400" y="1371600"/>
            <a:ext cx="3384720" cy="43434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7"/>
          <p:cNvSpPr/>
          <p:nvPr/>
        </p:nvSpPr>
        <p:spPr>
          <a:xfrm>
            <a:off x="152280" y="1522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По команд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1188360" y="838080"/>
            <a:ext cx="26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French Script MT"/>
              </a:rPr>
              <a:t>«МАРШ!»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7601-DDDE-4A15-803D-2AFFB453035F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92240"/>
            <a:ext cx="8080200" cy="839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French Script MT"/>
              </a:rPr>
              <a:t>СТАРТОВЫЙ РАЗБЕГ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French Script MT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French Script MT"/>
              </a:rPr>
              <a:t>Ученик энергично выполняет беговые движения ногами и работая руками. Туловище наклонено вперед. </a:t>
            </a:r>
            <a:r>
              <a:rPr b="0" lang="ru-RU" sz="3200" spc="-1" strike="noStrike">
                <a:solidFill>
                  <a:srgbClr val="ffcc00"/>
                </a:solidFill>
                <a:latin typeface="French Script MT"/>
              </a:rPr>
              <a:t>С удлинением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12" descr="bd0149-001"/>
          <p:cNvPicPr/>
          <p:nvPr/>
        </p:nvPicPr>
        <p:blipFill>
          <a:blip r:embed="rId1"/>
          <a:stretch/>
        </p:blipFill>
        <p:spPr>
          <a:xfrm>
            <a:off x="5029200" y="1600200"/>
            <a:ext cx="3886200" cy="28494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3"/>
          <p:cNvSpPr/>
          <p:nvPr/>
        </p:nvSpPr>
        <p:spPr>
          <a:xfrm>
            <a:off x="380880" y="5105520"/>
            <a:ext cx="8763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French Script MT"/>
              </a:rPr>
              <a:t>шагов туловище постепенно выпрямляется, и бегун набирает максимальную скорость, которая поддерживается до конца бега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8D3B-0756-4333-82FB-A4DE9679F185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French Script MT"/>
              </a:rPr>
              <a:t>БЕГ ПО ДИСТАНЦИ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04" name="Picture 9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96080" cy="25588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0"/>
          <p:cNvSpPr/>
          <p:nvPr/>
        </p:nvSpPr>
        <p:spPr>
          <a:xfrm>
            <a:off x="304920" y="40384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French Script MT"/>
              </a:rPr>
              <a:t>бег по дистанции должен быть </a:t>
            </a:r>
            <a:r>
              <a:rPr b="1" lang="ru-RU" sz="3200" spc="-1" strike="noStrike">
                <a:solidFill>
                  <a:srgbClr val="00ccff"/>
                </a:solidFill>
                <a:latin typeface="French Script MT"/>
              </a:rPr>
              <a:t>ритмичным</a:t>
            </a:r>
            <a:r>
              <a:rPr b="1" lang="ru-RU" sz="3200" spc="-1" strike="noStrike">
                <a:solidFill>
                  <a:srgbClr val="ffcc00"/>
                </a:solidFill>
                <a:latin typeface="French Script MT"/>
              </a:rPr>
              <a:t> и </a:t>
            </a:r>
            <a:r>
              <a:rPr b="1" lang="ru-RU" sz="3200" spc="-1" strike="noStrike">
                <a:solidFill>
                  <a:srgbClr val="00ccff"/>
                </a:solidFill>
                <a:latin typeface="French Script MT"/>
              </a:rPr>
              <a:t>свободным,</a:t>
            </a:r>
            <a:r>
              <a:rPr b="1" lang="ru-RU" sz="3200" spc="-1" strike="noStrike">
                <a:solidFill>
                  <a:srgbClr val="ffcc00"/>
                </a:solidFill>
                <a:latin typeface="French Script MT"/>
              </a:rPr>
              <a:t> с небольшим </a:t>
            </a:r>
            <a:r>
              <a:rPr b="1" lang="ru-RU" sz="3200" spc="-1" strike="noStrike">
                <a:solidFill>
                  <a:srgbClr val="00ccff"/>
                </a:solidFill>
                <a:latin typeface="French Script MT"/>
              </a:rPr>
              <a:t>наклоном туловища вперед</a:t>
            </a:r>
            <a:r>
              <a:rPr b="1" lang="ru-RU" sz="3200" spc="-1" strike="noStrike">
                <a:solidFill>
                  <a:srgbClr val="ffcc00"/>
                </a:solidFill>
                <a:latin typeface="French Script MT"/>
              </a:rPr>
              <a:t> (взгляд устремлен вперед); нога касается дорожки передней частью стопы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 Владимировна</dc:creator>
  <dc:description/>
  <dc:language>en-US</dc:language>
  <cp:lastModifiedBy>RePack by Diakov</cp:lastModifiedBy>
  <dcterms:modified xsi:type="dcterms:W3CDTF">2020-04-03T20:09:0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NXTAG2">
    <vt:lpwstr>000800e80a0000000000010250300207f7000400038000</vt:lpwstr>
  </property>
  <property fmtid="{D5CDD505-2E9C-101B-9397-08002B2CF9AE}" pid="4" name="Version">
    <vt:r8>3</vt:r8>
  </property>
</Properties>
</file>