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877-0623-49B9-8A72-B3B09A1A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A1C-4F8B-493D-B9AC-173B5A9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899-4394-4AD0-A216-3F02AC61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E8E-9AD5-480B-BF0E-1F5EE38B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C1C-8498-4742-BFBB-5817458A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102-CF1F-491C-9D10-1DA44B3E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73B-ECBA-4568-9C71-60C55CBF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587-F205-4F9A-8874-B057F7C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011-BE5F-4FB8-BE77-89431B8A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E7D-0109-43ED-BB15-0F6D57D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D22-27AF-4235-BCA3-91D736CD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2D9-B6AA-4131-92D8-A85D732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F71-C119-4DA0-A009-A78C7C668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74;&#1086;&#1077;&#1085;&#1088;&#1072;&#1089;&#1093;.pps" TargetMode="External"/><Relationship Id="rId2" Type="http://schemas.openxmlformats.org/officeDocument/2006/relationships/hyperlink" Target="file:///&#1091;&#1095;&#1089;&#1089;&#1088;&#1082;&#1086;&#1085;&#1092;&#1083;.pps" TargetMode="External"/><Relationship Id="rId3" Type="http://schemas.openxmlformats.org/officeDocument/2006/relationships/hyperlink" Target="file:///&#1088;&#1072;&#1089;&#1093;&#1086;&#1076;&#1099;.pps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ение изуч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611280" y="1052640"/>
            <a:ext cx="2448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«гласность»? Чем она отличается от свободы слов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3346560" y="1052640"/>
            <a:ext cx="24476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те оценку итогов политики гласности в годы перестр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6012000" y="1052640"/>
            <a:ext cx="24476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издержки повлекла реализация  курса  на развитие гласнос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611280" y="3860640"/>
            <a:ext cx="2448000" cy="25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 реакцию у коммунистов-консерваторов вызвала политика гласнос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9"/>
          <p:cNvSpPr/>
          <p:nvPr/>
        </p:nvSpPr>
        <p:spPr>
          <a:xfrm>
            <a:off x="3346560" y="3860640"/>
            <a:ext cx="2447640" cy="25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вы видите главные причины развития гласности в годы перестрой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6012000" y="3860640"/>
            <a:ext cx="2447640" cy="25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и в связи с чем начала работу Комиссия по реабилитации жертв политических репресси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611280" y="1052640"/>
            <a:ext cx="2460600" cy="259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3357720" y="1071720"/>
            <a:ext cx="2428560" cy="2571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6012000" y="1052640"/>
            <a:ext cx="2417760" cy="2590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71680" y="3857760"/>
            <a:ext cx="2500200" cy="2643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3348000" y="3860640"/>
            <a:ext cx="2438280" cy="256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6012000" y="3860640"/>
            <a:ext cx="2417760" cy="256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6084720" y="3445920"/>
            <a:ext cx="2664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тесных эконом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заимовыгодных политических контак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личными стран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предпочтения стран социалистического лаге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вое политическое мышление»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основных направл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й поли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95280" y="3438000"/>
            <a:ext cx="266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зация отноше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ок–Запа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азору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276720" y="3436560"/>
            <a:ext cx="266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локирование региональных конфли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 rot="8538000">
            <a:off x="1923480" y="2396880"/>
            <a:ext cx="1841400" cy="485640"/>
          </a:xfrm>
          <a:custGeom>
            <a:avLst/>
            <a:gdLst>
              <a:gd name="textAreaLeft" fmla="*/ 230040 w 1841400"/>
              <a:gd name="textAreaRight" fmla="*/ 1611360 w 1841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2709000">
            <a:off x="5478120" y="2378160"/>
            <a:ext cx="1841400" cy="485640"/>
          </a:xfrm>
          <a:custGeom>
            <a:avLst/>
            <a:gdLst>
              <a:gd name="textAreaLeft" fmla="*/ 230040 w 1841400"/>
              <a:gd name="textAreaRight" fmla="*/ 1611360 w 18414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5400000">
            <a:off x="3985560" y="2430360"/>
            <a:ext cx="1368720" cy="485640"/>
          </a:xfrm>
          <a:custGeom>
            <a:avLst/>
            <a:gdLst>
              <a:gd name="textAreaLeft" fmla="*/ 171000 w 1368720"/>
              <a:gd name="textAreaRight" fmla="*/ 1197720 w 1368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397320" cy="5072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4000680" y="642960"/>
            <a:ext cx="4392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июля 198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стром иностранных дел СССР вмест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А. Громыко станови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.А. Шеварднад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3384720" cy="5064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4788000" y="1125360"/>
            <a:ext cx="377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в 1928 году в высокогорном селе Мамати Чохатаурского района. С 1957 по 1961 год – первый секретарь ЦК комсомола Гру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65 по 1972 год – министр внутренних дел Груз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2 году становится первым секретарем ЦК компартии Грузии. Приобрел славу неординарного руковод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85 году Э.А. Шеварднадзе назначается на должность министра иностранных дел СССР, заменив Андрея Андреевича Громыко, занимавшего эту дол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лет. Член Политбюро ЦК КПСС в 1985–90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.А. Шеварднадз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разоруж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годные встречи руководства СССР и США, в ходе которых был налажен личный контакт между М.С. Горбачевы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. Рейганом, а зат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 Буш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оябрь 1985 года – Женева; октябрь 1986 года – Рейкьявик; декабрь 1987 года – Вашингтон; июль 1988 года – Моск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ание догово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уничтожении рак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й и меньшей д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шение об ОСН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611280" y="981000"/>
            <a:ext cx="3816360" cy="259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539640" y="3716280"/>
            <a:ext cx="3816360" cy="2592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новых парт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3520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е встречи с лидерами стран Западной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539640" y="981000"/>
            <a:ext cx="3529080" cy="2951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4859280" y="981000"/>
            <a:ext cx="3673440" cy="273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2771640" y="3141720"/>
            <a:ext cx="3456000" cy="25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региональных конфли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07672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февраля 1989 года –завершение вывода советского воинского континген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Афганис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91 год – Мадридское соглашение по арабо-израильскому конфли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СССР от прямого вмешательства в гражданские конфлик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фиопии, Анголе, Мозамбике, Никарагу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539640" y="1773360"/>
            <a:ext cx="4464000" cy="4105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 со странами треть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076720" y="1268280"/>
            <a:ext cx="35989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89 году состоялся визит М. Горбачева в Кита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которого было объявле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ормализации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86–89 годах СССР сократил объемы безвозмездной помощи союзным режимам, одобрил военные действия Запа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кризиса в Персидском зал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были восстановлены дипломатические отношения с ЮАР, Южной Кореей, Тайванем, Израи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341360"/>
            <a:ext cx="3816360" cy="3024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187280" y="3429000"/>
            <a:ext cx="3816360" cy="3024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ад социалистическ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Bundesarchiv_Bild_183-1986-0421-010,_Berlin,_XI__SED-Parteitag,_Gorbatschow,_Honecker1986"/>
          <p:cNvPicPr/>
          <p:nvPr/>
        </p:nvPicPr>
        <p:blipFill>
          <a:blip r:embed="rId1"/>
          <a:stretch/>
        </p:blipFill>
        <p:spPr>
          <a:xfrm>
            <a:off x="971640" y="1341360"/>
            <a:ext cx="3384360" cy="236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Рисунок12"/>
          <p:cNvPicPr/>
          <p:nvPr/>
        </p:nvPicPr>
        <p:blipFill>
          <a:blip r:embed="rId2"/>
          <a:stretch/>
        </p:blipFill>
        <p:spPr>
          <a:xfrm>
            <a:off x="5651640" y="1341360"/>
            <a:ext cx="2966760" cy="223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горбачевичаушеску1985"/>
          <p:cNvPicPr/>
          <p:nvPr/>
        </p:nvPicPr>
        <p:blipFill>
          <a:blip r:embed="rId3"/>
          <a:stretch/>
        </p:blipFill>
        <p:spPr>
          <a:xfrm>
            <a:off x="900000" y="386064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Рисунок6"/>
          <p:cNvPicPr/>
          <p:nvPr/>
        </p:nvPicPr>
        <p:blipFill>
          <a:blip r:embed="rId4"/>
          <a:stretch/>
        </p:blipFill>
        <p:spPr>
          <a:xfrm>
            <a:off x="5651640" y="393372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ад социалистическ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3280" y="170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89–91 годы – победа демократических с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ах Восточной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89–90 годы – вывод советских войск из Восточной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0 год –объединение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1 год – роспуск СЭВ и ОВ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539640" y="1844640"/>
            <a:ext cx="3961080" cy="3600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рывались устои обороноспособности стр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932360" y="1341360"/>
            <a:ext cx="3529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форм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циональная безопасность обеспечивается не грудами оружия, а радикальными реформ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ОВОГО МЫШЛЕНИЯ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539640" y="2637000"/>
            <a:ext cx="2448000" cy="316836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3168360"/>
              <a:gd name="textAreaBottom" fmla="*/ 3048840 h 3168360"/>
            </a:gdLst>
            <a:ahLst/>
            <a:rect l="textAreaLeft" t="textAreaTop" r="textAreaRight" b="textAreaBottom"/>
            <a:pathLst>
              <a:path w="21600" h="27955">
                <a:moveTo>
                  <a:pt x="3600" y="0"/>
                </a:moveTo>
                <a:arcTo wR="3600" hR="3600" stAng="16200000" swAng="-5400000"/>
                <a:lnTo>
                  <a:pt x="0" y="24355"/>
                </a:lnTo>
                <a:arcTo wR="3600" hR="3600" stAng="10800000" swAng="-5400000"/>
                <a:lnTo>
                  <a:pt x="18000" y="2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348000" y="3141720"/>
            <a:ext cx="2448000" cy="316872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3168720"/>
              <a:gd name="textAreaBottom" fmla="*/ 3049200 h 3168720"/>
            </a:gdLst>
            <a:ahLst/>
            <a:rect l="textAreaLeft" t="textAreaTop" r="textAreaRight" b="textAreaBottom"/>
            <a:pathLst>
              <a:path w="21600" h="27958">
                <a:moveTo>
                  <a:pt x="3600" y="0"/>
                </a:moveTo>
                <a:arcTo wR="3600" hR="3600" stAng="16200000" swAng="-5400000"/>
                <a:lnTo>
                  <a:pt x="0" y="24358"/>
                </a:lnTo>
                <a:arcTo wR="3600" hR="3600" stAng="10800000" swAng="-5400000"/>
                <a:lnTo>
                  <a:pt x="18000" y="2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6156360" y="2637000"/>
            <a:ext cx="2448000" cy="316836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3168360"/>
              <a:gd name="textAreaBottom" fmla="*/ 3048840 h 3168360"/>
            </a:gdLst>
            <a:ahLst/>
            <a:rect l="textAreaLeft" t="textAreaTop" r="textAreaRight" b="textAreaBottom"/>
            <a:pathLst>
              <a:path w="21600" h="27955">
                <a:moveTo>
                  <a:pt x="3600" y="0"/>
                </a:moveTo>
                <a:arcTo wR="3600" hR="3600" stAng="16200000" swAng="-5400000"/>
                <a:lnTo>
                  <a:pt x="0" y="24355"/>
                </a:lnTo>
                <a:arcTo wR="3600" hR="3600" stAng="10800000" swAng="-5400000"/>
                <a:lnTo>
                  <a:pt x="18000" y="2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640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ультаты полити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вого мышления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608360" y="5110200"/>
            <a:ext cx="4067280" cy="72072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отеря традиционных союз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539640" y="5110200"/>
            <a:ext cx="4068720" cy="72072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зблокирование ряда локальных конфли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608360" y="4386240"/>
            <a:ext cx="4067280" cy="72396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е оправдались надежд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начительную помощь стран З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539640" y="4386240"/>
            <a:ext cx="4068720" cy="72396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ерспективы интеграции ССС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иров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4608360" y="3664080"/>
            <a:ext cx="4067280" cy="72216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нижение обороноспособности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539640" y="3664080"/>
            <a:ext cx="4068720" cy="72216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ничтожение целых классов оружия массового по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608360" y="2940120"/>
            <a:ext cx="4067280" cy="72396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сталась только одна сверхдержава –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39640" y="2940120"/>
            <a:ext cx="4068720" cy="72396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ущественное снижение ядерной уг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08360" y="2219400"/>
            <a:ext cx="4067280" cy="72072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ничтожение биполярной системы – нарушение мировой стаби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39640" y="2219400"/>
            <a:ext cx="4068720" cy="72072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слабление международной напр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2"/>
          <p:cNvSpPr txBox="1"/>
          <p:nvPr/>
        </p:nvSpPr>
        <p:spPr>
          <a:xfrm>
            <a:off x="234000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1" name="WordArt 34"/>
          <p:cNvSpPr txBox="1"/>
          <p:nvPr/>
        </p:nvSpPr>
        <p:spPr>
          <a:xfrm rot="5400000">
            <a:off x="7276320" y="1323000"/>
            <a:ext cx="1508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2" name="Line 36"/>
          <p:cNvSpPr/>
          <p:nvPr/>
        </p:nvSpPr>
        <p:spPr>
          <a:xfrm>
            <a:off x="4624560" y="1413000"/>
            <a:ext cx="0" cy="5111640"/>
          </a:xfrm>
          <a:prstGeom prst="line">
            <a:avLst/>
          </a:prstGeom>
          <a:ln w="572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68360" y="1341360"/>
            <a:ext cx="431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новое политическое мышл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холодн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ролетарский интернацио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трет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оциалистический лаг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643280" y="134136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региональные конфли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«бархатные»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ЭВ, ОВД, НА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биполяр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00000" y="62064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Дайте определения следующим понят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26920" y="4869000"/>
            <a:ext cx="73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цените результаты внешней политики СССР в 1980-х – начале 1990-х г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ция «нового политического мыш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СР и США: начало разо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новых парт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со странами третьего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региональных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ад социалис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оги политики «нового мыш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дл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в собы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5–1991 годов, оцените результаты внешней политики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500720" y="4869000"/>
            <a:ext cx="4066920" cy="720720"/>
          </a:xfrm>
          <a:prstGeom prst="rect">
            <a:avLst/>
          </a:prstGeom>
          <a:solidFill>
            <a:srgbClr val="3366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31640" y="4869000"/>
            <a:ext cx="4069080" cy="720720"/>
          </a:xfrm>
          <a:prstGeom prst="rect">
            <a:avLst/>
          </a:prstGeom>
          <a:solidFill>
            <a:srgbClr val="ff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2232000" y="42069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 rot="5400000">
            <a:off x="7168320" y="3972240"/>
            <a:ext cx="1508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3276720" y="3284640"/>
            <a:ext cx="2638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0"/>
                </a:gradFill>
                <a:latin typeface="Arial"/>
              </a:rPr>
              <a:t>Диалек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2987640" y="333360"/>
            <a:ext cx="33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октрина Брежнев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2771640" y="1413000"/>
            <a:ext cx="3961080" cy="1800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полярный мир, возможность мирного сосуществования дву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771640" y="4222800"/>
            <a:ext cx="3961080" cy="105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рименения силы для разрешения 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2771640" y="5375160"/>
            <a:ext cx="3961080" cy="1059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стран, выбравших социалистический путь развит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инансовая и вое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771640" y="3284640"/>
            <a:ext cx="3961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военного паритета, возможность применения ядерного оружия в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46280" y="4651200"/>
            <a:ext cx="1060560" cy="9241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06840" y="4040280"/>
            <a:ext cx="1058760" cy="153504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65600" y="3440160"/>
            <a:ext cx="1058760" cy="21351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724360" y="2421000"/>
            <a:ext cx="1060560" cy="3154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873880" y="429912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53160" y="365112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961520" y="307512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042600" y="20667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3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"/>
          <p:cNvGrpSpPr/>
          <p:nvPr/>
        </p:nvGrpSpPr>
        <p:grpSpPr>
          <a:xfrm>
            <a:off x="1754280" y="5575320"/>
            <a:ext cx="5824440" cy="529560"/>
            <a:chOff x="1754280" y="5575320"/>
            <a:chExt cx="5824440" cy="529560"/>
          </a:xfrm>
        </p:grpSpPr>
        <p:sp>
          <p:nvSpPr>
            <p:cNvPr id="81" name="Line 11"/>
            <p:cNvSpPr/>
            <p:nvPr/>
          </p:nvSpPr>
          <p:spPr>
            <a:xfrm>
              <a:off x="1754280" y="5575320"/>
              <a:ext cx="5823000" cy="14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V="1">
              <a:off x="1754280" y="5575320"/>
              <a:ext cx="1440" cy="76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 flipV="1">
              <a:off x="7577280" y="5575320"/>
              <a:ext cx="1440" cy="76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4"/>
            <p:cNvSpPr/>
            <p:nvPr/>
          </p:nvSpPr>
          <p:spPr>
            <a:xfrm>
              <a:off x="4892040" y="57387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5"/>
            <p:cNvSpPr/>
            <p:nvPr/>
          </p:nvSpPr>
          <p:spPr>
            <a:xfrm>
              <a:off x="5971320" y="57387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3810960" y="57387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7"/>
            <p:cNvSpPr/>
            <p:nvPr/>
          </p:nvSpPr>
          <p:spPr>
            <a:xfrm>
              <a:off x="2731320" y="57387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8"/>
          <p:cNvSpPr/>
          <p:nvPr/>
        </p:nvSpPr>
        <p:spPr>
          <a:xfrm>
            <a:off x="639360" y="33336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ходы СССР в Афганистане (млн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3059280" y="2205000"/>
            <a:ext cx="4033800" cy="2952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7020000" y="1125360"/>
            <a:ext cx="1670040" cy="1670400"/>
          </a:xfrm>
          <a:custGeom>
            <a:avLst/>
            <a:gdLst>
              <a:gd name="textAreaLeft" fmla="*/ 381240 w 1670040"/>
              <a:gd name="textAreaRight" fmla="*/ 1288800 w 1670040"/>
              <a:gd name="textAreaTop" fmla="*/ 381240 h 1670400"/>
              <a:gd name="textAreaBottom" fmla="*/ 1289160 h 167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36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3,5 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539640" y="1052640"/>
            <a:ext cx="2592360" cy="1944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 flipV="1">
            <a:off x="5508720" y="2781000"/>
            <a:ext cx="1871640" cy="43164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 flipV="1">
            <a:off x="3564000" y="3213000"/>
            <a:ext cx="1944720" cy="21600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1692360" y="3428640"/>
            <a:ext cx="1871640" cy="115236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32160" y="33336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енные расходы СССР (млрд дол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>
            <a:hlinkClick r:id="" action="ppaction://hlinkshowjump?jump=endshow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773280" y="5498640"/>
            <a:ext cx="7583400" cy="95400"/>
            <a:chOff x="773280" y="5498640"/>
            <a:chExt cx="7583400" cy="95400"/>
          </a:xfrm>
        </p:grpSpPr>
        <p:sp>
          <p:nvSpPr>
            <p:cNvPr id="98" name="Line 8"/>
            <p:cNvSpPr/>
            <p:nvPr/>
          </p:nvSpPr>
          <p:spPr>
            <a:xfrm>
              <a:off x="773280" y="5499000"/>
              <a:ext cx="7581600" cy="18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V="1">
              <a:off x="773280" y="5498640"/>
              <a:ext cx="1440" cy="95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V="1">
              <a:off x="2668680" y="5498640"/>
              <a:ext cx="1440" cy="95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V="1">
              <a:off x="4564080" y="5498640"/>
              <a:ext cx="1440" cy="95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V="1">
              <a:off x="6459480" y="5498640"/>
              <a:ext cx="1800" cy="95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V="1">
              <a:off x="8354880" y="5498640"/>
              <a:ext cx="1800" cy="9540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1568520" y="4476600"/>
            <a:ext cx="257040" cy="257400"/>
            <a:chOff x="1568520" y="4476600"/>
            <a:chExt cx="257040" cy="257400"/>
          </a:xfrm>
        </p:grpSpPr>
        <p:sp>
          <p:nvSpPr>
            <p:cNvPr id="105" name="Rectangle 15"/>
            <p:cNvSpPr/>
            <p:nvPr/>
          </p:nvSpPr>
          <p:spPr>
            <a:xfrm>
              <a:off x="1568520" y="4476600"/>
              <a:ext cx="257040" cy="257400"/>
            </a:xfrm>
            <a:prstGeom prst="rect">
              <a:avLst/>
            </a:prstGeom>
            <a:solidFill>
              <a:srgbClr val="cc0000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H="1" flipV="1">
              <a:off x="1568520" y="447660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3463920" y="3305160"/>
            <a:ext cx="257040" cy="257040"/>
            <a:chOff x="3463920" y="3305160"/>
            <a:chExt cx="257040" cy="257040"/>
          </a:xfrm>
        </p:grpSpPr>
        <p:sp>
          <p:nvSpPr>
            <p:cNvPr id="108" name="Rectangle 18"/>
            <p:cNvSpPr/>
            <p:nvPr/>
          </p:nvSpPr>
          <p:spPr>
            <a:xfrm>
              <a:off x="3463920" y="3305160"/>
              <a:ext cx="257040" cy="257040"/>
            </a:xfrm>
            <a:prstGeom prst="rect">
              <a:avLst/>
            </a:prstGeom>
            <a:solidFill>
              <a:srgbClr val="cc0000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H="1" flipV="1">
              <a:off x="3463920" y="330516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3587760" y="342900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3463920" y="342900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3587760" y="330516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 flipV="1">
              <a:off x="3587760" y="3305160"/>
              <a:ext cx="14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3587760" y="3429000"/>
              <a:ext cx="14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5359320" y="3105000"/>
            <a:ext cx="257400" cy="257400"/>
            <a:chOff x="5359320" y="3105000"/>
            <a:chExt cx="257400" cy="257400"/>
          </a:xfrm>
        </p:grpSpPr>
        <p:sp>
          <p:nvSpPr>
            <p:cNvPr id="116" name="Rectangle 26"/>
            <p:cNvSpPr/>
            <p:nvPr/>
          </p:nvSpPr>
          <p:spPr>
            <a:xfrm>
              <a:off x="5359320" y="3105000"/>
              <a:ext cx="257400" cy="257400"/>
            </a:xfrm>
            <a:prstGeom prst="rect">
              <a:avLst/>
            </a:prstGeom>
            <a:solidFill>
              <a:srgbClr val="cc0000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H="1" flipV="1">
              <a:off x="5359320" y="310500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5483160" y="322884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H="1">
              <a:off x="5359320" y="322884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5483160" y="310500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V="1">
              <a:off x="5483160" y="3105000"/>
              <a:ext cx="180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5483160" y="3228840"/>
              <a:ext cx="180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33"/>
          <p:cNvGrpSpPr/>
          <p:nvPr/>
        </p:nvGrpSpPr>
        <p:grpSpPr>
          <a:xfrm>
            <a:off x="7254720" y="2657520"/>
            <a:ext cx="257400" cy="257040"/>
            <a:chOff x="7254720" y="2657520"/>
            <a:chExt cx="257400" cy="257040"/>
          </a:xfrm>
        </p:grpSpPr>
        <p:sp>
          <p:nvSpPr>
            <p:cNvPr id="124" name="Rectangle 34"/>
            <p:cNvSpPr/>
            <p:nvPr/>
          </p:nvSpPr>
          <p:spPr>
            <a:xfrm>
              <a:off x="7254720" y="2657520"/>
              <a:ext cx="257400" cy="257040"/>
            </a:xfrm>
            <a:prstGeom prst="rect">
              <a:avLst/>
            </a:prstGeom>
            <a:solidFill>
              <a:srgbClr val="cc0000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 flipV="1">
              <a:off x="7254720" y="265752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7378560" y="278136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7254720" y="278136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V="1">
              <a:off x="7378560" y="2657520"/>
              <a:ext cx="12384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 flipV="1">
              <a:off x="7378560" y="2657520"/>
              <a:ext cx="180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7378560" y="2781360"/>
              <a:ext cx="1800" cy="123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41"/>
          <p:cNvSpPr/>
          <p:nvPr/>
        </p:nvSpPr>
        <p:spPr>
          <a:xfrm>
            <a:off x="1327680" y="40291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71,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3223440" y="28576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79,5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3"/>
          <p:cNvSpPr/>
          <p:nvPr/>
        </p:nvSpPr>
        <p:spPr>
          <a:xfrm>
            <a:off x="5319720" y="26575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4"/>
          <p:cNvSpPr/>
          <p:nvPr/>
        </p:nvSpPr>
        <p:spPr>
          <a:xfrm>
            <a:off x="7014240" y="22096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84,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1399320" y="576576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3294720" y="576576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5190120" y="576576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7085520" y="5765760"/>
            <a:ext cx="653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9"/>
          <p:cNvSpPr/>
          <p:nvPr/>
        </p:nvSpPr>
        <p:spPr>
          <a:xfrm>
            <a:off x="611280" y="981000"/>
            <a:ext cx="2448000" cy="1800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ины изменений кур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539640" y="3500280"/>
            <a:ext cx="8064720" cy="792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удшение внешнеполитического имиджа СССР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ойна в Афганистане, корейский «Боинг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539640" y="981000"/>
            <a:ext cx="8064720" cy="1058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удшение экономического положения СССР, необходимость установления тесных экономических связей с США и странами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539640" y="4365720"/>
            <a:ext cx="8064720" cy="79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 опасности начала ядерной вой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змещение РМСД в Европе, программа СО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39640" y="5229360"/>
            <a:ext cx="8064720" cy="79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ы в отношениях с союзник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оциалистическому лагерю (Польша), Кит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3">
            <a:hlinkClick r:id="rId1"/>
          </p:cNvPr>
          <p:cNvSpPr/>
          <p:nvPr/>
        </p:nvSpPr>
        <p:spPr>
          <a:xfrm>
            <a:off x="900000" y="2133720"/>
            <a:ext cx="2376720" cy="105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 лет на военные нужды было истрачено 700 млрд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>
            <a:hlinkClick r:id="rId2"/>
          </p:cNvPr>
          <p:cNvSpPr/>
          <p:nvPr/>
        </p:nvSpPr>
        <p:spPr>
          <a:xfrm>
            <a:off x="3419640" y="2133720"/>
            <a:ext cx="2376360" cy="105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ка соцстран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 млрд руб.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>
            <a:hlinkClick r:id="rId3"/>
          </p:cNvPr>
          <p:cNvSpPr/>
          <p:nvPr/>
        </p:nvSpPr>
        <p:spPr>
          <a:xfrm>
            <a:off x="5940360" y="2133720"/>
            <a:ext cx="2376720" cy="105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а в Афганистане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 млрд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59280" y="333360"/>
            <a:ext cx="338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овое политическо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лени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4643280" y="1413000"/>
            <a:ext cx="396108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вывода о расколе мира на два лаге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4643280" y="2349360"/>
            <a:ext cx="396108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ние мира целостны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делим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4643280" y="4222800"/>
            <a:ext cx="3961080" cy="1058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силовых методов разрешения 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643280" y="5375160"/>
            <a:ext cx="3961080" cy="1059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аз от принципов пролетарского интерн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755640" y="333360"/>
            <a:ext cx="33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октрина Брежнев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539640" y="1413000"/>
            <a:ext cx="3961080" cy="1800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полярный мир, возможность мирного сосуществования дву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539640" y="4222800"/>
            <a:ext cx="3961080" cy="105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рименения силы для разрешения 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539640" y="5375160"/>
            <a:ext cx="3961080" cy="1059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стран, выбравших социалистический путь развит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инансовая и вое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1"/>
          <p:cNvSpPr/>
          <p:nvPr/>
        </p:nvSpPr>
        <p:spPr>
          <a:xfrm>
            <a:off x="539640" y="3284640"/>
            <a:ext cx="3961080" cy="863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 военного паритета, возможность применения ядерного оружия в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4643280" y="3284640"/>
            <a:ext cx="396108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оружение, признание невозможности решения политических задач с применением ядерного оруж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44:43Z</dcterms:created>
  <dc:creator>Важенин Сергей Валерьевич</dc:creator>
  <dc:description/>
  <dc:language>en-US</dc:language>
  <cp:lastModifiedBy>Козаченко Елена Владимировна</cp:lastModifiedBy>
  <dcterms:modified xsi:type="dcterms:W3CDTF">2020-04-03T16:13:20Z</dcterms:modified>
  <cp:revision>51</cp:revision>
  <dc:subject>Внешняя политика СССР</dc:subject>
  <dc:title>ДИАЛЕКТИКА «НОВОГО МЫШЛЕНИЯ»</dc:title>
</cp:coreProperties>
</file>