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632-F3A7-4183-8F1B-3A38282E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573-8976-4ECF-B252-28021B9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4CE-AD84-48A3-81C3-C1A6A230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BAB-DE73-4849-9DA6-804FA1F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79A-43AC-4EAF-B79F-8CA918CD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477-AB42-468A-8145-BEBD7FB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E7A-A6FE-4713-A428-C048EEC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D80-89CA-4C19-A2E0-CF9B9E3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D29-350E-4D7D-B815-3E8FA5C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0EA-2619-4F0C-A1E0-CE66137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0FE-637A-4357-A90B-4786239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EAA-1D74-42C8-9867-5925DA4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5F4-ECDD-44A3-A4DA-EBCFB7592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ОГЭ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туристов из Японии хочет своими глазами увидеть лежбище морских котиков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Ростов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Алтай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Теберди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Командо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ам-географам для проведения исследований нужно посетить самый первый на территории России заповедник, образованный в 1916 году с целью сохранения и восстановления численности соболя. Какой из перечисленных заповедников для этого им необходимо посетит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Кандалакш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Баргуз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Таймыр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Астраха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1571760" y="550080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школьников из Мурманска хочет своими глазами увидеть необычную для них природу степей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Кандалакш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Ростов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Коряк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Баргузи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Ярославля занимается изучением экосистем рек. Какой из перечисленных заповедников для этого им необходимо посетить для изучения экосистемы устья одной из крупных рек Сибир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Усть-Ле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Шо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Гыда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Воронеж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1643040" y="557208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естественно-географического факультета изучают уникальные вулканические ландшафты и гейзеры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Баргузи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Ростов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Кроноц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Гыда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-биологи должны исследовать места произрастания различных видов древесных и кустарниковых пород, среди которых: сосна крючковатая, пихта кавказская, ель восточная, клен высокогорный, граб кавказский, бук восточный, а также места обитания таких уникальных видов как тур и зубр. Какой из перечисленных заповедников для этого им необходимо посет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Воронеж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Гыда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Рост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Теберд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571760" y="550080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-биологи должны исследовать места обитания популяций овцебыков, белых медведей, некоторых видов птиц. 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Остров Вранге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Беринг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Командо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Тунгус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Ростова-на-Дону занимается изучением природы таежной зоны, где животный и растительный мир представлен европейскими и азиатскими видами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ечоро-Илыч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Командо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оронеж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Большой Арктиче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1643040" y="550080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туристов из Финляндии хочет своими глазами увидеть необычную для них природу русских степей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 «Зов Тигра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«Остров Врангеля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 Оренбург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  Костомукш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туристов из Японии хочет своими глазами увидеть лежбище морских котиков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Алтай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Ростов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Тебердин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Командо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64304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285480"/>
            <a:ext cx="8472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естественно-географического факультета изучают уникальные экосистемы ненарушенной тайги. Какой из перечисленных заповедников им следует посет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ренбург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ронеж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ыда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ерхне-Таз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428840" y="557208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школьников из Мурманска хочет своими глазами увидеть необычайную красоту цветущего рододендрона на склонах гор. Какой из перечисленных заповедников для этого им необходимо посети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Кавказ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нец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Мордов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Башки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1643040" y="550080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56760" y="428760"/>
            <a:ext cx="85726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Волгограда занимается изучением природы таёжной зоны. Какой из перечисленных заповедников им необходимо посетить для проведения исследовательской работы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Печоро-Илычск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Дагестанск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Большой Арктическ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Оренбургски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643040" y="557208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Санкт-Петербурга для прохождения учебной геологической практики планирует посетить один из наиболее известных не только в России, но и во всём мире заповедников, на территории которого можно найти около 200 видов минералов. Его называют «музеем в природе». Какой из перечисленных заповедников они собрались посет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льменск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ыданск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ронежск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ренбургск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1857240" y="550080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Екатеринбурга занимается изучением равнинных и горных тундровых экосистем. Какой из перечисленных заповедников им необходимо посетить для проведения исследовательской работ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айкаль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к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лжско-Кам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аймыр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571760" y="492912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Астрахани занимается изучением малонарушенных горных экосистем, а также редких видов фауны – амурского тигра и пятнистого оленя. Какой из перечисленных биосферных заповедников им необходимо посетить для проведения исследовательской работы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ихотэ-А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Лапланд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к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ренбург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571760" y="557208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Москвы хочет своими глазами увидеть лежбища морских млекопитающих и птичьи базары, а также посмотреть на уникальные вулканические ландшафты. Какой из перечисленных заповедников для этого им необходимо посетит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оноц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унгус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ндалакш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чоро-Илыч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50012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Москвы проводит исследования ненарушенных северо-таёжных ландшафтов и прибрежных экосистем одного из морей, омывающих территорию России. Какой из перечисленных заповедников им необходимо для этого посетит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агада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унгус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стров Вранг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вказ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1500120" y="5214960"/>
            <a:ext cx="57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тудентов из Екатеринбурга занимается изучением равнинных и горных тундровых экосистем. Какой из перечисленных заповедников им необходимо посетить для проведения исследовательской работы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Байкаль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Таймыр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олжско-Кам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Окск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643040" y="5643720"/>
            <a:ext cx="571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11:06:51Z</dcterms:created>
  <dc:creator>admin</dc:creator>
  <dc:description/>
  <dc:language>en-US</dc:language>
  <cp:lastModifiedBy>admin</cp:lastModifiedBy>
  <dcterms:modified xsi:type="dcterms:W3CDTF">2020-04-03T11:47:13Z</dcterms:modified>
  <cp:revision>5</cp:revision>
  <dc:subject/>
  <dc:title>Подготовка к ОГЭ</dc:title>
</cp:coreProperties>
</file>