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120-F80D-4B98-A4DB-84B560F6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6E0-8CB3-42AE-9F07-6BD19F7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C25-2988-4814-AB55-B956F7A0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6FE-178D-468E-9BD7-CD1904BB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98E-9C14-41BB-B170-1BA1E6CB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F91-BE82-48A0-A4E1-1655C7F3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355-C93F-47D2-9B5A-517CC3C6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AB3-116D-4C0A-BCAF-6EAF8362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523-D11B-4860-8BB8-381065BC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DD5-992E-4685-8327-19260FA1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0E7-C95E-4720-9CB5-BE8E901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4BA-B788-458F-8804-E64125BF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4F6C-B520-4676-99B5-271DC28F4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чинение по картине  Фёдора Павловича Решетни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85264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06 – 198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1263600" y="3429000"/>
            <a:ext cx="687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«Опять двойк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131112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artclassic.edu.ru/attach.asp?a_no=9892"/>
          <p:cNvPicPr/>
          <p:nvPr/>
        </p:nvPicPr>
        <p:blipFill>
          <a:blip r:embed="rId1"/>
          <a:stretch/>
        </p:blipFill>
        <p:spPr>
          <a:xfrm>
            <a:off x="1547640" y="189000"/>
            <a:ext cx="5700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artclassic.edu.ru/attach.asp?a_no=9892"/>
          <p:cNvPicPr/>
          <p:nvPr/>
        </p:nvPicPr>
        <p:blipFill>
          <a:blip r:embed="rId1"/>
          <a:stretch/>
        </p:blipFill>
        <p:spPr>
          <a:xfrm>
            <a:off x="179280" y="260280"/>
            <a:ext cx="3706920" cy="4149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09840" y="260280"/>
            <a:ext cx="36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происходит собы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бражённое на карт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261320" y="974880"/>
            <a:ext cx="40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В квартире, дома у мальчика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112280" y="1479600"/>
            <a:ext cx="49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е время происходит дей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наше 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043880" y="2421000"/>
            <a:ext cx="51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вещи, изображённые на кар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ают определить 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263480" y="3279600"/>
            <a:ext cx="296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Школьная фор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пионерский галсту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067280" y="4365720"/>
            <a:ext cx="4248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 момент изобразил художник на карт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46960" y="46530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вы так реш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48400" y="5300640"/>
            <a:ext cx="28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числите геро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064760" y="5300640"/>
            <a:ext cx="325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мальчик двоеч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мама, старшая сест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младший бр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соба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artclassic.edu.ru/attach.asp?a_no=9892"/>
          <p:cNvPicPr/>
          <p:nvPr/>
        </p:nvPicPr>
        <p:blipFill>
          <a:blip r:embed="rId1"/>
          <a:stretch/>
        </p:blipFill>
        <p:spPr>
          <a:xfrm>
            <a:off x="539640" y="189000"/>
            <a:ext cx="2365560" cy="2647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3844800" y="476280"/>
            <a:ext cx="417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главный герой карт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увства испытывает 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3924360" y="1197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Мальчик шк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845160" y="177336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увства выражают геро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ы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3"/>
          <p:cNvSpPr/>
          <p:nvPr/>
        </p:nvSpPr>
        <p:spPr>
          <a:xfrm>
            <a:off x="468360" y="3213000"/>
            <a:ext cx="8136000" cy="316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9"/>
          <p:cNvSpPr/>
          <p:nvPr/>
        </p:nvSpPr>
        <p:spPr>
          <a:xfrm>
            <a:off x="3060360" y="263520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м характеристики геро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0"/>
          <p:cNvSpPr/>
          <p:nvPr/>
        </p:nvSpPr>
        <p:spPr>
          <a:xfrm>
            <a:off x="2916360" y="3213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2"/>
          <p:cNvSpPr/>
          <p:nvPr/>
        </p:nvSpPr>
        <p:spPr>
          <a:xfrm>
            <a:off x="468360" y="321300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ьч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чивший двой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3"/>
          <p:cNvSpPr/>
          <p:nvPr/>
        </p:nvSpPr>
        <p:spPr>
          <a:xfrm>
            <a:off x="2910960" y="3259080"/>
            <a:ext cx="528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рустный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ячет глаза, вино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тов заплак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пущена голова,   растрёп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ортфель перевязан верёв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тался на коньках, торчат из портф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расные щёки, долго гулял 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39640" y="260280"/>
            <a:ext cx="8136000" cy="64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8764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11640" y="37944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а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7680" y="307800"/>
            <a:ext cx="350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била хозя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росилась к не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таралась лизнуть в 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1280" y="15318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130560" y="1603440"/>
            <a:ext cx="32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ечальная, жалко сы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умает о его учё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11640" y="26370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1320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198960" y="2565360"/>
            <a:ext cx="31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ионер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мотрит с удивлени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суждает и жал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83280" y="383544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ладший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197160" y="3908520"/>
            <a:ext cx="458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алыш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тался по комна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становился около ма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 знает, радоваться или грус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826920" y="260280"/>
            <a:ext cx="727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 сочинен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1200" y="1452600"/>
            <a:ext cx="823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упление. Где происходит событ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первым встретил мальч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отреагировали родные на его отмет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мысли и чувства возникли у в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вы рассматривали эту карт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8:10:54Z</dcterms:created>
  <dc:creator>user</dc:creator>
  <dc:description/>
  <dc:language>en-US</dc:language>
  <cp:lastModifiedBy>uzer</cp:lastModifiedBy>
  <dcterms:modified xsi:type="dcterms:W3CDTF">2014-11-26T13:53:56Z</dcterms:modified>
  <cp:revision>6</cp:revision>
  <dc:subject/>
  <dc:title>Сочинение по картине  Фёдора Павловича Решетникова</dc:title>
</cp:coreProperties>
</file>