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2FD-4FB5-4783-AF63-B3894D97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A52-CB4C-41C8-A3CA-9637B88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5EF-413B-45AA-93C5-1490332A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386-00C0-44F1-B24B-71779AD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D4C-560A-48FD-876B-D04FB2E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972-A9F9-4D26-9142-38AEAB5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FD2-57D2-4C5D-987E-FF25EA9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9A7-9EA9-4D40-BB5E-0E78D2B7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6E4-DD98-4BF8-8A9B-90E08FA1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B89-0BEE-413A-AA93-F641319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5B2-AC31-487C-96BA-95D66EB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74D-7F0D-4F5C-9814-F1195D9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496-C1C4-4DEB-A365-9123FCCDC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чинение по картине  Фёдора Павловича Решетни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852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6 – 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263600" y="3429000"/>
            <a:ext cx="687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Опять двой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1311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1547640" y="189000"/>
            <a:ext cx="5700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179280" y="260280"/>
            <a:ext cx="3706920" cy="4149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09840" y="260280"/>
            <a:ext cx="36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сходит собы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бражённое на карт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261320" y="97488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В квартире, дома у мальчика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112280" y="1479600"/>
            <a:ext cx="49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е время происходит дей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ш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043880" y="242100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вещи, изображённые на кар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ют определить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63480" y="3279600"/>
            <a:ext cx="296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Школьная фор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ионерский галст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067280" y="4365720"/>
            <a:ext cx="424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момент изобразил художник на карт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46960" y="46530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вы так реш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48400" y="5300640"/>
            <a:ext cx="28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те геро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064760" y="5300640"/>
            <a:ext cx="325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льчик двоеч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ма, старшая сест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ладший бр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соб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artclassic.edu.ru/attach.asp?a_no=9892"/>
          <p:cNvPicPr/>
          <p:nvPr/>
        </p:nvPicPr>
        <p:blipFill>
          <a:blip r:embed="rId1"/>
          <a:stretch/>
        </p:blipFill>
        <p:spPr>
          <a:xfrm>
            <a:off x="539640" y="189000"/>
            <a:ext cx="2365560" cy="2647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844800" y="476280"/>
            <a:ext cx="41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главный герой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увства испытывает 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924360" y="119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Мальчик 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845160" y="177336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увства выражают гер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ы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3"/>
          <p:cNvSpPr/>
          <p:nvPr/>
        </p:nvSpPr>
        <p:spPr>
          <a:xfrm>
            <a:off x="468360" y="3213000"/>
            <a:ext cx="8136000" cy="316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9"/>
          <p:cNvSpPr/>
          <p:nvPr/>
        </p:nvSpPr>
        <p:spPr>
          <a:xfrm>
            <a:off x="3060360" y="26352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м характеристики геро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0"/>
          <p:cNvSpPr/>
          <p:nvPr/>
        </p:nvSpPr>
        <p:spPr>
          <a:xfrm>
            <a:off x="2916360" y="3213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2"/>
          <p:cNvSpPr/>
          <p:nvPr/>
        </p:nvSpPr>
        <p:spPr>
          <a:xfrm>
            <a:off x="468360" y="32130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ьч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ивший двой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3"/>
          <p:cNvSpPr/>
          <p:nvPr/>
        </p:nvSpPr>
        <p:spPr>
          <a:xfrm>
            <a:off x="2910960" y="3259080"/>
            <a:ext cx="528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рустны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ячет глаза, вино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тов запла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пущена голова,   растрёп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ртфель перевязан верёв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тался на коньках, торчат из портф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расные щёки, долго гулял 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9640" y="260280"/>
            <a:ext cx="813600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87640" y="26028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11640" y="37944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7680" y="307800"/>
            <a:ext cx="350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Любила хозя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росилась к не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таралась лизнуть в ли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1280" y="15318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130560" y="1603440"/>
            <a:ext cx="32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ечальная, жалко сы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умает о его учё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11640" y="2637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1320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198960" y="256536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ионер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мотрит с удивлени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уждает и жал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3280" y="383544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ладший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197160" y="3908520"/>
            <a:ext cx="458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алыш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тался по комна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тановился около ма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 знает, радоваться или грус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826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сочин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1200" y="1452600"/>
            <a:ext cx="823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. Где происходит событ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первым встретил мальч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треагировали родные на его отмет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мысли и чувства возникли у в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ы рассматривали эту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10:54Z</dcterms:created>
  <dc:creator>user</dc:creator>
  <dc:description/>
  <dc:language>en-US</dc:language>
  <cp:lastModifiedBy>uzer</cp:lastModifiedBy>
  <dcterms:modified xsi:type="dcterms:W3CDTF">2014-11-26T13:53:56Z</dcterms:modified>
  <cp:revision>6</cp:revision>
  <dc:subject/>
  <dc:title>Сочинение по картине  Фёдора Павловича Решетникова</dc:title>
</cp:coreProperties>
</file>