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C8B-BAD8-4068-A204-780287A802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5896-FCBF-41E5-894C-B99F967F18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32F-5CDE-43D1-8E22-77DBCE7358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814-2824-44C0-AC3B-AC1F15F6E4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DE08-9724-465C-96E8-A865AF2485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7C1-7429-40EA-8B72-EECFCAE4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674-29FA-4930-9580-4933E22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D6E-E671-4AE0-9153-42C583FC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2C3-C23F-446F-8CE1-71E56FEF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2A85-A4D6-4AD2-9AAE-B7EDAA16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F090-B0C5-4637-8532-4450355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4E4-1240-4C0A-8657-8EBF251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5329-582A-4030-976D-730DB4C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0D8C-41D3-4D7F-A304-D9B5D7FE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9B1-5F0E-4471-AB4C-2FD1B4E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6835-88F1-40D5-85C5-4B409AE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B29-B5F8-415C-A63F-034D59A9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31F9-8D67-4A2B-9E57-5B6534D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5AA-297D-402E-A1DB-0C5B676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D82E-7DF4-4CD7-B05E-398207D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8AB6-7320-4120-AAD4-DCE14874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F57B-588F-4713-A73A-315990C9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D56-6A2E-4D99-9705-7AABFE9C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AE1-2D5C-4621-BA90-0C74915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0B9-E1B6-4FCC-AEC8-1D31DBCC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490-1400-4F5C-9798-50DFCF8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265-B272-43BD-B598-DC7D541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82B-C068-4929-992E-C10D035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9B2-F4E1-488B-969B-6EE2C6C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25B2-C99E-4181-B395-23080F43B10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E242-E52A-4D16-9D27-2BB9322EB5D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saharina.ru/tests/test.php?name=test496.x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Основные виды тропов, их использование</a:t>
            </a:r>
            <a:br>
              <a:rPr sz="4400"/>
            </a:b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мастерами художественного сл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Тренин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24000" y="620640"/>
            <a:ext cx="9468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Определите , какая синтаксическая фигура использована в данном текс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В  лучах утреннего солнца загораются капли росы. Можно , конечно, с тщательностью выписать, как одни капли мерцают глубокой зеленью, другие –чисто кровавого цвета, третьи- матово светятся изнутри. Можно написать ,как это разноцветное горение сочетается с синевой, желтизной, розоватостью  луговых цветов .Можно вспомнить ,как яркий темный след остается, если пройти по седому росному лугу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2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ллелизм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развернутое сопоставление двух явлений, данное в сходных синтаксических конструкциях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–как трава расстилаю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– слезами умываю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.А.Некр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102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верс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необычный порядок слов в предложении, придающий фразе новый выразительный оттенок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Не глядя на нег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суровая, ничего не прощающ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подава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он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ему воду мол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ямой порядок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. Суровая, ничего не прощающая ,он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подавал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ему воду молча, не глядя на нег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даци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–расположение слов и выражений по возрастающей или убывающей значим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грани чувств ,все грани правд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ерты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в мирах,  в годах , в час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.Бел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ная жизнь русской классики в школе –это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услов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уществования нашего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народ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нашего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государства;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вопрос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циональной безопасности.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Непомнящий   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66ff66"/>
                </a:solidFill>
                <a:latin typeface="Verdana"/>
              </a:rPr>
              <a:t>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иод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-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это способ оформления сложного предложения, который соединяет в себе анафору и синтаксический параллелизм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Когда я дума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 судьбе русской литературы, </a:t>
            </a: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когда я вспомина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тот ратный подвиг ,который совершила она, </a:t>
            </a: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когда я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66ffff"/>
                </a:solidFill>
                <a:uFillTx/>
                <a:latin typeface="Verdana"/>
              </a:rPr>
              <a:t>понимаю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 что она живет в душе каждого человека в любые времена –тогда я соглашаюсь : да, литература – это наша национальная горд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иторический вопрос и риторическое восклицание-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станавливают активное взаимодействие со слушателем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ремена ! О нравы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ое культура ,зачем она нужна ? Что такое культура как система ценностей ? Какова цель того гуманитарного образования, которое всегда было у нас в традиции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250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рцелляция- </a:t>
            </a:r>
            <a:r>
              <a:rPr b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членение предложения, при котором какая-то его часть отделяется от основной части, чтобы подчеркнуть, усилить значение отделенной части /парцеллята /</a:t>
            </a:r>
            <a:r>
              <a:rPr b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Этим летом я увидел мор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Впервые в жизни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/Этим летом я </a:t>
            </a: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впервые в жизни </a:t>
            </a:r>
            <a:r>
              <a:rPr b="0" lang="ru-RU" sz="2800" spc="-1" strike="noStrike">
                <a:solidFill>
                  <a:srgbClr val="66ffff"/>
                </a:solidFill>
                <a:latin typeface="Verdana"/>
              </a:rPr>
              <a:t>увидел море /.</a:t>
            </a:r>
            <a:r>
              <a:rPr b="0" lang="ru-RU" sz="28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Тренинг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Определите , какие синтаксические фигуры использованы в тексте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unga"/>
              </a:rPr>
              <a:t>Выросла рябинка при дороге. Она выросла случайно . Незаконно.  Просто пристроилась у дощатого забора. Хороша была рябинка , когда гроздья смеялись навстречу солнцу, и после дождя ,когда каждая ягода дрожала в капле воды , когда ветки застенчиво протягивали свои добрые  длинные листья , склеенные ,как пальцы после рукопожат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Повторить материал по тем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s://saharina.ru/tests/test.php?name=test496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Arial"/>
              </a:rPr>
              <a:t>Цель урока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Систематизировать сведения об основных видах тропов и их использовании в художественных текстах /синтаксические фигуры языка/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Закрепить навык анализа художественного текста/ на материале заданий ЕГЭ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/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ffff"/>
                </a:solidFill>
                <a:uFillTx/>
                <a:latin typeface="Verdana"/>
              </a:rPr>
              <a:t>В каком ряду во всех словах пропущена одна и та же буква</a:t>
            </a:r>
            <a:r>
              <a:rPr b="0" lang="ru-RU" sz="2400" spc="-1" strike="noStrike">
                <a:solidFill>
                  <a:srgbClr val="66ffff"/>
                </a:solidFill>
                <a:latin typeface="Verdana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г…рмония, н…стальгия, разоч…ровани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чес…ный ,свис…нул ,прелес…ный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патри…тический, ж…ланный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оск…рбленный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расст…лить ,изм…нение ,соб…р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Arial"/>
              </a:rPr>
              <a:t>Основная особенность художественной речи -создание художественного образа, что достигается использованием художественно-выразительных средств языка / тропов/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хема 2" descr=""/>
          <p:cNvPicPr/>
          <p:nvPr/>
        </p:nvPicPr>
        <p:blipFill>
          <a:blip r:embed="rId1"/>
          <a:stretch/>
        </p:blipFill>
        <p:spPr>
          <a:xfrm>
            <a:off x="-96840" y="-6480"/>
            <a:ext cx="9350280" cy="687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ffff"/>
                </a:solidFill>
                <a:uFillTx/>
                <a:latin typeface="Arial"/>
              </a:rPr>
              <a:t>Синтаксические фигур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тор</a:t>
            </a:r>
            <a:r>
              <a:rPr b="0" lang="ru-RU" sz="2400" spc="-1" strike="noStrike">
                <a:solidFill>
                  <a:srgbClr val="66ffff"/>
                </a:solidFill>
                <a:latin typeface="Verdana"/>
              </a:rPr>
              <a:t> – </a:t>
            </a: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основная разновидность фигур прибавл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ексический повто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66ffff"/>
                </a:solidFill>
                <a:latin typeface="Verdana"/>
              </a:rPr>
              <a:t>-повторение одного и того же слов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ие горы Кавказа, приветствую вас!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вы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лелеяли детство мое ;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вы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сили меня на своих одичалых хребтах,  облаками меня одевали,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вы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меня приучили , и я с той поры все мечтаю об вас да о небе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рфемный повтор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повторение окончаний ,суффиксов ,приставок, корней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ак же Пушкин ? Как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епоправим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бессмыслен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ель!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епоправим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но не бессмыслен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Да , «невольник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че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 но ведь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че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Все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осталь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м не нуж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все </a:t>
            </a:r>
            <a:r>
              <a:rPr b="0" lang="ru-RU" sz="3200" spc="-1" strike="noStrike">
                <a:solidFill>
                  <a:srgbClr val="66ff66"/>
                </a:solidFill>
                <a:latin typeface="Verdana"/>
              </a:rPr>
              <a:t>остальное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жн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афора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 – </a:t>
            </a:r>
            <a:r>
              <a:rPr b="1" lang="ru-RU" sz="3200" spc="-1" strike="noStrike">
                <a:solidFill>
                  <a:srgbClr val="66ffff"/>
                </a:solidFill>
                <a:latin typeface="Verdana"/>
              </a:rPr>
              <a:t>повтор слов или словосочетаний в начале стихотворной строки или в рядом стоящих прозаических фразах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Как н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тет рука судьбин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Как н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ит людей обман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Как ни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здят чело морщины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.И.Тютче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пифора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вторение слов или словосочетаний в конце стро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пям и дорога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нчен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сче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ням и порога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ен </a:t>
            </a:r>
            <a:r>
              <a:rPr b="0" lang="ru-RU" sz="3200" spc="-1" strike="noStrike">
                <a:solidFill>
                  <a:srgbClr val="66ffff"/>
                </a:solidFill>
                <a:latin typeface="Verdana"/>
              </a:rPr>
              <a:t>сче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.Багриц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8:36:08Z</dcterms:created>
  <dc:creator>Admin</dc:creator>
  <dc:description/>
  <dc:language>en-US</dc:language>
  <cp:lastModifiedBy>Admin</cp:lastModifiedBy>
  <dcterms:modified xsi:type="dcterms:W3CDTF">2020-04-03T09:49:46Z</dcterms:modified>
  <cp:revision>28</cp:revision>
  <dc:subject/>
  <dc:title>Слайд 1</dc:title>
</cp:coreProperties>
</file>