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567F-33D3-40D0-A890-566143DE7B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B211-B4B9-42C5-B5F6-E731FCDE06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3A55-A979-433E-BF1B-6216654412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E0BF-7E1C-4925-9E8F-286999F137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288-5CB4-4008-A864-CC9C4F9880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FCB-C05E-4BF9-9BC9-A79AD5BB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73F-3D2F-41CA-91AF-708C958F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84D-6F2A-420D-81A3-BF59409C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179-B692-4942-81D0-F334C01F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4CB6-8122-4648-9E00-F8D52417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451C-13EA-4243-993F-1051810E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3AE9-A91E-403B-ACBB-726A6382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C063-96F6-4653-8BA5-8210BBEA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5EBC-4B40-48A4-A83E-2FF2FEF3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2D11-121B-413D-8101-5DE29F27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0AF1-616B-4C04-B557-3D40D6B6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86E-3BF1-40D6-9C92-5E0F84D5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99E5-9FDC-4480-AE49-264F049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469E-3D17-446A-BDBF-F58671B1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68E1-A806-4A13-AC52-274A1BBD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395B-0DA6-43F4-A2F1-AB94AB9E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E749-64A3-4661-9B70-3D80EE92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D2B-4712-4AFE-9973-B0364E71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44D-8268-4D86-A3BD-7EBEF1D5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FB4-1B6D-44B8-9938-FAAFD4AD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725-AE00-4DF3-ABE3-55C9F919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EE5-C41E-433F-ACFA-0777CF7B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4C0-9229-4681-9170-BA9896E7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6A7-5FEE-4447-94C3-6CD0DD18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5110-9906-4BDD-BFF2-DD75F9B4154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F970-090B-4494-9A5F-8C497388C2A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saharina.ru/tests/test.php?name=test496.x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Arial"/>
              </a:rPr>
              <a:t>Основные виды тропов, их использование</a:t>
            </a:r>
            <a:br>
              <a:rPr sz="4400"/>
            </a:br>
            <a:r>
              <a:rPr b="1" i="1" lang="ru-RU" sz="4400" spc="-1" strike="noStrike">
                <a:solidFill>
                  <a:srgbClr val="66ffff"/>
                </a:solidFill>
                <a:latin typeface="Arial"/>
              </a:rPr>
              <a:t>мастерами художественного сло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Тренин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24000" y="620640"/>
            <a:ext cx="9468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Определите , какая синтаксическая фигура использована в данном текс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В  лучах утреннего солнца загораются капли росы. Можно , конечно, с тщательностью выписать, как одни капли мерцают глубокой зеленью, другие –чисто кровавого цвета, третьи- матово светятся изнутри. Можно написать ,как это разноцветное горение сочетается с синевой, желтизной, розоватостью  луговых цветов .Можно вспомнить ,как яркий темный след остается, если пройти по седому росному лугу…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22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ллелизм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развернутое сопоставление двух явлений, данное в сходных синтаксических конструкциях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–как трава расстилаю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– слезами умываю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.А.Некр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102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102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102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102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верс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необычный порядок слов в предложении, придающий фразе новый выразительный оттенок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Не глядя на нег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суровая, ничего не прощающа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подавал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он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ему воду мол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рямой порядок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. Суровая, ничего не прощающая ,он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подавал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ему воду молча, не глядя на нег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радаци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–расположение слов и выражений по возрастающей или убывающей значим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грани чувств ,все грани правд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ерты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в мирах,  в годах , в часа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.Белы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ная жизнь русской классики в школе –это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услови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уществования нашего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народ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нашего</a:t>
            </a:r>
            <a:r>
              <a:rPr b="0" lang="ru-RU" sz="28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государства;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о</a:t>
            </a: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вопрос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циональной безопасности.</a:t>
            </a: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.Непомнящий   </a:t>
            </a: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66ff66"/>
                </a:solidFill>
                <a:latin typeface="Verdana"/>
              </a:rPr>
              <a:t>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иод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 -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это способ оформления сложного предложения, который соединяет в себе анафору и синтаксический параллелизм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ff"/>
                </a:solidFill>
                <a:uFillTx/>
                <a:latin typeface="Verdana"/>
              </a:rPr>
              <a:t>Когда я думаю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 судьбе русской литературы, </a:t>
            </a:r>
            <a:r>
              <a:rPr b="0" lang="ru-RU" sz="3200" spc="-1" strike="noStrike" u="sng">
                <a:solidFill>
                  <a:srgbClr val="66ffff"/>
                </a:solidFill>
                <a:uFillTx/>
                <a:latin typeface="Verdana"/>
              </a:rPr>
              <a:t>когда я вспоминаю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тот ратный подвиг ,который совершила она, </a:t>
            </a:r>
            <a:r>
              <a:rPr b="0" lang="ru-RU" sz="3200" spc="-1" strike="noStrike" u="sng">
                <a:solidFill>
                  <a:srgbClr val="66ffff"/>
                </a:solidFill>
                <a:uFillTx/>
                <a:latin typeface="Verdana"/>
              </a:rPr>
              <a:t>когда я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 </a:t>
            </a:r>
            <a:r>
              <a:rPr b="0" lang="ru-RU" sz="3200" spc="-1" strike="noStrike" u="sng">
                <a:solidFill>
                  <a:srgbClr val="66ffff"/>
                </a:solidFill>
                <a:uFillTx/>
                <a:latin typeface="Verdana"/>
              </a:rPr>
              <a:t>понимаю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 что она живет в душе каждого человека в любые времена –тогда я соглашаюсь : да, литература – это наша национальная горд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19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иторический вопрос и риторическое восклицание-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устанавливают активное взаимодействие со слушателем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ремена ! О нравы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кое культура ,зачем она нужна ? Что такое культура как система ценностей ? Какова цель того гуманитарного образования, которое всегда было у нас в традиции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18440" cy="250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арцелляция- </a:t>
            </a:r>
            <a:r>
              <a:rPr b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членение предложения, при котором какая-то его часть отделяется от основной части, чтобы подчеркнуть, усилить значение отделенной части /парцеллята /</a:t>
            </a:r>
            <a:r>
              <a:rPr b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Этим летом я увидел мор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Впервые в жизни</a:t>
            </a: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/Этим летом я </a:t>
            </a: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впервые в жизни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увидел море /.</a:t>
            </a:r>
            <a:r>
              <a:rPr b="0" lang="ru-RU" sz="28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Тренинг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Verdana"/>
              </a:rPr>
              <a:t>Определите , какие синтаксические фигуры использованы в тексте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unga"/>
              </a:rPr>
              <a:t>Выросла рябинка при дороге. Она выросла случайно . Незаконно.  Просто пристроилась у дощатого забора. Хороша была рябинка , когда гроздья смеялись навстречу солнцу, и после дождя ,когда каждая ягода дрожала в капле воды , когда ветки застенчиво протягивали свои добрые  длинные листья , склеенные ,как пальцы после рукопожат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Повторить материал по тем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s://saharina.ru/tests/test.php?name=test496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Arial"/>
              </a:rPr>
              <a:t>Цель урока</a:t>
            </a: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Систематизировать сведения об основных видах тропов и их использовании в художественных текстах /синтаксические фигуры языка/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Закрепить навык анализа художественного текста/ на материале заданий ЕГЭ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/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Arial"/>
              </a:rPr>
              <a:t>Орфографическ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ffff"/>
                </a:solidFill>
                <a:uFillTx/>
                <a:latin typeface="Verdana"/>
              </a:rPr>
              <a:t>В каком ряду во всех словах пропущена одна и та же буква</a:t>
            </a:r>
            <a:r>
              <a:rPr b="0" lang="ru-RU" sz="2400" spc="-1" strike="noStrike">
                <a:solidFill>
                  <a:srgbClr val="66ffff"/>
                </a:solidFill>
                <a:latin typeface="Verdana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 г…рмония, н…стальгия, разоч…рование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 чес…ный ,свис…нул ,прелес…ный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патри…тический, ж…ланный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оск…рбленный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 расст…лить ,изм…нение ,соб…рать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24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Arial"/>
              </a:rPr>
              <a:t>Основная особенность художественной речи -создание художественного образа, что достигается использованием художественно-выразительных средств языка / тропов/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Схема 2" descr=""/>
          <p:cNvPicPr/>
          <p:nvPr/>
        </p:nvPicPr>
        <p:blipFill>
          <a:blip r:embed="rId1"/>
          <a:stretch/>
        </p:blipFill>
        <p:spPr>
          <a:xfrm>
            <a:off x="-96840" y="-6480"/>
            <a:ext cx="9350280" cy="6870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66ffff"/>
                </a:solidFill>
                <a:uFillTx/>
                <a:latin typeface="Arial"/>
              </a:rPr>
              <a:t>Синтаксические фигур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втор</a:t>
            </a:r>
            <a:r>
              <a:rPr b="0" lang="ru-RU" sz="2400" spc="-1" strike="noStrike">
                <a:solidFill>
                  <a:srgbClr val="66ffff"/>
                </a:solidFill>
                <a:latin typeface="Verdana"/>
              </a:rPr>
              <a:t> – </a:t>
            </a:r>
            <a:r>
              <a:rPr b="1" lang="ru-RU" sz="2400" spc="-1" strike="noStrike">
                <a:solidFill>
                  <a:srgbClr val="66ffff"/>
                </a:solidFill>
                <a:latin typeface="Verdana"/>
              </a:rPr>
              <a:t>основная разновидность фигур прибавл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ексический повто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66ffff"/>
                </a:solidFill>
                <a:latin typeface="Verdana"/>
              </a:rPr>
              <a:t>-повторение одного и того же слов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ие горы Кавказа, приветствую вас!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 вы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лелеяли детство мое ; 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вы</a:t>
            </a: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сили меня на своих одичалых хребтах,  облаками меня одевали, 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вы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меня приучили , и я с той поры все мечтаю об вас да о небе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рфемный повтор-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повторение окончаний ,суффиксов ,приставок, корней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ак же Пушкин ? Как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непоправим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бессмысленн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ая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ель!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епоправим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но не бессмысленн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Да , «невольник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чест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, но ведь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чест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Все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осталь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м не нужн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все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остальное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жн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Анафора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 – </a:t>
            </a:r>
            <a:r>
              <a:rPr b="1" lang="ru-RU" sz="3200" spc="-1" strike="noStrike">
                <a:solidFill>
                  <a:srgbClr val="66ffff"/>
                </a:solidFill>
                <a:latin typeface="Verdana"/>
              </a:rPr>
              <a:t>повтор слов или словосочетаний в начале стихотворной строки или в рядом стоящих прозаических фразах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Как ни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тет рука судьбин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Как ни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ит людей обман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Как ни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здят чело морщины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.И.Тютче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пифора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овторение слов или словосочетаний в конце стро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пям и дорога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ончен 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сче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ням и порога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ен 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сче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.Багриц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8:36:08Z</dcterms:created>
  <dc:creator>Admin</dc:creator>
  <dc:description/>
  <dc:language>en-US</dc:language>
  <cp:lastModifiedBy>Admin</cp:lastModifiedBy>
  <dcterms:modified xsi:type="dcterms:W3CDTF">2020-04-03T09:49:46Z</dcterms:modified>
  <cp:revision>28</cp:revision>
  <dc:subject/>
  <dc:title>Слайд 1</dc:title>
</cp:coreProperties>
</file>