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281C-B425-4D8E-B719-AB5F4580E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партамент образования города Мос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ое окружное Управл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ский сад № 2245 компенсирующего вида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ля детей с нарушением з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448A-1EBE-4723-B2FA-500B61ED3E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C2F8-DEEC-4A0B-8C71-93A3855E8D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857-619D-4580-A3AF-B8B367D8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3E6-573C-445C-AAE5-2A3401C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4C6-CA75-4D16-B547-AD24DCE6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8F1-0F1C-4C0A-A320-6FE451CF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ECD-4838-45B0-BA7F-23AF804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B68-CAC9-4771-8434-8B7E26B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19B-CBFE-4776-A207-DF768223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501-9EF9-4281-A8D7-2F23FC3B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8D8-55B8-437C-B555-989AFC6E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C15-AC71-408E-9EC7-A19EFD44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08F-96C8-4BC7-A995-15FC7F55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159-88AE-480E-92DC-76CB31F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CFF8-CD5D-4BB9-8618-E172873532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Рисунок1"/>
          <p:cNvPicPr/>
          <p:nvPr/>
        </p:nvPicPr>
        <p:blipFill>
          <a:blip r:embed="rId1"/>
          <a:stretch/>
        </p:blipFill>
        <p:spPr>
          <a:xfrm rot="1645200">
            <a:off x="7940520" y="401760"/>
            <a:ext cx="1233720" cy="1171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1643040" y="3071880"/>
            <a:ext cx="6429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250920" y="260280"/>
            <a:ext cx="8148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4"/>
                </a:solidFill>
                <a:latin typeface="Arial"/>
              </a:rPr>
              <a:t>Департамент труда и социальной защиты населения города Москв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4"/>
                </a:solidFill>
                <a:latin typeface="Arial"/>
              </a:rPr>
              <a:t>Государственное Образовательное Бюджетное Учреждение Троицкий Реабилитационно-образовательный Цен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4"/>
                </a:solidFill>
                <a:latin typeface="Arial"/>
              </a:rPr>
              <a:t>«Солнышко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95360" y="1938240"/>
            <a:ext cx="7937280" cy="20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«Особ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коррекционно-развивающей 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с детьми с ЗПР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098720" y="4451400"/>
            <a:ext cx="2592360" cy="172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219640" y="4854600"/>
            <a:ext cx="3456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Учитель-дефектоло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Т.Е. Максимен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3"/>
          <p:cNvSpPr/>
          <p:nvPr/>
        </p:nvSpPr>
        <p:spPr>
          <a:xfrm>
            <a:off x="113040" y="2017800"/>
            <a:ext cx="57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Большее количество пр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132120" y="2747880"/>
            <a:ext cx="690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Применять простые инстр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122760" y="3375000"/>
            <a:ext cx="55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Не переутомлять реб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132120" y="4000680"/>
            <a:ext cx="83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Проявлять интерес к личности реб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111240" y="4732200"/>
            <a:ext cx="56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Взаимодействие с семь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52440"/>
            <a:ext cx="8510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4"/>
                </a:solidFill>
                <a:latin typeface="Arial"/>
              </a:rPr>
              <a:t>Формула успеха при работе с детьми с ЗП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150120" y="1324080"/>
            <a:ext cx="91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4"/>
                </a:solidFill>
                <a:latin typeface="Arial"/>
              </a:rPr>
              <a:t>Общая коррекционная направленность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157320" y="537696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4"/>
                </a:solidFill>
                <a:latin typeface="Arial"/>
              </a:rPr>
              <a:t>Взаимодействие специалис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112680" y="5816520"/>
            <a:ext cx="889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4"/>
                </a:solidFill>
                <a:latin typeface="Arial"/>
              </a:rPr>
              <a:t>Создание ситуации успеха, которая формиру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4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4"/>
                </a:solidFill>
                <a:latin typeface="Arial"/>
              </a:rPr>
              <a:t>чувство    уверенности в се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6"/>
          <p:cNvSpPr/>
          <p:nvPr/>
        </p:nvSpPr>
        <p:spPr>
          <a:xfrm>
            <a:off x="1258920" y="2205000"/>
            <a:ext cx="671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4"/>
                </a:solidFill>
                <a:latin typeface="Arial"/>
              </a:rPr>
              <a:t>Благодар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64"/>
                </a:solidFill>
                <a:latin typeface="Arial"/>
              </a:rPr>
              <a:t>з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64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8" descr="Рисунок1"/>
          <p:cNvPicPr/>
          <p:nvPr/>
        </p:nvPicPr>
        <p:blipFill>
          <a:blip r:embed="rId1"/>
          <a:stretch/>
        </p:blipFill>
        <p:spPr>
          <a:xfrm rot="1645200">
            <a:off x="7031160" y="696600"/>
            <a:ext cx="15127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179280" y="523800"/>
            <a:ext cx="878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571840" y="142920"/>
            <a:ext cx="5832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468360" y="333360"/>
            <a:ext cx="835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Задержка психического развития - нарушение нормального темпа психического развития, когда отдельные психические функции отстают в своём развитии от принятых психологических норм для данного возраста. ЗПР как психолого-педагогический диагноз ставился только в дошкольном и младшем школьном возрасте, если к окончанию этого периода оставались признаки недоразвития психических функций, то говорили уже о </a:t>
            </a:r>
            <a:r>
              <a:rPr b="0" lang="ru-RU" sz="1800" spc="-1" strike="noStrike">
                <a:solidFill>
                  <a:srgbClr val="000064"/>
                </a:solidFill>
                <a:latin typeface="Arial"/>
              </a:rPr>
              <a:t>конституциональном инфантилизме или об умственной отсталости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3419640" y="3860640"/>
            <a:ext cx="24476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826920" y="189000"/>
            <a:ext cx="70567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4"/>
                </a:solidFill>
                <a:latin typeface="Arial"/>
              </a:rPr>
              <a:t>Причины ЗП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64000" y="1341360"/>
            <a:ext cx="33116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187280" y="1380960"/>
            <a:ext cx="69138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08000" y="189000"/>
            <a:ext cx="85899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4"/>
                </a:solidFill>
                <a:latin typeface="Times New Roman"/>
                <a:ea typeface="Times New Roman"/>
              </a:rPr>
              <a:t>Основные клинические типы ЗПР (Лебединская К.С., 198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95280" y="2022480"/>
            <a:ext cx="316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ЗПР конституционального происх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4000" y="4724280"/>
            <a:ext cx="2952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ЗП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соматогенного происх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219640" y="2022480"/>
            <a:ext cx="3549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ЗП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психогенного происх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932360" y="4724280"/>
            <a:ext cx="40323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ЗП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церебрально-органического гене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Рисунок 8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1989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61128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4"/>
                </a:solidFill>
                <a:latin typeface="Arial"/>
              </a:rPr>
              <a:t>Характерные особенности детей с ЗП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289080" y="17226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Снижение работоспособ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13"/>
          <p:cNvSpPr/>
          <p:nvPr/>
        </p:nvSpPr>
        <p:spPr>
          <a:xfrm>
            <a:off x="287280" y="2384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Неустойчивое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3"/>
          <p:cNvSpPr/>
          <p:nvPr/>
        </p:nvSpPr>
        <p:spPr>
          <a:xfrm>
            <a:off x="277920" y="304956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Недостаточность  произвольной памя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297000" y="37339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Отставания в развитии мыш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293760" y="43243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Бедный словарный запа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227160" y="55278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Нерелость эмоционально-волевой сф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13"/>
          <p:cNvSpPr/>
          <p:nvPr/>
        </p:nvSpPr>
        <p:spPr>
          <a:xfrm>
            <a:off x="287280" y="498636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Низкий уровень самоконтро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227160" y="608472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Ограниченный запас знаний и представлений об окружающем ми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79280" y="26028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Основные задачи коррекционно-развивающего обу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13"/>
          <p:cNvSpPr/>
          <p:nvPr/>
        </p:nvSpPr>
        <p:spPr>
          <a:xfrm>
            <a:off x="289080" y="17226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Активизация познаватель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204840" y="25066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Повышение уровня их умственного 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13"/>
          <p:cNvSpPr/>
          <p:nvPr/>
        </p:nvSpPr>
        <p:spPr>
          <a:xfrm>
            <a:off x="204840" y="32148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Нормализация учеб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13"/>
          <p:cNvSpPr/>
          <p:nvPr/>
        </p:nvSpPr>
        <p:spPr>
          <a:xfrm>
            <a:off x="204840" y="387504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Коррекция недостатков эмоционально-личностного 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179280" y="453564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Социально-трудовая адап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289080" y="511956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Адаптация и социализация детей среди сверстников и в общест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042920" y="333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4"/>
                </a:solidFill>
                <a:latin typeface="Arial"/>
              </a:rPr>
              <a:t>Принципы обучения детей с ЗП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5" descr=""/>
          <p:cNvPicPr/>
          <p:nvPr/>
        </p:nvPicPr>
        <p:blipFill>
          <a:blip r:embed="rId1"/>
          <a:stretch/>
        </p:blipFill>
        <p:spPr>
          <a:xfrm rot="1183200">
            <a:off x="7812000" y="2136240"/>
            <a:ext cx="1008000" cy="1441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3"/>
          <p:cNvSpPr/>
          <p:nvPr/>
        </p:nvSpPr>
        <p:spPr>
          <a:xfrm>
            <a:off x="289080" y="17226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Коррекционная направленность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289080" y="24732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Научность и доступность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13"/>
          <p:cNvSpPr/>
          <p:nvPr/>
        </p:nvSpPr>
        <p:spPr>
          <a:xfrm>
            <a:off x="293760" y="33606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Систематичность и коммуникативная направл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13"/>
          <p:cNvSpPr/>
          <p:nvPr/>
        </p:nvSpPr>
        <p:spPr>
          <a:xfrm>
            <a:off x="289080" y="39798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Связь обучения с жизн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289080" y="459756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Наглядность в обуч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309600" y="5284800"/>
            <a:ext cx="86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Индивидуальный и дифференцированный под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>
            <a:off x="611280" y="217440"/>
            <a:ext cx="76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4"/>
                </a:solidFill>
                <a:latin typeface="Arial"/>
              </a:rPr>
              <a:t>Программа обучения и воспитания дошкольников с ЗП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627360" cy="3629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3"/>
          <p:cNvSpPr/>
          <p:nvPr/>
        </p:nvSpPr>
        <p:spPr>
          <a:xfrm>
            <a:off x="2124000" y="544500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4"/>
                </a:solidFill>
                <a:latin typeface="Arial"/>
              </a:rPr>
              <a:t>Автор программы С.Г. Шевчен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4"/>
          <p:cNvSpPr/>
          <p:nvPr/>
        </p:nvSpPr>
        <p:spPr>
          <a:xfrm>
            <a:off x="0" y="22392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4"/>
                </a:solidFill>
                <a:latin typeface="Arial"/>
                <a:ea typeface="Times New Roman"/>
              </a:rPr>
              <a:t>Коррекционные технологии в работе с детьми с ЗП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306360" y="1722600"/>
            <a:ext cx="74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Здоровьесберегающие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5"/>
          <p:cNvSpPr/>
          <p:nvPr/>
        </p:nvSpPr>
        <p:spPr>
          <a:xfrm>
            <a:off x="324720" y="2705040"/>
            <a:ext cx="45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Игровые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16"/>
          <p:cNvSpPr/>
          <p:nvPr/>
        </p:nvSpPr>
        <p:spPr>
          <a:xfrm>
            <a:off x="268200" y="36892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Технология разноуровневого обу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8"/>
          <p:cNvSpPr/>
          <p:nvPr/>
        </p:nvSpPr>
        <p:spPr>
          <a:xfrm>
            <a:off x="272520" y="465300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4"/>
                </a:solidFill>
                <a:latin typeface="Arial"/>
              </a:rPr>
              <a:t>Информационные техн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10Z</dcterms:created>
  <dc:creator>Computer</dc:creator>
  <dc:description/>
  <dc:language>en-US</dc:language>
  <cp:lastModifiedBy>Hewlett-Packard Company</cp:lastModifiedBy>
  <dcterms:modified xsi:type="dcterms:W3CDTF">2020-04-03T13:28:35Z</dcterms:modified>
  <cp:revision>299</cp:revision>
  <dc:subject/>
  <dc:title>Слайд 1</dc:title>
</cp:coreProperties>
</file>