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1C3-B7BA-4F66-A066-1FD705A19A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C721-E302-4174-A2ED-0D1FD4417F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660-E130-4017-A64F-3BC2E3068A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BCE-7CC1-4F8D-A399-5CA01131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DD2-A32A-4DEF-AE5E-5C48182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C74-C543-41C6-995C-6DD669E0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996-E1B0-4045-A206-4C59E635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4ED-4012-4BBF-BD4D-FB9FC91A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970C-8054-4FA6-8DB5-2418246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21B-0770-4C1F-9CF8-AEF43DC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50F-4ECD-492C-B5B8-60CAC9F5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AF6E-8240-43F8-AA8C-C8179CCD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966-9929-448D-8543-812DB1C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2021-25E3-45E6-93A8-57B4CE8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144-D7E9-4A40-AB2D-B2AE49EC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A2B3-F18E-443C-8278-243FCAE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31C2-A429-4CC9-90C1-7690960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DAAC-85F5-4F92-99DE-3724D89F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2047-3D20-4B61-AF6B-38721F0C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FD9-98E4-49E3-8933-BB6CE56C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E9D-8C4A-4733-8A2C-E8D9C42C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2D4-5D42-469D-A220-2CD828F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D34-873F-424B-8744-9CCBB6A6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C78-DB61-406B-8D22-9D25D9E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6D1-1EFB-4C6F-A59D-72FC7B3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E2-2B42-4722-8A98-F0EBAC9C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C7F-C753-4D62-A2C1-39422E0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A8D9-EE1A-4FC5-BF65-5BD10569C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Z:\newtek\_backgrounds_1.02\Art\power_point\not done\school_blocks\block1.png"/>
          <p:cNvPicPr/>
          <p:nvPr/>
        </p:nvPicPr>
        <p:blipFill>
          <a:blip r:embed="rId3"/>
          <a:stretch/>
        </p:blipFill>
        <p:spPr>
          <a:xfrm>
            <a:off x="15228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6BE-FB68-452B-A19C-4F21800AF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240" y="297144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-360" y="7646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99"/>
                </a:solidFill>
                <a:latin typeface="Comic Sans MS"/>
              </a:rPr>
              <a:t>Fram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reeting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Framing</a:t>
            </a:r>
            <a:br>
              <a:rPr sz="4400"/>
            </a:br>
            <a:r>
              <a:rPr b="1" i="1" lang="en-US" sz="4400" spc="-1" strike="noStrike">
                <a:solidFill>
                  <a:srgbClr val="00b050"/>
                </a:solidFill>
                <a:latin typeface="Comic Sans MS"/>
              </a:rPr>
              <a:t>Group 1 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700280"/>
            <a:ext cx="91440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They were watching TV  when I came in.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What did they buy 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yesterday ?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Framing</a:t>
            </a:r>
            <a:br>
              <a:rPr sz="4400"/>
            </a:br>
            <a:r>
              <a:rPr b="1" i="1" lang="en-US" sz="4400" spc="-1" strike="noStrike">
                <a:solidFill>
                  <a:srgbClr val="00b050"/>
                </a:solidFill>
                <a:latin typeface="Comic Sans MS"/>
              </a:rPr>
              <a:t>Group 2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628280"/>
            <a:ext cx="8604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The train didn’t come on time so we were late.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She was crying because she could’t find her dog.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Framing</a:t>
            </a:r>
            <a:br>
              <a:rPr sz="4400"/>
            </a:br>
            <a:r>
              <a:rPr b="1" i="1" lang="en-US" sz="4400" spc="-1" strike="noStrike">
                <a:solidFill>
                  <a:srgbClr val="00b050"/>
                </a:solidFill>
                <a:latin typeface="Comic Sans MS"/>
              </a:rPr>
              <a:t>Group3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How many chairs did you bring to the room?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When I phoned her she was having a bath.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Framing</a:t>
            </a:r>
            <a:br>
              <a:rPr sz="4400"/>
            </a:br>
            <a:r>
              <a:rPr b="1" i="1" lang="en-US" sz="4400" spc="-1" strike="noStrike">
                <a:solidFill>
                  <a:srgbClr val="00b050"/>
                </a:solidFill>
                <a:latin typeface="Comic Sans MS"/>
              </a:rPr>
              <a:t>Group 4 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892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Mary understood he was not right.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Comic Sans MS"/>
              </a:rPr>
              <a:t>What were doing when your mother came back home ? </a:t>
            </a:r>
            <a:endParaRPr b="0" i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Make up sentences using: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oup 1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omic Sans MS"/>
              </a:rPr>
              <a:t>1.yesterday  -  2. yesterday at 3 o’clock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oup 2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omic Sans MS"/>
              </a:rPr>
              <a:t>1. last Sunday - 2.when the telephone rang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oup 3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16165d"/>
                </a:solidFill>
                <a:latin typeface="Comic Sans MS"/>
              </a:rPr>
              <a:t>1. 3 days ago – while I was reading a book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oup 4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omic Sans MS"/>
              </a:rPr>
              <a:t>the day before yesterday –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omic Sans MS"/>
              </a:rPr>
              <a:t>when Liz came home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Circle the correct answer.</a:t>
            </a: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549360"/>
            <a:ext cx="91440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1. They … the TV when I came in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Watch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Were watch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Have watch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Watch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2. What … last Saturday?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Were they buy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They bought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Did they buy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They were buy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3. Mary … that he was not right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Was understand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Have understoo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Understoo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Has understan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4. The train … on time so we were late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Didn’t come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Wasn’t com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Wasn’t come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Didn’t came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5. How many chairs … to the room?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You have brought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Have brought you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You did br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Did you br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6. When I phoned she … a bath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Ha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Was hav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Was have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Has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7. What … when your mother came back home?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Were you do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You di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You were do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Did you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8. What … her about the school ?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You tol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Did you tol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Told you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Did you tell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9. She … because she couldn’t find her dog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Cri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Was cry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Crying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Cry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10. My parents … in 1970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) Got marri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) Get marri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c) Were getting marri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) Getting married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99360" indent="-99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5761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x. 5. p. 99 SB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00000" y="476280"/>
            <a:ext cx="4724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ome Task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60" y="3141360"/>
            <a:ext cx="68007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61760" y="9140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mic Sans MS"/>
              </a:rPr>
              <a:t>Fram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rting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1. </a:t>
            </a: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I was reading a newspaper all evening yesterday.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2. I watched TV yesterday.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3. I was washing the dishes from 5 to 6 yesterday.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4. I bought a dress yesterday.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5. I  was listening to music at 7 o`clock yesterday.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6. I ate my favourite cake yesterday. 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642960" y="2858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termine grammar tens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Present a frame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47ffd1"/>
                </a:solidFill>
                <a:latin typeface="Comic Sans MS"/>
              </a:rPr>
              <a:t>I Had Fun Yesterday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2276640"/>
            <a:ext cx="518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 up early,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Jump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ed </a:t>
            </a: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out of bed,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I wash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 my hands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And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tood</a:t>
            </a:r>
            <a:r>
              <a:rPr b="1" i="1" lang="en-US" sz="3200" spc="-1" strike="noStrike">
                <a:solidFill>
                  <a:srgbClr val="2d2db9"/>
                </a:solidFill>
                <a:latin typeface="Comic Sans MS"/>
              </a:rPr>
              <a:t> on my head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Содержимое 4" descr="iCANZPB13.jpg"/>
          <p:cNvPicPr/>
          <p:nvPr/>
        </p:nvPicPr>
        <p:blipFill>
          <a:blip r:embed="rId1"/>
          <a:stretch/>
        </p:blipFill>
        <p:spPr>
          <a:xfrm rot="21000000">
            <a:off x="6289200" y="1843200"/>
            <a:ext cx="26733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Present a frame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eter Beam was ill the Day Before Yesterday</a:t>
            </a:r>
            <a:br>
              <a:rPr sz="3600"/>
            </a:b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Содержимое 4" descr="iCA8T8N6N.jpg"/>
          <p:cNvPicPr/>
          <p:nvPr/>
        </p:nvPicPr>
        <p:blipFill>
          <a:blip r:embed="rId1"/>
          <a:stretch/>
        </p:blipFill>
        <p:spPr>
          <a:xfrm rot="20880000">
            <a:off x="270000" y="2021040"/>
            <a:ext cx="3384360" cy="295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814560" y="155736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Peter Beam liked ice-cream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But he was in bed the day before yesterday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n’t jump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,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n’t sing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,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n’t want 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to play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2d2db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Овал 9"/>
          <p:cNvSpPr/>
          <p:nvPr/>
        </p:nvSpPr>
        <p:spPr>
          <a:xfrm>
            <a:off x="395280" y="5084640"/>
            <a:ext cx="1728720" cy="6480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179280" y="4653000"/>
            <a:ext cx="1224000" cy="431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395280" y="3645000"/>
            <a:ext cx="1224000" cy="431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Овал 7"/>
          <p:cNvSpPr/>
          <p:nvPr/>
        </p:nvSpPr>
        <p:spPr>
          <a:xfrm>
            <a:off x="250920" y="4149720"/>
            <a:ext cx="1225440" cy="431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Present a frame</a:t>
            </a:r>
            <a:br>
              <a:rPr sz="3600"/>
            </a:br>
            <a:r>
              <a:rPr b="1" lang="en-US" sz="3200" spc="-1" strike="noStrike">
                <a:solidFill>
                  <a:srgbClr val="47ffd1"/>
                </a:solidFill>
                <a:latin typeface="Comic Sans MS"/>
              </a:rPr>
              <a:t>Last Summer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1557360"/>
            <a:ext cx="42447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you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swim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you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run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you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lie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in the sun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47ffd1"/>
                </a:solidFill>
                <a:latin typeface="Comic Sans MS"/>
              </a:rPr>
              <a:t>Five Days Ago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Where 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you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go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What 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they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know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Why 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sh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l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earn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How much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 u="sng">
                <a:solidFill>
                  <a:srgbClr val="2d2db9"/>
                </a:solidFill>
                <a:uFillTx/>
                <a:latin typeface="Comic Sans MS"/>
              </a:rPr>
              <a:t>he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earn</a:t>
            </a:r>
            <a:r>
              <a:rPr b="1" i="1" lang="en-US" sz="2800" spc="-1" strike="noStrike">
                <a:solidFill>
                  <a:srgbClr val="2d2db9"/>
                </a:solidFill>
                <a:latin typeface="Comic Sans MS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Содержимое 4" descr="iCA34YP2K.jpg"/>
          <p:cNvPicPr/>
          <p:nvPr/>
        </p:nvPicPr>
        <p:blipFill>
          <a:blip r:embed="rId1"/>
          <a:stretch/>
        </p:blipFill>
        <p:spPr>
          <a:xfrm>
            <a:off x="5076720" y="1557360"/>
            <a:ext cx="2735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73"/>
                </a:solidFill>
                <a:latin typeface="Comic Sans MS"/>
              </a:rPr>
              <a:t>             </a:t>
            </a:r>
            <a:r>
              <a:rPr b="1" i="1" lang="en-US" sz="3600" spc="-1" strike="noStrike">
                <a:solidFill>
                  <a:srgbClr val="009973"/>
                </a:solidFill>
                <a:latin typeface="Comic Sans MS"/>
              </a:rPr>
              <a:t>Present a frame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47ffd1"/>
                </a:solidFill>
                <a:latin typeface="Comic Sans MS"/>
              </a:rPr>
              <a:t>Yesterday at 8 o’clock p.m.</a:t>
            </a:r>
            <a:endParaRPr b="1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844280"/>
            <a:ext cx="4716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Bill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as 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danc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,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Phil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sing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,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The girls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talk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,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The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joking!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Содержимое 6" descr="iCADD3DEU.jpg"/>
          <p:cNvPicPr/>
          <p:nvPr/>
        </p:nvPicPr>
        <p:blipFill>
          <a:blip r:embed="rId1"/>
          <a:stretch/>
        </p:blipFill>
        <p:spPr>
          <a:xfrm>
            <a:off x="4943520" y="2955960"/>
            <a:ext cx="2054160" cy="1603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iCAM44FJJ.jpg"/>
          <p:cNvPicPr/>
          <p:nvPr/>
        </p:nvPicPr>
        <p:blipFill>
          <a:blip r:embed="rId2"/>
          <a:stretch/>
        </p:blipFill>
        <p:spPr>
          <a:xfrm>
            <a:off x="3571920" y="1590840"/>
            <a:ext cx="2066760" cy="161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iCAEWK42N.jpg"/>
          <p:cNvPicPr/>
          <p:nvPr/>
        </p:nvPicPr>
        <p:blipFill>
          <a:blip r:embed="rId3"/>
          <a:stretch/>
        </p:blipFill>
        <p:spPr>
          <a:xfrm>
            <a:off x="1279440" y="4316400"/>
            <a:ext cx="2506680" cy="1650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iCAN6C1S9.jpg"/>
          <p:cNvPicPr/>
          <p:nvPr/>
        </p:nvPicPr>
        <p:blipFill>
          <a:blip r:embed="rId4"/>
          <a:stretch/>
        </p:blipFill>
        <p:spPr>
          <a:xfrm>
            <a:off x="6443640" y="692280"/>
            <a:ext cx="1944720" cy="1800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73"/>
                </a:solidFill>
                <a:latin typeface="Comic Sans MS"/>
              </a:rPr>
              <a:t>Present a frame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en Their Mother Came Home,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844280"/>
            <a:ext cx="4716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</a:t>
            </a:r>
            <a:r>
              <a:rPr b="1" i="1" lang="en-US" sz="3200" spc="-1" strike="noStrike" u="sng">
                <a:solidFill>
                  <a:srgbClr val="009973"/>
                </a:solidFill>
                <a:uFillTx/>
                <a:latin typeface="Comic Sans MS"/>
              </a:rPr>
              <a:t>he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danc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</a:t>
            </a:r>
            <a:r>
              <a:rPr b="1" i="1" lang="en-US" sz="3200" spc="-1" strike="noStrike" u="sng">
                <a:solidFill>
                  <a:srgbClr val="009973"/>
                </a:solidFill>
                <a:uFillTx/>
                <a:latin typeface="Comic Sans MS"/>
              </a:rPr>
              <a:t>he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sing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</a:t>
            </a:r>
            <a:r>
              <a:rPr b="1" i="1" lang="en-US" sz="3200" spc="-1" strike="noStrike" u="sng">
                <a:solidFill>
                  <a:srgbClr val="009973"/>
                </a:solidFill>
                <a:uFillTx/>
                <a:latin typeface="Comic Sans MS"/>
              </a:rPr>
              <a:t>they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talk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</a:t>
            </a:r>
            <a:r>
              <a:rPr b="1" i="1" lang="en-US" sz="3200" spc="-1" strike="noStrike" u="sng">
                <a:solidFill>
                  <a:srgbClr val="009973"/>
                </a:solidFill>
                <a:uFillTx/>
                <a:latin typeface="Comic Sans MS"/>
              </a:rPr>
              <a:t>they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 jok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3200" spc="-1" strike="noStrike">
                <a:solidFill>
                  <a:srgbClr val="009973"/>
                </a:solidFill>
                <a:latin typeface="Comic Sans MS"/>
              </a:rPr>
              <a:t>?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Содержимое 6" descr="iCADD3DEU.jpg"/>
          <p:cNvPicPr/>
          <p:nvPr/>
        </p:nvPicPr>
        <p:blipFill>
          <a:blip r:embed="rId1"/>
          <a:stretch/>
        </p:blipFill>
        <p:spPr>
          <a:xfrm>
            <a:off x="6315120" y="2597040"/>
            <a:ext cx="2047680" cy="1603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iCAM44FJJ.jpg"/>
          <p:cNvPicPr/>
          <p:nvPr/>
        </p:nvPicPr>
        <p:blipFill>
          <a:blip r:embed="rId2"/>
          <a:stretch/>
        </p:blipFill>
        <p:spPr>
          <a:xfrm>
            <a:off x="4363920" y="1590840"/>
            <a:ext cx="2067120" cy="1616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iCAEWK42N.jpg"/>
          <p:cNvPicPr/>
          <p:nvPr/>
        </p:nvPicPr>
        <p:blipFill>
          <a:blip r:embed="rId3"/>
          <a:stretch/>
        </p:blipFill>
        <p:spPr>
          <a:xfrm>
            <a:off x="3870360" y="3597120"/>
            <a:ext cx="25113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73"/>
                </a:solidFill>
                <a:latin typeface="Comic Sans MS"/>
              </a:rPr>
              <a:t>Present a frame</a:t>
            </a:r>
            <a:endParaRPr b="1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Содержимое 12" descr="iCASORIUZ.jpg"/>
          <p:cNvPicPr/>
          <p:nvPr/>
        </p:nvPicPr>
        <p:blipFill>
          <a:blip r:embed="rId1"/>
          <a:stretch/>
        </p:blipFill>
        <p:spPr>
          <a:xfrm>
            <a:off x="4632480" y="1620720"/>
            <a:ext cx="4859280" cy="3110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-360" y="2060280"/>
            <a:ext cx="80629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I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wasn’t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listen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to music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I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wasn’t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watch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TV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I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wasn’t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sleep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in my bed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I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wasn’t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drink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g</a:t>
            </a: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 my tea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mic Sans MS"/>
              </a:rPr>
              <a:t>I was learning English in my ear-phones!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Рисунок 13" descr="iCA8G55NI.jpg"/>
          <p:cNvPicPr/>
          <p:nvPr/>
        </p:nvPicPr>
        <p:blipFill>
          <a:blip r:embed="rId2"/>
          <a:stretch/>
        </p:blipFill>
        <p:spPr>
          <a:xfrm>
            <a:off x="6765840" y="176040"/>
            <a:ext cx="1940040" cy="16765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324000" y="10526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hile the mother was cooking dinn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Comic Sans MS"/>
              </a:rPr>
              <a:t>Open the brackets and put in the correct form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1. I (to go) to the cinema yesterday.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2. I (to go) to the cinema at four o’clock yesterday.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3. I (to go) to the cinema when you met me.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4. I (to do) my homework the whole evening yesterday.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5. I (to do) my homework when mother came home.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6. I (to do) my homework yesterday.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7. I (to do) my homework from five till eight yesterday. </a:t>
            </a: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8. I (to do) my homework at six o’clock yesterday. </a:t>
            </a:r>
            <a:br>
              <a:rPr sz="3200"/>
            </a:b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00:20Z</dcterms:created>
  <dc:creator>c400</dc:creator>
  <dc:description/>
  <dc:language>en-US</dc:language>
  <cp:lastModifiedBy>STARK_INDUSTRIES</cp:lastModifiedBy>
  <dcterms:modified xsi:type="dcterms:W3CDTF">2020-01-24T09:06:51Z</dcterms:modified>
  <cp:revision>128</cp:revision>
  <dc:subject/>
  <dc:title>Frame Greeting</dc:title>
</cp:coreProperties>
</file>