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6.jpeg" ContentType="image/jpeg"/>
  <Override PartName="/ppt/media/image27.png" ContentType="image/png"/>
  <Override PartName="/ppt/media/image4.gif" ContentType="image/gif"/>
  <Override PartName="/ppt/media/image24.gif" ContentType="image/gif"/>
  <Override PartName="/ppt/media/image21.gif" ContentType="image/gif"/>
  <Override PartName="/ppt/media/image20.png" ContentType="image/png"/>
  <Override PartName="/ppt/media/image36.jpeg" ContentType="image/jpeg"/>
  <Override PartName="/ppt/media/image19.jpeg" ContentType="image/jpeg"/>
  <Override PartName="/ppt/media/image2.gif" ContentType="image/gif"/>
  <Override PartName="/ppt/media/image33.png" ContentType="image/png"/>
  <Override PartName="/ppt/media/image8.png" ContentType="image/png"/>
  <Override PartName="/ppt/media/image14.jpeg" ContentType="image/jpeg"/>
  <Override PartName="/ppt/media/image16.wmf" ContentType="image/x-wmf"/>
  <Override PartName="/ppt/media/image28.gif" ContentType="image/gif"/>
  <Override PartName="/ppt/media/image5.gif" ContentType="image/gif"/>
  <Override PartName="/ppt/media/image38.jpeg" ContentType="image/jpeg"/>
  <Override PartName="/ppt/media/image34.png" ContentType="image/png"/>
  <Override PartName="/ppt/media/image9.wmf" ContentType="image/x-wmf"/>
  <Override PartName="/ppt/media/image11.gif" ContentType="image/gif"/>
  <Override PartName="/ppt/media/image23.png" ContentType="image/png"/>
  <Override PartName="/ppt/media/image13.jpeg" ContentType="image/jpeg"/>
  <Override PartName="/ppt/media/image31.png" ContentType="image/png"/>
  <Override PartName="/ppt/media/image3.gif" ContentType="image/gif"/>
  <Override PartName="/ppt/media/image6.gif" ContentType="image/gif"/>
  <Override PartName="/ppt/media/image29.png" ContentType="image/png"/>
  <Override PartName="/ppt/media/image32.png" ContentType="image/png"/>
  <Override PartName="/ppt/media/image7.png" ContentType="image/png"/>
  <Override PartName="/ppt/media/image1.jpeg" ContentType="image/jpeg"/>
  <Override PartName="/ppt/media/image35.jpeg" ContentType="image/jpeg"/>
  <Override PartName="/ppt/media/image25.gif" ContentType="image/gif"/>
  <Override PartName="/ppt/media/image30.png" ContentType="image/png"/>
  <Override PartName="/ppt/media/image37.jpeg" ContentType="image/jpeg"/>
  <Override PartName="/ppt/media/image39.gif" ContentType="image/gif"/>
  <Override PartName="/ppt/media/image12.png" ContentType="image/png"/>
  <Override PartName="/ppt/media/image10.wmf" ContentType="image/x-wmf"/>
  <Override PartName="/ppt/media/image17.jpeg" ContentType="image/jpeg"/>
  <Override PartName="/ppt/media/image18.jpeg" ContentType="image/jpeg"/>
  <Override PartName="/ppt/media/image22.gif" ContentType="image/gif"/>
  <Override PartName="/ppt/media/image1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199E-A505-44C8-BA70-1803B184E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1283-FEBE-49BA-8575-0493F97C9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615729-9BBC-4DB9-A5ED-681B03998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87ECF6-D857-41F9-9182-16A70C602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70D1EE-6F81-4A32-A375-DDEB4658D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10F34C-F92D-42F0-9F7F-930C7010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2344B2-9F20-4EA6-8C46-E5D03B14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A41E99-7026-4715-87D6-5AB0EE6E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446562-F093-4FAA-A1D6-74E06DF2D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F77714-103C-4124-83CD-63F4BC00A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A0BD06-7990-4062-822A-A3510EA5C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1E0195-BFE7-4B2A-8878-7A7D347ED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77E5-5B87-4476-89FA-1208B5A3E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56E1F9-3E96-4628-8867-3754BCE38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DD8B00-209B-4FEF-BE4E-40C75973F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BC4C49-BD6F-49CA-97E9-3C4A7199C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A472BB-883C-45E2-9DCA-701AAAF1A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6AD076-1EE8-4C09-BE92-D29C7BA0E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3F3D40-94B9-4B06-B50A-2BC61E60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009401-2C56-4665-BEF5-1210E2F4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402E48-3003-4CD1-A9C7-95439430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C0D4D3-C567-45DF-894C-27E51AC48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F4E15F-845B-41A1-9D0A-228BB9AE0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273E-7FA4-407E-99C4-692A43492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5D318A-E34B-4672-BFFB-3DDACF358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F484E2-A158-4E4D-A368-2E72F5F45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7EF716-BFB7-4B3B-BA6B-B74F2B68E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283E3E-932E-4E9D-89FB-5CB1E8319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C0182E-F192-4959-A6AD-1896DFC87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ADA281-A855-4908-AE03-9D5B4BAF0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042592-39F4-4272-AFE8-51174AD80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356E3F-E130-43B9-907D-B055D5CE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C0B60F-0973-4F93-B14C-2DEBFE26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1C58AE-4835-4EE9-A5E5-6DC3010F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8F611-CA51-4AEF-B386-F029B5848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C5E6E0-999A-4ABC-B090-456D000E4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F72BDC-1F85-41E9-973C-E1DF53080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DABB21-9A3C-4290-A1D1-9C0283835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15C34F-4F2F-4D42-A48C-518F6C8DE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8B79A0-AAE4-4D79-B6F9-392C9BDDF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54F720-8DA8-47BE-BD3A-E106D0A6C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B3363D-260D-4124-8041-379972A8F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86FCED-D32C-4160-AC84-3079BA317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17B8F2-A377-4260-972E-F73DD427F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D223A7-0F71-494B-A5EF-C5DB073D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2BB44-E7E7-4C25-9EEE-B707027F6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1D278A-864F-42C5-A4DD-D5A7B129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90CE83-0E1D-4D8F-8523-8A36221B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03447E-BD76-4768-B1BD-9CB572421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8AC5B1-18B0-4DC8-959E-04BCA88E2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546CA7-643F-4C0A-86D6-2E380230F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6ABFE-46B6-4D5A-9E91-AC96F6F6E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4A201-73C8-4092-82AE-35F6806C0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3D0E4-B378-481D-AC0B-5E6684A12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4F092-D1E5-4A2D-AD09-DDAB654E1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B643E-F7E1-4C27-81B5-3D15A7F7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A879-BAB5-457A-B327-227E05122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059AB-8645-4FA5-80C6-22261832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82F0D-9585-4932-8DA8-B1E28AC6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E9432-53CA-4120-A436-F058656C0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1D4E6-1AE6-471C-8C27-2EFEE00A7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B805C-0FEB-4178-8BC3-CAD141A78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6AE2E-9C4E-4DE0-AD30-D309AEF8A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B73AC-05FD-45F3-8F4D-ABEBDFDCF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5CD5A-7E8C-4017-85F7-2DF35B4D9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C6C85-5C43-499B-BB89-B92848C6B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FFD5F-BAAB-4006-A7F8-B6D57836E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4783-A223-48E7-A27E-080BB9DB3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9E811-9E03-43DE-9046-F4F28B6D6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498C6-1E4E-490E-8168-EC25435B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AE371-9F62-4B10-9A37-EA451148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6023C-27BD-4AC1-A13D-019597A0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474C0-5E00-4A40-B602-BBF0FF1BB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43AD0-1485-4594-AB1D-1B05F2498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3E930-74E2-41E3-9444-77250CA33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7813D-C3B7-4968-B461-52392E6E9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13A9A-3C48-425D-BCBF-45DF03125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409DD-FBFE-4A96-89C9-3B6D88193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6F22-92C2-4403-92F9-BC550D405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B2750-ED83-41F4-8DFC-3E399D70A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6F46D-E212-4F61-86A3-BB91DBAB5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2DAEC-F6A6-4DD1-AF7C-385203B88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F31CF-E7DA-4FFD-83EF-F151E4C6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469E4-141D-472F-8A87-E71689F7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C9480-F091-4E24-B51D-A8020832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D7F28-714D-435F-9F3D-42EE41728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3F86E-ECE3-4191-9A1C-EC4CA5B25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5A08F-9400-4CFF-8C4F-09AF53158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78829-1F4D-4CEF-B788-D21690293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970C-A916-43A0-832C-4C3F0D264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8AF44-CC0C-478F-9513-0B2D5F982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CE283-4C57-4174-BBCF-0955833B9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6D92B-F480-4443-9BE2-C3AEF1303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463A7-58AC-4CA4-AD67-F6BCBF3A4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EDDEA-B995-45ED-86A9-6DA6A2B13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909E9-414A-4963-837C-442E7C00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575E5-E281-48FF-A8C3-7089F7BC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EEE35F-119D-4EBC-82EC-84ECCF2C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7A825-B5B3-43A4-AD37-31BD691E9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5B758-778E-4654-9773-D517CE616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EC04-F3E8-4FC2-8F79-17D20D8B6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6FB57-F125-410D-95E6-59AA523FF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4DBBA2-5370-4B58-BAE7-C7BBDCF65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DF9DB-A349-4BA1-AAE5-84BFA8079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D5157-2C3C-4144-AE78-1929C8CDE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DC4B6-C2EB-49A2-8D47-216FA0BC1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60DB2-13E7-4555-959D-7BC08B434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5EA32B-B647-41DA-AA65-ECEC43025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6CD7F7-22BA-47CE-8F5C-F39F30F2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1AFD82-C043-4D18-A1B5-CBD7D7D7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F6272-77D4-495A-8A95-C04CF35D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CD51-FA5A-41AD-918A-FB848147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49B09-FE14-4552-96A0-AF0510448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A9C24-2F00-427E-94CB-CCB123D1B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6D747-7A91-4E15-9826-78D4FD191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43578B-82B0-45B7-B502-82391D329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484F5-3046-465A-8255-505D3D61F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07C115-66AB-4DDF-9D58-2D4D57707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C200A3-7466-4119-B2FF-70AEE1CA6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FB274-371E-4ED6-9B80-4EE3C8650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1A178-163C-4766-B587-EA44B8A03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4FDEE3-20A1-445B-A535-95A67158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CB15-77DF-4BA7-B076-387432B2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18C79-C0DA-430D-B63F-F46056A7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5D26F9-B4F3-4AC0-A8A8-F1109AC7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D5BF12-082F-4A1C-A2B3-526527FFF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8F7747-F0E0-4F2F-AEAD-86972E4CD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F6EBF1-A699-4A36-8868-208101886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00732A-1215-4518-8A0F-C74EE0741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FDF06D-D8C0-46E0-B328-193735AAB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F068E2-C37F-42C7-99DA-CDC91CDD1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26978C-1D2E-40C3-9B75-D1E89AB11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47E839-FABE-4855-A973-4BEDE162E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33EE-D853-4591-8052-F4DFCE2D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122536-8372-44C3-A80C-81E526877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340ACC-EA0D-46C0-A360-018B6BA4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420D45-C92B-4988-915B-CF0E94B6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A486C5-5F15-483D-96B7-F5D649E9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8AA491-3660-474A-8D14-46D1FA7EA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83393C-5A92-4D88-85F0-4290212A3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F488AA-4DC6-452F-8983-E2AA92F5E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6A6181-7DE8-4123-9C4C-CC4442B33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EE7A52-E320-4978-9E63-EF2CCF606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9735FC-B8AC-46E4-B69F-3BA5D7EEA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CEA21-5D0C-4DF1-90F7-D9378C92624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2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33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28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29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AE198-9471-4B56-90CA-29284DC0942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8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79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0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81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4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485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1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2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522BE-C9A9-408C-B2E8-35B97D39D75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529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735E7-870A-41AB-8F7C-A999E510366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E1DF1-238E-4BE0-8C94-A2375AF6058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02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99BC1-53FC-4418-B348-C95FC207AE0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47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AD46A-AF05-40AD-AB6B-243D3CF8A21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92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3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94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3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4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4EBE3-587A-4719-B973-BD73F9A4B59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39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20323-570E-4380-B487-DB95EC24507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86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A110D-A80E-4287-B143-C3D8E2D7F13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240AA-A5EF-4677-8D13-38B7EDEE528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388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497D9-ED18-48BC-854E-65D2AD58E92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2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wmf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WordArt 4"/>
          <p:cNvSpPr txBox="1"/>
          <p:nvPr/>
        </p:nvSpPr>
        <p:spPr>
          <a:xfrm rot="21372000">
            <a:off x="1906200" y="1035000"/>
            <a:ext cx="6840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-6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ачество   питьевой   врды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77" name="Picture 8" descr="00000001"/>
          <p:cNvPicPr/>
          <p:nvPr/>
        </p:nvPicPr>
        <p:blipFill>
          <a:blip r:embed="rId1"/>
          <a:stretch/>
        </p:blipFill>
        <p:spPr>
          <a:xfrm>
            <a:off x="6568920" y="5013360"/>
            <a:ext cx="927360" cy="148284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9" descr="00000001"/>
          <p:cNvPicPr/>
          <p:nvPr/>
        </p:nvPicPr>
        <p:blipFill>
          <a:blip r:embed="rId2"/>
          <a:stretch/>
        </p:blipFill>
        <p:spPr>
          <a:xfrm>
            <a:off x="2340000" y="765000"/>
            <a:ext cx="1814400" cy="290196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11" descr="14r5"/>
          <p:cNvPicPr/>
          <p:nvPr/>
        </p:nvPicPr>
        <p:blipFill>
          <a:blip r:embed="rId3"/>
          <a:stretch/>
        </p:blipFill>
        <p:spPr>
          <a:xfrm>
            <a:off x="324000" y="981000"/>
            <a:ext cx="952200" cy="952560"/>
          </a:xfrm>
          <a:prstGeom prst="rect">
            <a:avLst/>
          </a:prstGeom>
          <a:ln w="0">
            <a:noFill/>
          </a:ln>
        </p:spPr>
      </p:pic>
      <p:sp>
        <p:nvSpPr>
          <p:cNvPr id="580" name="WordArt 12"/>
          <p:cNvSpPr txBox="1"/>
          <p:nvPr/>
        </p:nvSpPr>
        <p:spPr>
          <a:xfrm>
            <a:off x="1187280" y="3933720"/>
            <a:ext cx="4658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Вода дороже золота" -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81" name="Text Box 13"/>
          <p:cNvSpPr/>
          <p:nvPr/>
        </p:nvSpPr>
        <p:spPr>
          <a:xfrm>
            <a:off x="1187280" y="4581360"/>
            <a:ext cx="633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тверждал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едуины, всю жизнь кочевавшие в песк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2" name="Picture 14" descr="013"/>
          <p:cNvPicPr/>
          <p:nvPr/>
        </p:nvPicPr>
        <p:blipFill>
          <a:blip r:embed="rId4">
            <a:lum contrast="12000"/>
          </a:blip>
          <a:stretch/>
        </p:blipFill>
        <p:spPr>
          <a:xfrm>
            <a:off x="7524720" y="3789360"/>
            <a:ext cx="113976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19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Подземные источники </a:t>
            </a:r>
            <a:br>
              <a:rPr sz="4800"/>
            </a:b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(скважины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68360" y="1888920"/>
            <a:ext cx="8229600" cy="44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 питьевом водоснабжен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подземные воды имею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значительные преимущества пере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поверхностными.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да из артезианских подземных источников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к правило, более чистая: ведь загрязнителям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поверхности не так-то просто до не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обраться. Зато в ней обычно больш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створенных солей кальция и магния, т.е. он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является более жестко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7" name="Picture 4" descr="index"/>
          <p:cNvPicPr/>
          <p:nvPr/>
        </p:nvPicPr>
        <p:blipFill>
          <a:blip r:embed="rId1"/>
          <a:stretch/>
        </p:blipFill>
        <p:spPr>
          <a:xfrm>
            <a:off x="7308720" y="476280"/>
            <a:ext cx="136872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822960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660033"/>
                </a:solidFill>
                <a:latin typeface="Times New Roman"/>
              </a:rPr>
              <a:t>Перед подачей в водопровод качество воды контролируется - она должна соответствовать Государственному Стандарту, в котором указаны предельно допустимые концентрации (ПДК) для различных загрязняющих веществ. ПДК - безопасный уровень содержания загрязнителей: если какое-либо вещество содержится в воде в концентрации, меньшей, чем предельно допустимая, такую воду можно без вреда для здоровья употреблять хоть всю жизнь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ru-RU" sz="2100" spc="-1" strike="noStrike">
                <a:solidFill>
                  <a:srgbClr val="660033"/>
                </a:solidFill>
                <a:latin typeface="Times New Roman"/>
              </a:rPr>
              <a:t>Основным показателем качества воды считается ее влияние на здоровье человек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1" lang="ru-RU" sz="2100" spc="-1" strike="noStrike">
                <a:solidFill>
                  <a:srgbClr val="ff6600"/>
                </a:solidFill>
                <a:latin typeface="Times New Roman"/>
              </a:rPr>
              <a:t>Прежде всего, качество питьевой воды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1" lang="ru-RU" sz="2100" spc="-1" strike="noStrike">
                <a:solidFill>
                  <a:srgbClr val="ff6600"/>
                </a:solidFill>
                <a:latin typeface="Times New Roman"/>
              </a:rPr>
              <a:t>определяется по её "внешнему виду"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1" lang="ru-RU" sz="2100" spc="-1" strike="noStrike">
                <a:solidFill>
                  <a:srgbClr val="ff6600"/>
                </a:solidFill>
                <a:latin typeface="Times New Roman"/>
              </a:rPr>
              <a:t>то есть</a:t>
            </a:r>
            <a:r>
              <a:rPr b="1" lang="ru-RU" sz="21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33cccc"/>
                </a:solidFill>
                <a:latin typeface="Times New Roman"/>
              </a:rPr>
              <a:t>по органолептическим показателям</a:t>
            </a:r>
            <a:r>
              <a:rPr b="1" lang="ru-RU" sz="2100" spc="-1" strike="noStrike">
                <a:solidFill>
                  <a:srgbClr val="ff9900"/>
                </a:solidFill>
                <a:latin typeface="Times New Roman"/>
              </a:rPr>
              <a:t>:</a:t>
            </a:r>
            <a:r>
              <a:rPr b="0" lang="ru-RU" sz="21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6600"/>
                </a:solidFill>
                <a:latin typeface="Times New Roman"/>
              </a:rPr>
              <a:t>мутность,</a:t>
            </a:r>
            <a:r>
              <a:rPr b="0" lang="ru-RU" sz="2100" spc="-1" strike="noStrike">
                <a:solidFill>
                  <a:srgbClr val="ff66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6600"/>
                </a:solidFill>
                <a:latin typeface="Times New Roman"/>
              </a:rPr>
              <a:t>цветность,</a:t>
            </a:r>
            <a:r>
              <a:rPr b="0" lang="ru-RU" sz="2100" spc="-1" strike="noStrike">
                <a:solidFill>
                  <a:srgbClr val="ff66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6600"/>
                </a:solidFill>
                <a:latin typeface="Times New Roman"/>
              </a:rPr>
              <a:t>запах,</a:t>
            </a:r>
            <a:r>
              <a:rPr b="0" lang="ru-RU" sz="2100" spc="-1" strike="noStrike">
                <a:solidFill>
                  <a:srgbClr val="ff66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6600"/>
                </a:solidFill>
                <a:latin typeface="Times New Roman"/>
              </a:rPr>
              <a:t>привкус.</a:t>
            </a:r>
            <a:r>
              <a:rPr b="0" lang="ru-RU" sz="2100" spc="-1" strike="noStrike">
                <a:solidFill>
                  <a:srgbClr val="ff66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Text Box 4"/>
          <p:cNvSpPr/>
          <p:nvPr/>
        </p:nvSpPr>
        <p:spPr>
          <a:xfrm>
            <a:off x="324000" y="260280"/>
            <a:ext cx="856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Rectangle 5"/>
          <p:cNvSpPr/>
          <p:nvPr/>
        </p:nvSpPr>
        <p:spPr>
          <a:xfrm>
            <a:off x="468360" y="126720"/>
            <a:ext cx="83534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cc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Гигиенические требовани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к чистоте питьевой воды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1" name="Picture 6" descr="3"/>
          <p:cNvPicPr/>
          <p:nvPr/>
        </p:nvPicPr>
        <p:blipFill>
          <a:blip r:embed="rId1"/>
          <a:stretch/>
        </p:blipFill>
        <p:spPr>
          <a:xfrm>
            <a:off x="6948360" y="4076640"/>
            <a:ext cx="19954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763280" y="404280"/>
            <a:ext cx="619308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сновные требования к физическим свойствам вод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отсутствие неприятного запаха, вкуса, цвета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минерализация питьевой воды не должна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превышать 1 г/л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жесткость питьевой воды (содержание в воде ионов кальция и магния) не должна превышать 7 мг-экв/л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содержание железа в питьевой воде - не более 0.3 мг/л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значения рН питьевой воды должны находиться в пределах 6.5-9.5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концентрация нитратного иона в питьевой воде не должна превышать 50 мг/л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7c80"/>
                </a:solidFill>
                <a:latin typeface="Times New Roman"/>
              </a:rPr>
              <a:t>Важное значение имеет характеристика микробиологического состояния питьевой воды: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коли-индекс- отсутствие; общее микробное число - не более 50.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4" name="Picture 4" descr="2"/>
          <p:cNvPicPr/>
          <p:nvPr/>
        </p:nvPicPr>
        <p:blipFill>
          <a:blip r:embed="rId1"/>
          <a:stretch/>
        </p:blipFill>
        <p:spPr>
          <a:xfrm>
            <a:off x="7894800" y="836640"/>
            <a:ext cx="1249200" cy="207324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5" descr="AG00032_"/>
          <p:cNvPicPr/>
          <p:nvPr/>
        </p:nvPicPr>
        <p:blipFill>
          <a:blip r:embed="rId2"/>
          <a:stretch/>
        </p:blipFill>
        <p:spPr>
          <a:xfrm>
            <a:off x="324000" y="189000"/>
            <a:ext cx="14094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Picture 2" descr="22000000"/>
          <p:cNvPicPr/>
          <p:nvPr/>
        </p:nvPicPr>
        <p:blipFill>
          <a:blip r:embed="rId1"/>
          <a:stretch/>
        </p:blipFill>
        <p:spPr>
          <a:xfrm>
            <a:off x="468360" y="1628640"/>
            <a:ext cx="4968720" cy="215280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3" descr="23000000"/>
          <p:cNvPicPr/>
          <p:nvPr/>
        </p:nvPicPr>
        <p:blipFill>
          <a:blip r:embed="rId2"/>
          <a:stretch/>
        </p:blipFill>
        <p:spPr>
          <a:xfrm>
            <a:off x="4572000" y="4292640"/>
            <a:ext cx="3889440" cy="168588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4" descr="24000000"/>
          <p:cNvPicPr/>
          <p:nvPr/>
        </p:nvPicPr>
        <p:blipFill>
          <a:blip r:embed="rId3"/>
          <a:stretch/>
        </p:blipFill>
        <p:spPr>
          <a:xfrm>
            <a:off x="468360" y="4149720"/>
            <a:ext cx="3600360" cy="156060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5" descr="atollfil"/>
          <p:cNvPicPr/>
          <p:nvPr/>
        </p:nvPicPr>
        <p:blipFill>
          <a:blip r:embed="rId4"/>
          <a:stretch/>
        </p:blipFill>
        <p:spPr>
          <a:xfrm>
            <a:off x="5651640" y="1484280"/>
            <a:ext cx="2089080" cy="73656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6" descr="button02"/>
          <p:cNvPicPr/>
          <p:nvPr/>
        </p:nvPicPr>
        <p:blipFill>
          <a:blip r:embed="rId5"/>
          <a:stretch/>
        </p:blipFill>
        <p:spPr>
          <a:xfrm>
            <a:off x="6516720" y="2421000"/>
            <a:ext cx="2017800" cy="71100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7" descr="ecowater"/>
          <p:cNvPicPr/>
          <p:nvPr/>
        </p:nvPicPr>
        <p:blipFill>
          <a:blip r:embed="rId6"/>
          <a:stretch/>
        </p:blipFill>
        <p:spPr>
          <a:xfrm>
            <a:off x="5651640" y="3357720"/>
            <a:ext cx="2089080" cy="736560"/>
          </a:xfrm>
          <a:prstGeom prst="rect">
            <a:avLst/>
          </a:prstGeom>
          <a:ln w="0">
            <a:noFill/>
          </a:ln>
        </p:spPr>
      </p:pic>
      <p:sp>
        <p:nvSpPr>
          <p:cNvPr id="632" name="Rectangle 8"/>
          <p:cNvSpPr/>
          <p:nvPr/>
        </p:nvSpPr>
        <p:spPr>
          <a:xfrm>
            <a:off x="179280" y="163800"/>
            <a:ext cx="82090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дин из способов снизить риск различных заболеваний, связанных с использованием некачественной воды – это применени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9900"/>
                </a:solidFill>
                <a:latin typeface="Arial"/>
              </a:rPr>
              <a:t>ФИЛЬТРОВ   ДЛЯ   ВОДЫ И  СИСТЕМ   ОЧИСТКИ   ВОДЫ   ДЛЯ  БЫТОВЫХ 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9900"/>
                </a:solidFill>
                <a:latin typeface="Arial"/>
              </a:rPr>
              <a:t>ПРОМЫШЛЕННЫХ   НУЖД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пользование бутилированной воды также частично решает проблему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3384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дивительно, но там, где находятся богатейшие месторождения "голубого золота", все чаще люди вынуждены покупать питьевую воду. Бутилированная вода в магазинах не залеживает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Picture 4" descr="00010558"/>
          <p:cNvPicPr/>
          <p:nvPr/>
        </p:nvPicPr>
        <p:blipFill>
          <a:blip r:embed="rId1"/>
          <a:stretch/>
        </p:blipFill>
        <p:spPr>
          <a:xfrm>
            <a:off x="4067280" y="4365720"/>
            <a:ext cx="2305080" cy="182556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5" descr="00010559"/>
          <p:cNvPicPr/>
          <p:nvPr/>
        </p:nvPicPr>
        <p:blipFill>
          <a:blip r:embed="rId2"/>
          <a:stretch/>
        </p:blipFill>
        <p:spPr>
          <a:xfrm>
            <a:off x="6372360" y="1197000"/>
            <a:ext cx="2449440" cy="163368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6" descr="00010609"/>
          <p:cNvPicPr/>
          <p:nvPr/>
        </p:nvPicPr>
        <p:blipFill>
          <a:blip r:embed="rId3"/>
          <a:stretch/>
        </p:blipFill>
        <p:spPr>
          <a:xfrm>
            <a:off x="4067280" y="1413000"/>
            <a:ext cx="1871640" cy="280800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9" descr="00010686"/>
          <p:cNvPicPr/>
          <p:nvPr/>
        </p:nvPicPr>
        <p:blipFill>
          <a:blip r:embed="rId4"/>
          <a:stretch/>
        </p:blipFill>
        <p:spPr>
          <a:xfrm>
            <a:off x="6588000" y="3284640"/>
            <a:ext cx="219708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Picture 4" descr="99"/>
          <p:cNvPicPr/>
          <p:nvPr/>
        </p:nvPicPr>
        <p:blipFill>
          <a:blip r:embed="rId1"/>
          <a:stretch/>
        </p:blipFill>
        <p:spPr>
          <a:xfrm>
            <a:off x="826920" y="220680"/>
            <a:ext cx="1584360" cy="1231920"/>
          </a:xfrm>
          <a:prstGeom prst="rect">
            <a:avLst/>
          </a:prstGeom>
          <a:ln w="0">
            <a:noFill/>
          </a:ln>
        </p:spPr>
      </p:pic>
      <p:sp>
        <p:nvSpPr>
          <p:cNvPr id="640" name="WordArt 6"/>
          <p:cNvSpPr txBox="1"/>
          <p:nvPr/>
        </p:nvSpPr>
        <p:spPr>
          <a:xfrm>
            <a:off x="0" y="1844640"/>
            <a:ext cx="9144000" cy="270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0066"/>
                </a:solidFill>
                <a:effectLst>
                  <a:outerShdw dist="153753" dir="2700000" blurRad="0" rotWithShape="0">
                    <a:srgbClr val="990000">
                      <a:alpha val="50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cc0066"/>
              </a:solidFill>
              <a:effectLst>
                <a:outerShdw dist="153753" dir="2700000" blurRad="0" rotWithShape="0">
                  <a:srgbClr val="99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050560" y="69228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0033"/>
                </a:solidFill>
                <a:latin typeface="Times New Roman"/>
              </a:rPr>
              <a:t>25 веков назад во время одного из походов в западной части Египта в бездонных песках Сахары бесследно исчезла могущественная 50-тысячная армия персидского царя Камбиса. Их всех убила «одна карающая рука», неумолимая и безжалостная – жажда.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1115640" y="3789360"/>
            <a:ext cx="748836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да является важным элементом живого органического мира. Жизнь зародилась в водной среде. Для многих видов животных и растений вода продолжает оставаться средой обитания. Вода является основной средой в клетке, где осуществляются все реакции и процессы метаболизма. Живые организмы состоят не менее, чем на 3/4 из в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8" descr="2пf1"/>
          <p:cNvPicPr/>
          <p:nvPr/>
        </p:nvPicPr>
        <p:blipFill>
          <a:blip r:embed="rId1"/>
          <a:stretch/>
        </p:blipFill>
        <p:spPr>
          <a:xfrm>
            <a:off x="179280" y="836640"/>
            <a:ext cx="1368360" cy="108108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9" descr="152"/>
          <p:cNvPicPr/>
          <p:nvPr/>
        </p:nvPicPr>
        <p:blipFill>
          <a:blip r:embed="rId2"/>
          <a:stretch/>
        </p:blipFill>
        <p:spPr>
          <a:xfrm>
            <a:off x="250920" y="2276640"/>
            <a:ext cx="1260360" cy="158256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10" descr="2пf1"/>
          <p:cNvPicPr/>
          <p:nvPr/>
        </p:nvPicPr>
        <p:blipFill>
          <a:blip r:embed="rId3"/>
          <a:stretch/>
        </p:blipFill>
        <p:spPr>
          <a:xfrm>
            <a:off x="179280" y="836640"/>
            <a:ext cx="136836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круговорот воды.avi" descr=""/>
          <p:cNvPicPr/>
          <p:nvPr/>
        </p:nvPicPr>
        <p:blipFill>
          <a:blip r:embed="rId1"/>
          <a:stretch/>
        </p:blipFill>
        <p:spPr>
          <a:xfrm>
            <a:off x="395280" y="0"/>
            <a:ext cx="8352000" cy="6832440"/>
          </a:xfrm>
          <a:prstGeom prst="rect">
            <a:avLst/>
          </a:prstGeom>
          <a:ln w="57240">
            <a:solidFill>
              <a:srgbClr val="cccc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160" fill="hold"/>
                                        <p:tgtEl>
                                          <p:spTgt spid="5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88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88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5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Что за вода течет из нашего кран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110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Какие вещества содержатся в ней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110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Насколько безопасно ее пить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5" descr="CITYSC"/>
          <p:cNvPicPr/>
          <p:nvPr/>
        </p:nvPicPr>
        <p:blipFill>
          <a:blip r:embed="rId4"/>
          <a:stretch/>
        </p:blipFill>
        <p:spPr>
          <a:xfrm>
            <a:off x="5796000" y="5229360"/>
            <a:ext cx="2957400" cy="142560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6" descr="SODASTRW"/>
          <p:cNvPicPr/>
          <p:nvPr/>
        </p:nvPicPr>
        <p:blipFill>
          <a:blip r:embed="rId5"/>
          <a:stretch/>
        </p:blipFill>
        <p:spPr>
          <a:xfrm>
            <a:off x="3203640" y="3284640"/>
            <a:ext cx="1295280" cy="127620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10" descr="d072"/>
          <p:cNvPicPr/>
          <p:nvPr/>
        </p:nvPicPr>
        <p:blipFill>
          <a:blip r:embed="rId6"/>
          <a:stretch/>
        </p:blipFill>
        <p:spPr>
          <a:xfrm>
            <a:off x="3635280" y="1341360"/>
            <a:ext cx="11048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cc0066"/>
                </a:solidFill>
                <a:latin typeface="Times New Roman"/>
              </a:rPr>
              <a:t>В разных районах страны в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cc0066"/>
                </a:solidFill>
                <a:latin typeface="Times New Roman"/>
              </a:rPr>
              <a:t>водопровод может подаватьс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cc0066"/>
                </a:solidFill>
                <a:latin typeface="Times New Roman"/>
              </a:rPr>
              <a:t>вод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4" descr="Scan0004"/>
          <p:cNvPicPr/>
          <p:nvPr/>
        </p:nvPicPr>
        <p:blipFill>
          <a:blip r:embed="rId1"/>
          <a:stretch/>
        </p:blipFill>
        <p:spPr>
          <a:xfrm>
            <a:off x="684360" y="2565360"/>
            <a:ext cx="7850160" cy="3968640"/>
          </a:xfrm>
          <a:prstGeom prst="rect">
            <a:avLst/>
          </a:prstGeom>
          <a:ln w="38160">
            <a:solidFill>
              <a:srgbClr val="cc0099"/>
            </a:solidFill>
            <a:miter/>
          </a:ln>
          <a:effectLst>
            <a:outerShdw dist="107932" dir="18900000" blurRad="0" rotWithShape="0">
              <a:srgbClr val="cc0099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66"/>
                </a:solidFill>
                <a:latin typeface="Times New Roman"/>
              </a:rPr>
              <a:t>из поверхностных источников: рек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596" name="Picture 4" descr="DSCN0004"/>
          <p:cNvPicPr/>
          <p:nvPr/>
        </p:nvPicPr>
        <p:blipFill>
          <a:blip r:embed="rId1"/>
          <a:stretch/>
        </p:blipFill>
        <p:spPr>
          <a:xfrm>
            <a:off x="900000" y="1341360"/>
            <a:ext cx="2951280" cy="221472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5" descr="PICT0050"/>
          <p:cNvPicPr/>
          <p:nvPr/>
        </p:nvPicPr>
        <p:blipFill>
          <a:blip r:embed="rId2"/>
          <a:stretch/>
        </p:blipFill>
        <p:spPr>
          <a:xfrm>
            <a:off x="5219640" y="1341360"/>
            <a:ext cx="3062520" cy="229716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6" descr=""/>
          <p:cNvPicPr/>
          <p:nvPr/>
        </p:nvPicPr>
        <p:blipFill>
          <a:blip r:embed="rId3"/>
          <a:stretch/>
        </p:blipFill>
        <p:spPr>
          <a:xfrm>
            <a:off x="4500720" y="4241880"/>
            <a:ext cx="4300560" cy="209376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10" descr="OCNWAVE"/>
          <p:cNvPicPr/>
          <p:nvPr/>
        </p:nvPicPr>
        <p:blipFill>
          <a:blip r:embed="rId4"/>
          <a:stretch/>
        </p:blipFill>
        <p:spPr>
          <a:xfrm>
            <a:off x="4067280" y="2276640"/>
            <a:ext cx="955440" cy="9540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13" descr="Nature_20"/>
          <p:cNvPicPr/>
          <p:nvPr/>
        </p:nvPicPr>
        <p:blipFill>
          <a:blip r:embed="rId5"/>
          <a:stretch/>
        </p:blipFill>
        <p:spPr>
          <a:xfrm>
            <a:off x="900000" y="4005360"/>
            <a:ext cx="301788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dd1"/>
                </a:solidFill>
                <a:latin typeface="Times New Roman"/>
              </a:rPr>
              <a:t>озер, водохранилищ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602" name="Picture 5" descr="Nature_06"/>
          <p:cNvPicPr/>
          <p:nvPr/>
        </p:nvPicPr>
        <p:blipFill>
          <a:blip r:embed="rId1"/>
          <a:stretch/>
        </p:blipFill>
        <p:spPr>
          <a:xfrm>
            <a:off x="684360" y="1052640"/>
            <a:ext cx="777708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/>
          </p:nvPr>
        </p:nvSpPr>
        <p:spPr>
          <a:xfrm>
            <a:off x="323640" y="404280"/>
            <a:ext cx="85690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1" lang="ru-RU" sz="3200" spc="-1" strike="noStrike">
                <a:solidFill>
                  <a:srgbClr val="cc0066"/>
                </a:solidFill>
                <a:latin typeface="Times New Roman"/>
              </a:rPr>
              <a:t>Поверхностная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"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ода обычно сильнее подвержена загрязнению: в водоемы могут попадать стоки предприятий и ферм,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4" name="Picture 4" descr="инкубатор"/>
          <p:cNvPicPr/>
          <p:nvPr/>
        </p:nvPicPr>
        <p:blipFill>
          <a:blip r:embed="rId1"/>
          <a:stretch/>
        </p:blipFill>
        <p:spPr>
          <a:xfrm>
            <a:off x="1835280" y="2762280"/>
            <a:ext cx="2593800" cy="1946160"/>
          </a:xfrm>
          <a:prstGeom prst="rect">
            <a:avLst/>
          </a:prstGeom>
          <a:ln w="28440">
            <a:solidFill>
              <a:srgbClr val="ff9900"/>
            </a:solidFill>
            <a:miter/>
          </a:ln>
        </p:spPr>
      </p:pic>
      <p:pic>
        <p:nvPicPr>
          <p:cNvPr id="605" name="Picture 5" descr=""/>
          <p:cNvPicPr/>
          <p:nvPr/>
        </p:nvPicPr>
        <p:blipFill>
          <a:blip r:embed="rId2"/>
          <a:stretch/>
        </p:blipFill>
        <p:spPr>
          <a:xfrm>
            <a:off x="4932360" y="3213000"/>
            <a:ext cx="3166920" cy="2354400"/>
          </a:xfrm>
          <a:prstGeom prst="rect">
            <a:avLst/>
          </a:prstGeom>
          <a:ln w="28440">
            <a:solidFill>
              <a:srgbClr val="ff9900"/>
            </a:solidFill>
            <a:miter/>
          </a:ln>
        </p:spPr>
      </p:pic>
      <p:sp>
        <p:nvSpPr>
          <p:cNvPr id="606" name="Text Box 6"/>
          <p:cNvSpPr/>
          <p:nvPr/>
        </p:nvSpPr>
        <p:spPr>
          <a:xfrm>
            <a:off x="4716360" y="2349360"/>
            <a:ext cx="36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Rectangle 7"/>
          <p:cNvSpPr/>
          <p:nvPr/>
        </p:nvSpPr>
        <p:spPr>
          <a:xfrm>
            <a:off x="4500720" y="2060640"/>
            <a:ext cx="414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ыпадать кислотные                                  дожд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Text Box 8"/>
          <p:cNvSpPr/>
          <p:nvPr/>
        </p:nvSpPr>
        <p:spPr>
          <a:xfrm>
            <a:off x="539640" y="496080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Rectangle 9"/>
          <p:cNvSpPr/>
          <p:nvPr/>
        </p:nvSpPr>
        <p:spPr>
          <a:xfrm>
            <a:off x="684360" y="4724280"/>
            <a:ext cx="424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ней могут размножаться микроскопические водоросли или даже болезнетворные микроорганизм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0" name="Picture 14" descr="cat5"/>
          <p:cNvPicPr/>
          <p:nvPr/>
        </p:nvPicPr>
        <p:blipFill>
          <a:blip r:embed="rId3"/>
          <a:stretch/>
        </p:blipFill>
        <p:spPr>
          <a:xfrm>
            <a:off x="7812000" y="5229360"/>
            <a:ext cx="1139760" cy="136836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15" descr="AG00210_"/>
          <p:cNvPicPr/>
          <p:nvPr/>
        </p:nvPicPr>
        <p:blipFill>
          <a:blip r:embed="rId4"/>
          <a:stretch/>
        </p:blipFill>
        <p:spPr>
          <a:xfrm>
            <a:off x="0" y="1989000"/>
            <a:ext cx="197964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2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Такую воду очищают более тщательно: на специальных станциях водоподготовки ее пропускают через фильтры, связывают загрязнители с веществами-коагулянтами, а перед подачей в водопровод обеззараживают, убивая микроорганизмы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3" name="Picture 7" descr=""/>
          <p:cNvPicPr/>
          <p:nvPr/>
        </p:nvPicPr>
        <p:blipFill>
          <a:blip r:embed="rId1"/>
          <a:stretch/>
        </p:blipFill>
        <p:spPr>
          <a:xfrm>
            <a:off x="6372360" y="4518000"/>
            <a:ext cx="2579400" cy="21430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8" descr="J0076135"/>
          <p:cNvPicPr/>
          <p:nvPr/>
        </p:nvPicPr>
        <p:blipFill>
          <a:blip r:embed="rId2"/>
          <a:stretch/>
        </p:blipFill>
        <p:spPr>
          <a:xfrm>
            <a:off x="6877080" y="260280"/>
            <a:ext cx="212400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13:19:43Z</dcterms:created>
  <dc:creator>Мася</dc:creator>
  <dc:description/>
  <dc:language>en-US</dc:language>
  <cp:lastModifiedBy>Анатолич</cp:lastModifiedBy>
  <dcterms:modified xsi:type="dcterms:W3CDTF">2020-04-03T07:32:32Z</dcterms:modified>
  <cp:revision>29</cp:revision>
  <dc:subject/>
  <dc:title>Слайд 1</dc:title>
</cp:coreProperties>
</file>