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gif" ContentType="image/gif"/>
  <Override PartName="/ppt/media/image24.gif" ContentType="image/gif"/>
  <Override PartName="/ppt/media/image21.gif" ContentType="image/gif"/>
  <Override PartName="/ppt/media/image20.png" ContentType="image/png"/>
  <Override PartName="/ppt/media/image36.jpeg" ContentType="image/jpeg"/>
  <Override PartName="/ppt/media/image19.jpeg" ContentType="image/jpeg"/>
  <Override PartName="/ppt/media/image2.gif" ContentType="image/gif"/>
  <Override PartName="/ppt/media/image3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34.png" ContentType="image/png"/>
  <Override PartName="/ppt/media/image9.wmf" ContentType="image/x-wmf"/>
  <Override PartName="/ppt/media/image11.gif" ContentType="image/gif"/>
  <Override PartName="/ppt/media/image23.png" ContentType="image/png"/>
  <Override PartName="/ppt/media/image13.jpeg" ContentType="image/jpeg"/>
  <Override PartName="/ppt/media/image31.png" ContentType="image/png"/>
  <Override PartName="/ppt/media/image3.gif" ContentType="image/gif"/>
  <Override PartName="/ppt/media/image6.gif" ContentType="image/gif"/>
  <Override PartName="/ppt/media/image29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35.jpeg" ContentType="image/jpeg"/>
  <Override PartName="/ppt/media/image25.gif" ContentType="image/gif"/>
  <Override PartName="/ppt/media/image30.png" ContentType="image/png"/>
  <Override PartName="/ppt/media/image37.jpeg" ContentType="image/jpeg"/>
  <Override PartName="/ppt/media/image39.gif" ContentType="image/gif"/>
  <Override PartName="/ppt/media/image12.png" ContentType="image/png"/>
  <Override PartName="/ppt/media/image10.wmf" ContentType="image/x-wmf"/>
  <Override PartName="/ppt/media/image17.jpeg" ContentType="image/jpeg"/>
  <Override PartName="/ppt/media/image18.jpeg" ContentType="image/jpeg"/>
  <Override PartName="/ppt/media/image22.gif" ContentType="image/gif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25B-86EC-4576-8BCB-447D66EB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810-761F-4437-9D16-41FDCDBB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CDC25-7564-49F2-AD0E-0636DFBE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CFED6-F7D6-4009-A9EB-F684F10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8DFCB-D1CC-4EA9-99BB-698F3F5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83B88-4E99-47A3-B730-5B3E198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22BD-EC54-457F-8E98-871C2AE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051AC-30CB-4E06-86C5-0B24464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D001-BEF6-4F94-B80A-14A0A12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27C0-2601-4AD1-9D8F-F3025B80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EE878-0D05-4947-8F2D-0A38B0C7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9D21C-9F4D-406F-A80A-A2B37E44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7EB-5A57-4C6D-A42F-F6DC3011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57C46-5E2B-49EA-A6C3-40DED376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C13A-CBB2-4841-9107-5CB89D71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0A9F-7DED-4FEE-9814-90A4057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9E55E-9EE3-49F2-A018-64576A0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33270-182E-4892-B901-7FB5C3D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44710-8C43-4334-A7DE-28A4AB7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D736-5CCB-436F-ABC1-8DF3560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075EB-DF29-4D59-A8D8-0106042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DC3B5-DF5F-4BF8-B5D3-41E916B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106B-8B6A-4D7D-93E7-E52A655C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C8C-A159-4872-AFD5-03312234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0BD5B-78C8-4CE1-B2B6-093E9495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5DA6-1912-44F2-9323-7D37EB55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6EB6A-A125-4E23-A395-9B3E50E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A349E-2CEA-4CEB-98A0-62648C45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DE28-28BF-42DF-91EF-84D92CF5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E0F04-74CC-4279-B8D6-E3208E68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FCCFF-B286-448B-B2B9-DDE757D8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A73C-51A0-40D1-AC1B-59F3A75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3F290-F7B9-4038-9804-1A134145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52940-54E9-4C56-8192-AEBB4B8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A73-DA02-48EF-A876-9F71C6B9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B3EEC-F18E-435D-A168-BD71951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FBF14-A15C-44F3-B110-DB258F48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DEBE3-E6C3-425A-8D88-539C51CC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2EBD-2BDE-4408-B27B-BE612F90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2380-A6FC-4DB3-80C9-3A8B6C2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FE622-9531-4ADB-8BD8-96C4C2D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FD001-639D-4824-8C86-FD74813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496CB-FED0-42C5-BD7F-962A6301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70EA5-BD3B-4D74-B366-D6B63B9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6E90-F6C2-4A85-B2D6-D83FDDA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8661-0B3C-4D94-AE7A-3CDC19DE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DC3A-0A79-4A2B-B236-3F6089C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14899-780D-442F-8E79-DE4AC2E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96E8A-97F6-4226-A339-B7200A7C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7ADF5-F42C-46A6-8AC1-1909F8A7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A7C75-3058-49A0-9BEE-586B1C50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44E4-F7DC-4262-A152-6F7F3D1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801-BCE2-495F-B30A-1A51AAC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E46-3FAF-48FF-B6AA-2D4FC8E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EA1-72F0-4AEE-8871-DB42BF8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55C-D76F-4975-B0F5-4D4ED92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B64-21FF-4B88-8623-4E7F73BF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5B8-2D21-49CA-81B4-1316FF9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EC4-8D0A-4E47-89C9-885E4A1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9BAE-C015-4D1A-945A-CE120A6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37EC-EF73-49FB-961D-5DA44083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4FBB-BFEE-4045-B60C-4167D55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8FB7-6D59-4998-BCA4-BC7AB093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73B8-2AC6-450A-84D6-E3D7B03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89B1-AEFF-4132-9A88-4C117B5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42A7-D3E1-491A-BEB6-867C64BF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B89B-2939-4EF1-ADFC-491734D7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FFC-B0F7-4FEC-917E-E90D08FC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3FA5-7617-46B6-B843-C8D38E8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E223-DA49-4F1D-A2BE-4BEA137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875E-4716-498A-9702-A04B127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62B3-D545-4C7F-88E2-7729506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0C44-20C2-4EE9-9C56-987ED708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F710-7ED4-4C14-BE9E-DD208A97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2752-0488-41BC-B36E-C3DE78A4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0270-E13C-4166-AB9E-603ACBAA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3AEE-3946-4E9B-90B7-BFF294AE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DB9F-2600-42B6-A6B4-F524ABC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FA8-430F-4AC1-AB91-B1C4327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EF1B-0B1C-469C-86E1-35255D78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B876-7A45-453D-8F85-8BDBED62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128D-8698-4DF1-AA22-401A08F1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4E33-985A-4059-9F8C-693C203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D976-58D2-4400-9E64-5CC436E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0911-2113-4A47-A798-775AFCE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D994-6ED3-411D-A403-EFE31C3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2CA0-AAB9-4AE0-81CF-65A82EE5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86AE-93BA-48FE-9509-5E771B4A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7251-7038-46B1-A172-CCD1296B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C48-43BC-4906-A578-EC146E1F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77DC-7A0E-4E8C-9EB3-A51FDF6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4E0A-11B0-4F0C-B441-8507435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E27E8-EF76-4389-B2B7-056DC82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3E2F-1976-40BE-99D7-553ADEEC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F013-46E7-4B75-986E-1E1FBAE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53EA-0359-4B63-B9F8-018AAE2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3AAD-E807-46B5-A570-26E8F92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189C-80D9-4BD6-80DC-FB10682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CCAD-2DF2-4606-B56B-F5BE7161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668A7-7329-429A-92C9-16A64CAC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9DD-7114-4DE5-8295-F2C5925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7E58-9674-44C4-A4C3-D593E75D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D493-6135-4FFA-9595-1D88172F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9894-2DCE-4F92-8896-12F8E7C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BB99-875D-466D-B9B7-0FB74FCD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D03A2-B8DE-4EED-B54C-AF8F184F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22BD-7D0D-4ED0-A373-5A8F9407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C85F-F0AE-4100-9FF6-CB9B5626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B7CFF-CE7A-463D-B24A-C08A746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68AC-DE8A-452A-AE7E-CAC3C33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D577-D422-4D7A-901B-3740EC2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045-6FF3-4E17-B98E-760D01F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9E76-42C6-4D90-82A4-A98841C7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E6BB-A559-4F94-8262-7111D2BC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B4B6-9193-4C5B-83E7-C65333FE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803B-20DD-4FD3-A198-F12F4306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32BF-13AD-4802-BF80-AC3B33C5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DA084-D7BF-4F89-9903-BD42D69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EC4C0-78CB-4027-A4AD-33AD41CD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0BED-D1CE-40F1-923F-905943F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8F60-95F6-4A66-AEBB-FED0B43A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5D71F-3204-49C0-8E4D-A0BFDD8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48B-3F11-446F-B86A-8628BDF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B380-82BE-42FB-B790-C0F89B1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B68E-83EC-431E-9681-81D0334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A785-5E67-42D7-83E6-948F68B7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1440-55AD-44BE-9218-392D586F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58C5-02D1-472E-9F2E-56D12FEC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36924-AD94-4700-86E6-16AE1BC3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B6AA1-DD79-4FE1-AB41-3A76BF8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CDCCB-496A-4A9E-9988-E3903524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4D45C-8C9B-446D-9CE9-ED37D30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23C19-8A25-47CD-A10F-84719F2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1D3-9893-45B2-B73B-5D55E95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5F35B-5188-4992-8B8D-019328E2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14A9E8-0E9F-4012-876D-271E350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CA1DD-14C7-4D95-88B1-BC3421E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FDE38-644B-40D7-ADFB-016B10F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35A17-DF0E-4485-99FF-3D63EF3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92F38-88C9-4BB0-BF31-AE3447AF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3C18D-5A2C-425C-94D1-21AAB28F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57F1E-E709-4986-97A8-9AAC7B84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3F855-386E-4790-AE01-1A97F399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967C7-E172-498C-A2EB-01468B26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A36-43F9-41E9-9486-DEBA615B63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3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A93-5F2B-4C4C-8BDC-A3D206E3E4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8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EBBB-4E2B-418A-AC95-1D57209DC0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2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5778-DEE4-444F-AD9B-8025DB5629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AAD-65DA-4B6D-87FC-0A08CA03F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213-506E-4E9D-B11D-954F256C5F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D1B-3288-4E4D-807B-E0C10C58F9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2CB-F793-46D3-AFD3-916F87183B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E3A-34D1-49BE-8E2F-926348FE27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E23-6764-43D4-9ADA-668B29E856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DEE-BF10-4BE9-92B6-E98ACF9A87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21E-00A6-47A0-A2F8-32AF01B0D5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4"/>
          <p:cNvSpPr txBox="1"/>
          <p:nvPr/>
        </p:nvSpPr>
        <p:spPr>
          <a:xfrm rot="21372000">
            <a:off x="1906200" y="1035000"/>
            <a:ext cx="684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чество   питьевой   вр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7" name="Picture 8" descr="00000001"/>
          <p:cNvPicPr/>
          <p:nvPr/>
        </p:nvPicPr>
        <p:blipFill>
          <a:blip r:embed="rId1"/>
          <a:stretch/>
        </p:blipFill>
        <p:spPr>
          <a:xfrm>
            <a:off x="6568920" y="5013360"/>
            <a:ext cx="927360" cy="1482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00000001"/>
          <p:cNvPicPr/>
          <p:nvPr/>
        </p:nvPicPr>
        <p:blipFill>
          <a:blip r:embed="rId2"/>
          <a:stretch/>
        </p:blipFill>
        <p:spPr>
          <a:xfrm>
            <a:off x="2340000" y="765000"/>
            <a:ext cx="1814400" cy="2901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14r5"/>
          <p:cNvPicPr/>
          <p:nvPr/>
        </p:nvPicPr>
        <p:blipFill>
          <a:blip r:embed="rId3"/>
          <a:stretch/>
        </p:blipFill>
        <p:spPr>
          <a:xfrm>
            <a:off x="324000" y="98100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580" name="WordArt 12"/>
          <p:cNvSpPr txBox="1"/>
          <p:nvPr/>
        </p:nvSpPr>
        <p:spPr>
          <a:xfrm>
            <a:off x="1187280" y="3933720"/>
            <a:ext cx="4658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ода дороже золота" -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1187280" y="458136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твержда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дуины, всю жизнь кочевавшие в пес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4" descr="013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524720" y="3789360"/>
            <a:ext cx="11397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дземные источники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скважины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88892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итьевом водоснабж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дземные воды име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начительные преимущества пер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оверхностными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 из артезианских подземных источни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правило, более чистая: ведь загрязнител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верхности не так-то просто до н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раться. Зато в ней обычно больш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воренных солей кальция и магния, т.е. о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ется более жест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index"/>
          <p:cNvPicPr/>
          <p:nvPr/>
        </p:nvPicPr>
        <p:blipFill>
          <a:blip r:embed="rId1"/>
          <a:stretch/>
        </p:blipFill>
        <p:spPr>
          <a:xfrm>
            <a:off x="7308720" y="476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Перед подачей в водопровод качество воды контролируется - она должна соответствовать Государственному Стандарту, в котором указаны предельно допустимые концентрации (ПДК) для различных загрязняющих веществ. ПДК - безопасный уровень содержания загрязнителей: если какое-либо вещество содержится в воде в концентрации, меньшей, чем предельно допустимая, такую воду можно без вреда для здоровья употреблять хоть всю жизн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660033"/>
                </a:solidFill>
                <a:latin typeface="Times New Roman"/>
              </a:rPr>
              <a:t>Основным показателем качества воды считается ее влияние на здоровье челове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Прежде всего, качество питьевой вод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определяется по её "внешнему виду"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то есть</a:t>
            </a:r>
            <a:r>
              <a:rPr b="1" lang="ru-RU" sz="21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cccc"/>
                </a:solidFill>
                <a:latin typeface="Times New Roman"/>
              </a:rPr>
              <a:t>по органолептическим показателям</a:t>
            </a:r>
            <a:r>
              <a:rPr b="1" lang="ru-RU" sz="21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ru-RU" sz="21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мутность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цветность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запах,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6600"/>
                </a:solidFill>
                <a:latin typeface="Times New Roman"/>
              </a:rPr>
              <a:t>привкус.</a:t>
            </a:r>
            <a:r>
              <a:rPr b="0" lang="ru-R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324000" y="260280"/>
            <a:ext cx="85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468360" y="126720"/>
            <a:ext cx="835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Гигиенические треб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к чистоте питьевой вод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3"/>
          <p:cNvPicPr/>
          <p:nvPr/>
        </p:nvPicPr>
        <p:blipFill>
          <a:blip r:embed="rId1"/>
          <a:stretch/>
        </p:blipFill>
        <p:spPr>
          <a:xfrm>
            <a:off x="6948360" y="4076640"/>
            <a:ext cx="1995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193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требования к физическим свойствам в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тсутствие неприятного запаха, вкуса, цве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инерализация питьевой воды не долж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евышать 1 г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жесткость питьевой воды (содержание в воде ионов кальция и магния) не должна превышать 7 мг-экв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держание железа в питьевой воде - не более 0.3 мг/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начения рН питьевой воды должны находиться в пределах 6.5-9.5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нцентрация нитратного иона в питьевой воде не должна превышать 50 мг/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7c80"/>
                </a:solidFill>
                <a:latin typeface="Times New Roman"/>
              </a:rPr>
              <a:t>Важное значение имеет характеристика микробиологического состояния питьевой воды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ли-индекс- отсутствие; общее микробное число - не более 50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Picture 4" descr="2"/>
          <p:cNvPicPr/>
          <p:nvPr/>
        </p:nvPicPr>
        <p:blipFill>
          <a:blip r:embed="rId1"/>
          <a:stretch/>
        </p:blipFill>
        <p:spPr>
          <a:xfrm>
            <a:off x="7894800" y="836640"/>
            <a:ext cx="1249200" cy="2073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AG00032_"/>
          <p:cNvPicPr/>
          <p:nvPr/>
        </p:nvPicPr>
        <p:blipFill>
          <a:blip r:embed="rId2"/>
          <a:stretch/>
        </p:blipFill>
        <p:spPr>
          <a:xfrm>
            <a:off x="324000" y="189000"/>
            <a:ext cx="1409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22000000"/>
          <p:cNvPicPr/>
          <p:nvPr/>
        </p:nvPicPr>
        <p:blipFill>
          <a:blip r:embed="rId1"/>
          <a:stretch/>
        </p:blipFill>
        <p:spPr>
          <a:xfrm>
            <a:off x="468360" y="1628640"/>
            <a:ext cx="4968720" cy="2152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23000000"/>
          <p:cNvPicPr/>
          <p:nvPr/>
        </p:nvPicPr>
        <p:blipFill>
          <a:blip r:embed="rId2"/>
          <a:stretch/>
        </p:blipFill>
        <p:spPr>
          <a:xfrm>
            <a:off x="4572000" y="4292640"/>
            <a:ext cx="3889440" cy="16858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24000000"/>
          <p:cNvPicPr/>
          <p:nvPr/>
        </p:nvPicPr>
        <p:blipFill>
          <a:blip r:embed="rId3"/>
          <a:stretch/>
        </p:blipFill>
        <p:spPr>
          <a:xfrm>
            <a:off x="468360" y="4149720"/>
            <a:ext cx="3600360" cy="1560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atollfil"/>
          <p:cNvPicPr/>
          <p:nvPr/>
        </p:nvPicPr>
        <p:blipFill>
          <a:blip r:embed="rId4"/>
          <a:stretch/>
        </p:blipFill>
        <p:spPr>
          <a:xfrm>
            <a:off x="5651640" y="1484280"/>
            <a:ext cx="2089080" cy="736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button02"/>
          <p:cNvPicPr/>
          <p:nvPr/>
        </p:nvPicPr>
        <p:blipFill>
          <a:blip r:embed="rId5"/>
          <a:stretch/>
        </p:blipFill>
        <p:spPr>
          <a:xfrm>
            <a:off x="6516720" y="2421000"/>
            <a:ext cx="2017800" cy="71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ecowater"/>
          <p:cNvPicPr/>
          <p:nvPr/>
        </p:nvPicPr>
        <p:blipFill>
          <a:blip r:embed="rId6"/>
          <a:stretch/>
        </p:blipFill>
        <p:spPr>
          <a:xfrm>
            <a:off x="5651640" y="3357720"/>
            <a:ext cx="2089080" cy="736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8"/>
          <p:cNvSpPr/>
          <p:nvPr/>
        </p:nvSpPr>
        <p:spPr>
          <a:xfrm>
            <a:off x="179280" y="163800"/>
            <a:ext cx="82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способов снизить риск различных заболеваний, связанных с использованием некачественной воды – это примен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ФИЛЬТРОВ   ДЛЯ   ВОДЫ И  СИСТЕМ   ОЧИСТКИ   ВОДЫ   ДЛЯ  БЫТОВЫХ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ПРОМЫШЛЕННЫХ   НУЖД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бутилированной воды также частично решает проблему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338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о, но там, где находятся богатейшие месторождения "голубого золота", все чаще люди вынуждены покупать питьевую воду. Бутилированная вода в магазинах не залеж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00010558"/>
          <p:cNvPicPr/>
          <p:nvPr/>
        </p:nvPicPr>
        <p:blipFill>
          <a:blip r:embed="rId1"/>
          <a:stretch/>
        </p:blipFill>
        <p:spPr>
          <a:xfrm>
            <a:off x="4067280" y="4365720"/>
            <a:ext cx="2305080" cy="18255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00010559"/>
          <p:cNvPicPr/>
          <p:nvPr/>
        </p:nvPicPr>
        <p:blipFill>
          <a:blip r:embed="rId2"/>
          <a:stretch/>
        </p:blipFill>
        <p:spPr>
          <a:xfrm>
            <a:off x="6372360" y="1197000"/>
            <a:ext cx="2449440" cy="16336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00010609"/>
          <p:cNvPicPr/>
          <p:nvPr/>
        </p:nvPicPr>
        <p:blipFill>
          <a:blip r:embed="rId3"/>
          <a:stretch/>
        </p:blipFill>
        <p:spPr>
          <a:xfrm>
            <a:off x="4067280" y="1413000"/>
            <a:ext cx="1871640" cy="2808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00010686"/>
          <p:cNvPicPr/>
          <p:nvPr/>
        </p:nvPicPr>
        <p:blipFill>
          <a:blip r:embed="rId4"/>
          <a:stretch/>
        </p:blipFill>
        <p:spPr>
          <a:xfrm>
            <a:off x="6588000" y="3284640"/>
            <a:ext cx="2197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99"/>
          <p:cNvPicPr/>
          <p:nvPr/>
        </p:nvPicPr>
        <p:blipFill>
          <a:blip r:embed="rId1"/>
          <a:stretch/>
        </p:blipFill>
        <p:spPr>
          <a:xfrm>
            <a:off x="826920" y="220680"/>
            <a:ext cx="1584360" cy="1231920"/>
          </a:xfrm>
          <a:prstGeom prst="rect">
            <a:avLst/>
          </a:prstGeom>
          <a:ln w="0">
            <a:noFill/>
          </a:ln>
        </p:spPr>
      </p:pic>
      <p:sp>
        <p:nvSpPr>
          <p:cNvPr id="640" name="WordArt 6"/>
          <p:cNvSpPr txBox="1"/>
          <p:nvPr/>
        </p:nvSpPr>
        <p:spPr>
          <a:xfrm>
            <a:off x="0" y="1844640"/>
            <a:ext cx="9144000" cy="27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66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66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25 веков назад во время одного из походов в западной части Египта в бездонных песках Сахары бесследно исчезла могущественная 50-тысячная армия персидского царя Камбиса. Их всех убила «одна карающая рука», неумолимая и безжалостная – жажда.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115640" y="3789360"/>
            <a:ext cx="7488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 является важным элементом живого органического мира. Жизнь зародилась в водной среде. Для многих видов животных и растений вода продолжает оставаться средой обитания. Вода является основной средой в клетке, где осуществляются все реакции и процессы метаболизма. Живые организмы состоят не менее, чем на 3/4 из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2пf1"/>
          <p:cNvPicPr/>
          <p:nvPr/>
        </p:nvPicPr>
        <p:blipFill>
          <a:blip r:embed="rId1"/>
          <a:stretch/>
        </p:blipFill>
        <p:spPr>
          <a:xfrm>
            <a:off x="179280" y="836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152"/>
          <p:cNvPicPr/>
          <p:nvPr/>
        </p:nvPicPr>
        <p:blipFill>
          <a:blip r:embed="rId2"/>
          <a:stretch/>
        </p:blipFill>
        <p:spPr>
          <a:xfrm>
            <a:off x="250920" y="2276640"/>
            <a:ext cx="1260360" cy="15825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2пf1"/>
          <p:cNvPicPr/>
          <p:nvPr/>
        </p:nvPicPr>
        <p:blipFill>
          <a:blip r:embed="rId3"/>
          <a:stretch/>
        </p:blipFill>
        <p:spPr>
          <a:xfrm>
            <a:off x="179280" y="836640"/>
            <a:ext cx="1368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круговорот воды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52000" cy="6832440"/>
          </a:xfrm>
          <a:prstGeom prst="rect">
            <a:avLst/>
          </a:prstGeom>
          <a:ln w="57240">
            <a:solidFill>
              <a:srgbClr val="cc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60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за вода течет из нашего кра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кие вещества содержатся в н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сколько безопасно ее п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CITYSC"/>
          <p:cNvPicPr/>
          <p:nvPr/>
        </p:nvPicPr>
        <p:blipFill>
          <a:blip r:embed="rId4"/>
          <a:stretch/>
        </p:blipFill>
        <p:spPr>
          <a:xfrm>
            <a:off x="5796000" y="5229360"/>
            <a:ext cx="2957400" cy="1425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SODASTRW"/>
          <p:cNvPicPr/>
          <p:nvPr/>
        </p:nvPicPr>
        <p:blipFill>
          <a:blip r:embed="rId5"/>
          <a:stretch/>
        </p:blipFill>
        <p:spPr>
          <a:xfrm>
            <a:off x="3203640" y="328464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d072"/>
          <p:cNvPicPr/>
          <p:nvPr/>
        </p:nvPicPr>
        <p:blipFill>
          <a:blip r:embed="rId6"/>
          <a:stretch/>
        </p:blipFill>
        <p:spPr>
          <a:xfrm>
            <a:off x="3635280" y="1341360"/>
            <a:ext cx="1104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 разных районах страны 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одопровод может подавать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66"/>
                </a:solidFill>
                <a:latin typeface="Times New Roman"/>
              </a:rPr>
              <a:t>во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Scan0004"/>
          <p:cNvPicPr/>
          <p:nvPr/>
        </p:nvPicPr>
        <p:blipFill>
          <a:blip r:embed="rId1"/>
          <a:stretch/>
        </p:blipFill>
        <p:spPr>
          <a:xfrm>
            <a:off x="684360" y="2565360"/>
            <a:ext cx="7850160" cy="396864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18900000" blurRad="0" rotWithShape="0">
              <a:srgbClr val="cc00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Times New Roman"/>
              </a:rPr>
              <a:t>из поверхностных источников: рек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96" name="Picture 4" descr="DSCN0004"/>
          <p:cNvPicPr/>
          <p:nvPr/>
        </p:nvPicPr>
        <p:blipFill>
          <a:blip r:embed="rId1"/>
          <a:stretch/>
        </p:blipFill>
        <p:spPr>
          <a:xfrm>
            <a:off x="900000" y="134136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PICT0050"/>
          <p:cNvPicPr/>
          <p:nvPr/>
        </p:nvPicPr>
        <p:blipFill>
          <a:blip r:embed="rId2"/>
          <a:stretch/>
        </p:blipFill>
        <p:spPr>
          <a:xfrm>
            <a:off x="5219640" y="134136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3"/>
          <a:stretch/>
        </p:blipFill>
        <p:spPr>
          <a:xfrm>
            <a:off x="4500720" y="4241880"/>
            <a:ext cx="4300560" cy="20937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OCNWAVE"/>
          <p:cNvPicPr/>
          <p:nvPr/>
        </p:nvPicPr>
        <p:blipFill>
          <a:blip r:embed="rId4"/>
          <a:stretch/>
        </p:blipFill>
        <p:spPr>
          <a:xfrm>
            <a:off x="4067280" y="2276640"/>
            <a:ext cx="955440" cy="95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3" descr="Nature_20"/>
          <p:cNvPicPr/>
          <p:nvPr/>
        </p:nvPicPr>
        <p:blipFill>
          <a:blip r:embed="rId5"/>
          <a:stretch/>
        </p:blipFill>
        <p:spPr>
          <a:xfrm>
            <a:off x="900000" y="4005360"/>
            <a:ext cx="30178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озер, водохранилищ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02" name="Picture 5" descr="Nature_06"/>
          <p:cNvPicPr/>
          <p:nvPr/>
        </p:nvPicPr>
        <p:blipFill>
          <a:blip r:embed="rId1"/>
          <a:stretch/>
        </p:blipFill>
        <p:spPr>
          <a:xfrm>
            <a:off x="684360" y="1052640"/>
            <a:ext cx="7777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Поверхностна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обычно сильнее подвержена загрязнению: в водоемы могут попадать стоки предприятий и ферм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4" descr="инкубатор"/>
          <p:cNvPicPr/>
          <p:nvPr/>
        </p:nvPicPr>
        <p:blipFill>
          <a:blip r:embed="rId1"/>
          <a:stretch/>
        </p:blipFill>
        <p:spPr>
          <a:xfrm>
            <a:off x="1835280" y="2762280"/>
            <a:ext cx="2593800" cy="19461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605" name="Picture 5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166920" cy="23544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606" name="Text Box 6"/>
          <p:cNvSpPr/>
          <p:nvPr/>
        </p:nvSpPr>
        <p:spPr>
          <a:xfrm>
            <a:off x="4716360" y="2349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4500720" y="2060640"/>
            <a:ext cx="41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адать кислотные                                  дож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539640" y="49608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684360" y="472428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ей могут размножаться микроскопические водоросли или даже болезнетворные микроорг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4" descr="cat5"/>
          <p:cNvPicPr/>
          <p:nvPr/>
        </p:nvPicPr>
        <p:blipFill>
          <a:blip r:embed="rId3"/>
          <a:stretch/>
        </p:blipFill>
        <p:spPr>
          <a:xfrm>
            <a:off x="7812000" y="5229360"/>
            <a:ext cx="1139760" cy="13683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AG00210_"/>
          <p:cNvPicPr/>
          <p:nvPr/>
        </p:nvPicPr>
        <p:blipFill>
          <a:blip r:embed="rId4"/>
          <a:stretch/>
        </p:blipFill>
        <p:spPr>
          <a:xfrm>
            <a:off x="0" y="1989000"/>
            <a:ext cx="19796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кую воду очищают более тщательно: на специальных станциях водоподготовки ее пропускают через фильтры, связывают загрязнители с веществами-коагулянтами, а перед подачей в водопровод обеззараживают, убивая микроорганиз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6372360" y="4518000"/>
            <a:ext cx="2579400" cy="2143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J0076135"/>
          <p:cNvPicPr/>
          <p:nvPr/>
        </p:nvPicPr>
        <p:blipFill>
          <a:blip r:embed="rId2"/>
          <a:stretch/>
        </p:blipFill>
        <p:spPr>
          <a:xfrm>
            <a:off x="6877080" y="260280"/>
            <a:ext cx="2124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3:19:43Z</dcterms:created>
  <dc:creator>Мася</dc:creator>
  <dc:description/>
  <dc:language>en-US</dc:language>
  <cp:lastModifiedBy>Анатолич</cp:lastModifiedBy>
  <dcterms:modified xsi:type="dcterms:W3CDTF">2020-04-03T07:32:32Z</dcterms:modified>
  <cp:revision>29</cp:revision>
  <dc:subject/>
  <dc:title>Слайд 1</dc:title>
</cp:coreProperties>
</file>