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gif" ContentType="image/gif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9.gif" ContentType="image/gif"/>
  <Override PartName="/ppt/media/image24.jpeg" ContentType="image/jpeg"/>
  <Override PartName="/ppt/media/image5.png" ContentType="image/png"/>
  <Override PartName="/ppt/media/image25.gif" ContentType="image/gif"/>
  <Override PartName="/ppt/media/image3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13.jpeg" ContentType="image/jpeg"/>
  <Override PartName="/ppt/media/image34.jpeg" ContentType="image/jpeg"/>
  <Override PartName="/ppt/media/image35.gif" ContentType="image/gif"/>
  <Override PartName="/ppt/media/image38.png" ContentType="image/png"/>
  <Override PartName="/ppt/media/image33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7.gif" ContentType="image/gif"/>
  <Override PartName="/ppt/media/image39.wmf" ContentType="image/x-wmf"/>
  <Override PartName="/ppt/media/image40.gif" ContentType="image/gif"/>
  <Override PartName="/ppt/media/image15.jpeg" ContentType="image/jpeg"/>
  <Override PartName="/ppt/media/image11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994-B639-4A49-A99E-B24E6F9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418-0E3B-461F-AB2B-DFA9A3A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68F-58C9-4911-A15D-0A31651E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F78-67A6-4B79-8091-27469AB7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5B9-3D6B-4FAA-92CF-663C1CC5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7DA-DD01-4671-9A68-E9F05F5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178-58A8-4246-8789-0B472CD5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FCA-2589-4ACE-8693-8558729C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353-E659-4AC0-BC6F-610873C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C0F-644A-486C-AAC1-2217D4E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0C4-5187-45B7-A89D-6DF0CA7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D36-B9EF-48EC-BA10-71BBB88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CFC5-B1EA-4CFE-AE15-B2D50539F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.jpeg"/><Relationship Id="rId6" Type="http://schemas.openxmlformats.org/officeDocument/2006/relationships/image" Target="../media/image19.jpeg"/><Relationship Id="rId7" Type="http://schemas.openxmlformats.org/officeDocument/2006/relationships/image" Target="../media/image16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7.jpeg"/><Relationship Id="rId3" Type="http://schemas.openxmlformats.org/officeDocument/2006/relationships/image" Target="../media/image27.gif"/><Relationship Id="rId4" Type="http://schemas.openxmlformats.org/officeDocument/2006/relationships/image" Target="../media/image38.png"/><Relationship Id="rId5" Type="http://schemas.openxmlformats.org/officeDocument/2006/relationships/image" Target="../media/image31.jpeg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71560" y="206280"/>
            <a:ext cx="685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общение изучен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 теме « Дом. Мебе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YECA6MLHGXCA97N9CCCA0LJ49ACAXJY6BPCAHFR4CZCAFHIOXOCA0PY8FVCA76PTZ6CA7GXZDTCAFC84PRCAYYYD33CAV2N2GXCAJB4A4DCAAVC879CA5HE2AXCA04LKM0CAYPRJ5BCA0IWUKACA5JX28B"/>
          <p:cNvPicPr/>
          <p:nvPr/>
        </p:nvPicPr>
        <p:blipFill>
          <a:blip r:embed="rId2"/>
          <a:stretch/>
        </p:blipFill>
        <p:spPr>
          <a:xfrm>
            <a:off x="380880" y="3611520"/>
            <a:ext cx="4496040" cy="2925720"/>
          </a:xfrm>
          <a:prstGeom prst="rect">
            <a:avLst/>
          </a:prstGeom>
          <a:ln w="76320">
            <a:solidFill>
              <a:srgbClr val="cc00cc"/>
            </a:solidFill>
            <a:miter/>
          </a:ln>
        </p:spPr>
      </p:pic>
      <p:pic>
        <p:nvPicPr>
          <p:cNvPr id="43" name="Picture 9" descr="1OCA748PZFCA82A7GBCASNQTX2CAB3UONHCA4STM6LCAPFRCXOCAHJXKVACAOXOKKGCAPASCZJCA8BVB95CARXJKF3CA1T0CFCCAPP7RHNCAPUPX6NCAYW5FWZCA6AIWN0CA3U96OTCAJKSMJECAW78OBQ"/>
          <p:cNvPicPr/>
          <p:nvPr/>
        </p:nvPicPr>
        <p:blipFill>
          <a:blip r:embed="rId3"/>
          <a:stretch/>
        </p:blipFill>
        <p:spPr>
          <a:xfrm>
            <a:off x="5943600" y="3352680"/>
            <a:ext cx="2666880" cy="32004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245598899_44-2-f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лошадь1"/>
          <p:cNvPicPr/>
          <p:nvPr/>
        </p:nvPicPr>
        <p:blipFill>
          <a:blip r:embed="rId2"/>
          <a:stretch/>
        </p:blipFill>
        <p:spPr>
          <a:xfrm>
            <a:off x="152280" y="3733920"/>
            <a:ext cx="4191120" cy="3128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61400" y="0"/>
            <a:ext cx="729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-t-k- p-t-k- p-t-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90426-1050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79" name="Picture 6" descr="www"/>
          <p:cNvPicPr/>
          <p:nvPr/>
        </p:nvPicPr>
        <p:blipFill>
          <a:blip r:embed="rId2"/>
          <a:stretch/>
        </p:blipFill>
        <p:spPr>
          <a:xfrm rot="10675200">
            <a:off x="1434960" y="3580920"/>
            <a:ext cx="2819520" cy="1219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80" name="Picture 7" descr="6WCAKYIGANCA7EPIT8CASIKMQBCAM721DZCA704ZD5CAPUSWJ5CAW8P5KOCANO5EG2CACKQOK7CAKET9JRCA5Z0EYHCABLQ8N7CAZ3GBG1CAELGVMQCAVI7HFECAN5ICXVCACARAM4CAJ0TQ97CALVKU7O"/>
          <p:cNvPicPr/>
          <p:nvPr/>
        </p:nvPicPr>
        <p:blipFill>
          <a:blip r:embed="rId3"/>
          <a:stretch/>
        </p:blipFill>
        <p:spPr>
          <a:xfrm>
            <a:off x="6580080" y="3124080"/>
            <a:ext cx="1573200" cy="2133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81" name="Picture 8" descr="22CAG3SNHJCA1LH5X3CA87HNGGCA2J2JOICAGN7STOCACJAYTWCAZNY0QPCAOSF26GCA35I00VCAKYGOD5CA5JESVECAXUGNGVCA223FKPCASUG8T4CARAU10XCAX0K6ZBCAAM94H1CAS91H4WCA9UKOT0"/>
          <p:cNvPicPr/>
          <p:nvPr/>
        </p:nvPicPr>
        <p:blipFill>
          <a:blip r:embed="rId4"/>
          <a:stretch/>
        </p:blipFill>
        <p:spPr>
          <a:xfrm>
            <a:off x="4495680" y="1828800"/>
            <a:ext cx="1143000" cy="2362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82" name="Picture 9" descr="YECA6MLHGXCA97N9CCCA0LJ49ACAXJY6BPCAHFR4CZCAFHIOXOCA0PY8FVCA76PTZ6CA7GXZDTCAFC84PRCAYYYD33CAV2N2GXCAJB4A4DCAAVC879CA5HE2AXCA04LKM0CAYPRJ5BCA0IWUKACA5JX28B"/>
          <p:cNvPicPr/>
          <p:nvPr/>
        </p:nvPicPr>
        <p:blipFill>
          <a:blip r:embed="rId5"/>
          <a:stretch/>
        </p:blipFill>
        <p:spPr>
          <a:xfrm>
            <a:off x="0" y="4924440"/>
            <a:ext cx="2971800" cy="19335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83" name="Picture 10" descr="кресло"/>
          <p:cNvPicPr/>
          <p:nvPr/>
        </p:nvPicPr>
        <p:blipFill>
          <a:blip r:embed="rId6"/>
          <a:stretch/>
        </p:blipFill>
        <p:spPr>
          <a:xfrm>
            <a:off x="7391520" y="5111640"/>
            <a:ext cx="1828800" cy="18226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84" name="Line 13"/>
          <p:cNvSpPr/>
          <p:nvPr/>
        </p:nvSpPr>
        <p:spPr>
          <a:xfrm>
            <a:off x="6095880" y="2666880"/>
            <a:ext cx="381240" cy="38124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 flipH="1">
            <a:off x="5791320" y="2666880"/>
            <a:ext cx="304560" cy="30492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6477120" y="3048120"/>
            <a:ext cx="0" cy="114300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5791320" y="2971800"/>
            <a:ext cx="0" cy="114300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www"/>
          <p:cNvPicPr/>
          <p:nvPr/>
        </p:nvPicPr>
        <p:blipFill>
          <a:blip r:embed="rId7"/>
          <a:stretch/>
        </p:blipFill>
        <p:spPr>
          <a:xfrm rot="21412200">
            <a:off x="1434600" y="3504960"/>
            <a:ext cx="2819520" cy="12189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89" name="Picture 18" descr="6WCAKYIGANCA7EPIT8CASIKMQBCAM721DZCA704ZD5CAPUSWJ5CAW8P5KOCANO5EG2CACKQOK7CAKET9JRCA5Z0EYHCABLQ8N7CAZ3GBG1CAELGVMQCAVI7HFECAN5ICXVCACARAM4CAJ0TQ97CALVKU7O"/>
          <p:cNvPicPr/>
          <p:nvPr/>
        </p:nvPicPr>
        <p:blipFill>
          <a:blip r:embed="rId8"/>
          <a:stretch/>
        </p:blipFill>
        <p:spPr>
          <a:xfrm>
            <a:off x="6580080" y="3048120"/>
            <a:ext cx="1573200" cy="2133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90" name="Picture 19" descr="22CAG3SNHJCA1LH5X3CA87HNGGCA2J2JOICAGN7STOCACJAYTWCAZNY0QPCAOSF26GCA35I00VCAKYGOD5CA5JESVECAXUGNGVCA223FKPCASUG8T4CARAU10XCAX0K6ZBCAAM94H1CAS91H4WCA9UKOT0"/>
          <p:cNvPicPr/>
          <p:nvPr/>
        </p:nvPicPr>
        <p:blipFill>
          <a:blip r:embed="rId9"/>
          <a:stretch/>
        </p:blipFill>
        <p:spPr>
          <a:xfrm>
            <a:off x="4495680" y="1752480"/>
            <a:ext cx="1143000" cy="2362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91" name="Picture 20" descr="YECA6MLHGXCA97N9CCCA0LJ49ACAXJY6BPCAHFR4CZCAFHIOXOCA0PY8FVCA76PTZ6CA7GXZDTCAFC84PRCAYYYD33CAV2N2GXCAJB4A4DCAAVC879CA5HE2AXCA04LKM0CAYPRJ5BCA0IWUKACA5JX28B"/>
          <p:cNvPicPr/>
          <p:nvPr/>
        </p:nvPicPr>
        <p:blipFill>
          <a:blip r:embed="rId10"/>
          <a:stretch/>
        </p:blipFill>
        <p:spPr>
          <a:xfrm>
            <a:off x="0" y="4848120"/>
            <a:ext cx="2971800" cy="19335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92" name="Picture 21" descr="кресло"/>
          <p:cNvPicPr/>
          <p:nvPr/>
        </p:nvPicPr>
        <p:blipFill>
          <a:blip r:embed="rId11"/>
          <a:stretch/>
        </p:blipFill>
        <p:spPr>
          <a:xfrm>
            <a:off x="7391520" y="5035680"/>
            <a:ext cx="1828800" cy="18223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93" name="Cover.mp3" descr=""/>
          <p:cNvPicPr/>
          <p:nvPr/>
        </p:nvPicPr>
        <p:blipFill>
          <a:blip r:embed="rId1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4195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321060"/>
          <p:cNvPicPr/>
          <p:nvPr/>
        </p:nvPicPr>
        <p:blipFill>
          <a:blip r:embed="rId1"/>
          <a:stretch/>
        </p:blipFill>
        <p:spPr>
          <a:xfrm rot="19661400">
            <a:off x="-380520" y="0"/>
            <a:ext cx="9144000" cy="93726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 rot="5400000">
            <a:off x="1776960" y="1472040"/>
            <a:ext cx="6210360" cy="397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edtablesofaarmchairchairshelfwardrobe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8" descr="245016"/>
          <p:cNvPicPr/>
          <p:nvPr/>
        </p:nvPicPr>
        <p:blipFill>
          <a:blip r:embed="rId2"/>
          <a:stretch/>
        </p:blipFill>
        <p:spPr>
          <a:xfrm>
            <a:off x="-2057400" y="-76320"/>
            <a:ext cx="12420720" cy="7467840"/>
          </a:xfrm>
          <a:prstGeom prst="rect">
            <a:avLst/>
          </a:prstGeom>
          <a:ln w="0">
            <a:noFill/>
          </a:ln>
        </p:spPr>
      </p:pic>
      <p:pic>
        <p:nvPicPr>
          <p:cNvPr id="97" name="main_theme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608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6"/>
          <p:cNvSpPr txBox="1"/>
          <p:nvPr/>
        </p:nvSpPr>
        <p:spPr>
          <a:xfrm>
            <a:off x="0" y="380880"/>
            <a:ext cx="259092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a kitchen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6019920" y="380880"/>
            <a:ext cx="29718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a sitting-room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2971800" y="380880"/>
            <a:ext cx="26668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a bedroom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123720" y="41911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inner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782040" y="419112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658320" y="57913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57200" y="57913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ward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000" y="58672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writ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10200" y="426708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ar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9"/>
          <p:cNvPicPr/>
          <p:nvPr/>
        </p:nvPicPr>
        <p:blipFill>
          <a:blip r:embed="rId2"/>
          <a:stretch/>
        </p:blipFill>
        <p:spPr>
          <a:xfrm>
            <a:off x="2895480" y="4905360"/>
            <a:ext cx="3276720" cy="118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-0.33541 -0.44213 E">
                                      <p:cBhvr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-0.00121 -0.67546 E">
                                      <p:cBhvr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0.05747 -0.68658 E">
                                      <p:cBhvr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65486 -0.30879 E">
                                      <p:cBhvr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-0.68142 -0.3088 E">
                                      <p:cBhvr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30486 -0.53101 E">
                                      <p:cBhvr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-35640"/>
            <a:ext cx="297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 up, hands u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p, cla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s dow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p, ta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s on hip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d, be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 a litt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ce a litt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ke your bod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ke, sha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, sto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 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ake your s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 rot="1273200">
            <a:off x="4419720" y="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ave a rest!</a:t>
            </a:r>
            <a:endParaRPr b="1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0" name="Picture 8" descr="787e6214990e90b03faaa66b8ee59e48"/>
          <p:cNvPicPr/>
          <p:nvPr/>
        </p:nvPicPr>
        <p:blipFill>
          <a:blip r:embed="rId1"/>
          <a:stretch/>
        </p:blipFill>
        <p:spPr>
          <a:xfrm>
            <a:off x="5003640" y="2209680"/>
            <a:ext cx="3302280" cy="3962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2743200" y="0"/>
            <a:ext cx="4038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429000" y="609480"/>
            <a:ext cx="2514600" cy="5791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ock"/>
          <p:cNvSpPr/>
          <p:nvPr/>
        </p:nvSpPr>
        <p:spPr>
          <a:xfrm>
            <a:off x="2514600" y="2133720"/>
            <a:ext cx="2333520" cy="2895480"/>
          </a:xfrm>
          <a:custGeom>
            <a:avLst/>
            <a:gdLst>
              <a:gd name="textAreaLeft" fmla="*/ 80280 w 2333520"/>
              <a:gd name="textAreaRight" fmla="*/ 2283480 w 2333520"/>
              <a:gd name="textAreaTop" fmla="*/ 1327680 h 2895480"/>
              <a:gd name="textAreaBottom" fmla="*/ 2055600 h 289548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431160" y="160020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2288160" y="160020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1297800" y="16002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230760" y="160020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4803120" y="160020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5793480" y="160020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7362000" y="160020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29"/>
          <p:cNvSpPr/>
          <p:nvPr/>
        </p:nvSpPr>
        <p:spPr>
          <a:xfrm flipV="1">
            <a:off x="3124080" y="2208960"/>
            <a:ext cx="838440" cy="838440"/>
          </a:xfrm>
          <a:custGeom>
            <a:avLst/>
            <a:gdLst>
              <a:gd name="textAreaLeft" fmla="*/ 0 w 838440"/>
              <a:gd name="textAreaRight" fmla="*/ 838800 w 83844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00573 0.37107 E">
                                      <p:cBhvr>
                                        <p:cTn id="259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0.11024 0.37107 E">
                                      <p:cBhvr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12396 0.37107 E">
                                      <p:cBhvr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0.3783 0.37107 E">
                                      <p:cBhvr>
                                        <p:cTn id="268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-0.37674 0.37107 E">
                                      <p:cBhvr>
                                        <p:cTn id="271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12622 0.37107 E">
                                      <p:cBhvr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-0.1566 0.37107 E">
                                      <p:cBhvr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NGCAL2JR4DCA0F5U69CACUA2NLCANGW8L1CAI0PWBRCA12ZG3ZCAPQZK3PCAV17F43CAJAJVR1CAVXHNE7CANV8NWFCAGLYQQZCA3VCQRGCALPBIA6CA4ICLJCCAFMCV74CAUHKZJUCA1G78GTCACADSEU"/>
          <p:cNvPicPr/>
          <p:nvPr/>
        </p:nvPicPr>
        <p:blipFill>
          <a:blip r:embed="rId2"/>
          <a:stretch/>
        </p:blipFill>
        <p:spPr>
          <a:xfrm>
            <a:off x="5638680" y="533520"/>
            <a:ext cx="2743200" cy="2130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NGCAL2JR4DCA0F5U69CACUA2NLCANGW8L1CAI0PWBRCA12ZG3ZCAPQZK3PCAV17F43CAJAJVR1CAVXHNE7CANV8NWFCAGLYQQZCA3VCQRGCALPBIA6CA4ICLJCCAFMCV74CAUHKZJUCA1G78GTCACADSEU"/>
          <p:cNvPicPr/>
          <p:nvPr/>
        </p:nvPicPr>
        <p:blipFill>
          <a:blip r:embed="rId3"/>
          <a:stretch/>
        </p:blipFill>
        <p:spPr>
          <a:xfrm>
            <a:off x="838080" y="380880"/>
            <a:ext cx="2743200" cy="2130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533520" y="3031920"/>
            <a:ext cx="330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'rokiŋ  t  eə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ло-кач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324120" y="3352680"/>
            <a:ext cx="144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 p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mebel1"/>
          <p:cNvPicPr/>
          <p:nvPr/>
        </p:nvPicPr>
        <p:blipFill>
          <a:blip r:embed="rId4"/>
          <a:stretch/>
        </p:blipFill>
        <p:spPr>
          <a:xfrm>
            <a:off x="838080" y="380880"/>
            <a:ext cx="2895840" cy="25765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27" name="Picture 8" descr="www"/>
          <p:cNvPicPr/>
          <p:nvPr/>
        </p:nvPicPr>
        <p:blipFill>
          <a:blip r:embed="rId5"/>
          <a:stretch/>
        </p:blipFill>
        <p:spPr>
          <a:xfrm>
            <a:off x="5562720" y="457200"/>
            <a:ext cx="2971800" cy="2467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28" name="Rectangle 8"/>
          <p:cNvSpPr/>
          <p:nvPr/>
        </p:nvSpPr>
        <p:spPr>
          <a:xfrm>
            <a:off x="6219720" y="3306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o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33160" y="3230640"/>
            <a:ext cx="309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ocking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33208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2743200" y="0"/>
            <a:ext cx="4038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429000" y="609480"/>
            <a:ext cx="2514600" cy="5791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ock"/>
          <p:cNvSpPr/>
          <p:nvPr/>
        </p:nvSpPr>
        <p:spPr>
          <a:xfrm>
            <a:off x="2514600" y="2133720"/>
            <a:ext cx="2333520" cy="2895480"/>
          </a:xfrm>
          <a:custGeom>
            <a:avLst/>
            <a:gdLst>
              <a:gd name="textAreaLeft" fmla="*/ 80280 w 2333520"/>
              <a:gd name="textAreaRight" fmla="*/ 2283480 w 2333520"/>
              <a:gd name="textAreaTop" fmla="*/ 1327680 h 2895480"/>
              <a:gd name="textAreaBottom" fmla="*/ 2055600 h 289548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352680" y="609480"/>
            <a:ext cx="2667240" cy="586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0_c16e_3955fc1c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52639356_s"/>
          <p:cNvPicPr/>
          <p:nvPr/>
        </p:nvPicPr>
        <p:blipFill>
          <a:blip r:embed="rId1"/>
          <a:stretch/>
        </p:blipFill>
        <p:spPr>
          <a:xfrm>
            <a:off x="-533520" y="-1622520"/>
            <a:ext cx="10287000" cy="91663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>
            <a:off x="1143000" y="3581280"/>
            <a:ext cx="60483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Замок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</a:rPr>
              <a:t>освобождён!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Arial"/>
              <a:ea typeface="Arial"/>
            </a:endParaRPr>
          </a:p>
        </p:txBody>
      </p:sp>
      <p:pic>
        <p:nvPicPr>
          <p:cNvPr id="139" name="фанфары2.mid" descr=""/>
          <p:cNvPicPr/>
          <p:nvPr/>
        </p:nvPicPr>
        <p:blipFill>
          <a:blip r:embed="rId2"/>
          <a:stretch/>
        </p:blipFill>
        <p:spPr>
          <a:xfrm>
            <a:off x="883908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717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45598899_44-2-f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57200" y="762120"/>
            <a:ext cx="8686800" cy="122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егодня в сказку попадё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И в старый замок мы войдё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т замок в Англии стоит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Под злыми чарами он спит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9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7"/>
          <p:cNvSpPr/>
          <p:nvPr/>
        </p:nvSpPr>
        <p:spPr>
          <a:xfrm>
            <a:off x="6019920" y="4191120"/>
            <a:ext cx="2743200" cy="198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3429000" y="4191120"/>
            <a:ext cx="1905120" cy="236196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33520" y="3886200"/>
            <a:ext cx="2057400" cy="2438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5791320" y="1371600"/>
            <a:ext cx="2743200" cy="16002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2895480" y="152280"/>
            <a:ext cx="3886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 уроке...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45" name="Picture 6" descr="C:\Documents and Settings\Admin\Рабочий стол\77\Новая папка\74.gif"/>
          <p:cNvPicPr/>
          <p:nvPr/>
        </p:nvPicPr>
        <p:blipFill>
          <a:blip r:embed="rId1"/>
          <a:stretch/>
        </p:blipFill>
        <p:spPr>
          <a:xfrm>
            <a:off x="609480" y="1371600"/>
            <a:ext cx="2210040" cy="1859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46" name="Picture 7" descr="K3CASHWE8TCAOM69FFCAJQWXQVCABIS6LACABBSXTECAY6KOKKCAY3TM37CATDSNBICANUL212CAAMYYA8CAF55BQWCA81PM5BCAFHEOH2CARQIKRBCAK29C88CA9WYPONCAS128Y9CAXQP4BECAIL72SJ"/>
          <p:cNvPicPr/>
          <p:nvPr/>
        </p:nvPicPr>
        <p:blipFill>
          <a:blip r:embed="rId2"/>
          <a:stretch/>
        </p:blipFill>
        <p:spPr>
          <a:xfrm>
            <a:off x="3505320" y="1143000"/>
            <a:ext cx="1622160" cy="2585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47" name="Picture 8" descr="9"/>
          <p:cNvPicPr/>
          <p:nvPr/>
        </p:nvPicPr>
        <p:blipFill>
          <a:blip r:embed="rId3"/>
          <a:stretch/>
        </p:blipFill>
        <p:spPr>
          <a:xfrm>
            <a:off x="5791320" y="1371600"/>
            <a:ext cx="2514600" cy="1413000"/>
          </a:xfrm>
          <a:prstGeom prst="rect">
            <a:avLst/>
          </a:prstGeom>
          <a:ln w="0">
            <a:noFill/>
          </a:ln>
        </p:spPr>
      </p:pic>
      <p:sp>
        <p:nvSpPr>
          <p:cNvPr id="148" name="Lock"/>
          <p:cNvSpPr/>
          <p:nvPr/>
        </p:nvSpPr>
        <p:spPr>
          <a:xfrm>
            <a:off x="762120" y="4191120"/>
            <a:ext cx="1623960" cy="2019240"/>
          </a:xfrm>
          <a:custGeom>
            <a:avLst/>
            <a:gdLst>
              <a:gd name="textAreaLeft" fmla="*/ 55800 w 1623960"/>
              <a:gd name="textAreaRight" fmla="*/ 1589040 w 1623960"/>
              <a:gd name="textAreaTop" fmla="*/ 925920 h 2019240"/>
              <a:gd name="textAreaBottom" fmla="*/ 1433520 h 201924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NGCAL2JR4DCA0F5U69CACUA2NLCANGW8L1CAI0PWBRCA12ZG3ZCAPQZK3PCAV17F43CAJAJVR1CAVXHNE7CANV8NWFCAGLYQQZCA3VCQRGCALPBIA6CA4ICLJCCAFMCV74CAUHKZJUCA1G78GTCACADSEU"/>
          <p:cNvPicPr/>
          <p:nvPr/>
        </p:nvPicPr>
        <p:blipFill>
          <a:blip r:embed="rId5"/>
          <a:stretch/>
        </p:blipFill>
        <p:spPr>
          <a:xfrm>
            <a:off x="3540240" y="4419720"/>
            <a:ext cx="1641240" cy="190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j0297707"/>
          <p:cNvPicPr/>
          <p:nvPr/>
        </p:nvPicPr>
        <p:blipFill>
          <a:blip r:embed="rId6"/>
          <a:stretch/>
        </p:blipFill>
        <p:spPr>
          <a:xfrm>
            <a:off x="6553080" y="4275000"/>
            <a:ext cx="1676520" cy="1820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C:\Documents and Settings\Admin\Мои документы\мама\для скачив\1\анимашки\i1533.gif"/>
          <p:cNvPicPr/>
          <p:nvPr/>
        </p:nvPicPr>
        <p:blipFill>
          <a:blip r:embed="rId1"/>
          <a:stretch/>
        </p:blipFill>
        <p:spPr>
          <a:xfrm>
            <a:off x="4724280" y="3216240"/>
            <a:ext cx="3962520" cy="3641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609480" y="18288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учить новые слова, записанны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тетра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исовать комнату в зам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писать названия извес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2286000" y="22860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omework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bbe0e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j0297707"/>
          <p:cNvPicPr/>
          <p:nvPr/>
        </p:nvPicPr>
        <p:blipFill>
          <a:blip r:embed="rId1"/>
          <a:stretch/>
        </p:blipFill>
        <p:spPr>
          <a:xfrm>
            <a:off x="1371600" y="-838080"/>
            <a:ext cx="6324480" cy="80769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7"/>
          <p:cNvSpPr txBox="1"/>
          <p:nvPr/>
        </p:nvSpPr>
        <p:spPr>
          <a:xfrm>
            <a:off x="457200" y="3075120"/>
            <a:ext cx="838188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 окончен !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245598899_44-2-f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82320" y="533520"/>
            <a:ext cx="53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Z-z-z-z-z-z-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Documents and Settings\Admin\Рабочий стол\77\47.gif"/>
          <p:cNvPicPr/>
          <p:nvPr/>
        </p:nvPicPr>
        <p:blipFill>
          <a:blip r:embed="rId2"/>
          <a:stretch/>
        </p:blipFill>
        <p:spPr>
          <a:xfrm>
            <a:off x="5181480" y="3505320"/>
            <a:ext cx="3810240" cy="25794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245598899_44-2-f"/>
          <p:cNvPicPr/>
          <p:nvPr/>
        </p:nvPicPr>
        <p:blipFill>
          <a:blip r:embed="rId1"/>
          <a:stretch/>
        </p:blipFill>
        <p:spPr>
          <a:xfrm>
            <a:off x="-76320" y="4608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63240" y="4800600"/>
            <a:ext cx="42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D-d-d-d-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Admin\Рабочий стол\77\60.gif"/>
          <p:cNvPicPr/>
          <p:nvPr/>
        </p:nvPicPr>
        <p:blipFill>
          <a:blip r:embed="rId2"/>
          <a:stretch/>
        </p:blipFill>
        <p:spPr>
          <a:xfrm>
            <a:off x="304920" y="914400"/>
            <a:ext cx="3243240" cy="4800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245598899_44-2-f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108400" y="457200"/>
            <a:ext cx="34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R-r-r-r-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Documents and Settings\Admin\Рабочий стол\77\Новая папка\74.gif"/>
          <p:cNvPicPr/>
          <p:nvPr/>
        </p:nvPicPr>
        <p:blipFill>
          <a:blip r:embed="rId2"/>
          <a:stretch/>
        </p:blipFill>
        <p:spPr>
          <a:xfrm>
            <a:off x="609480" y="3127320"/>
            <a:ext cx="4343400" cy="365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d6e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245598899_44-2-f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106960" y="38088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-f-f-f-f-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Documents and Settings\Admin\Рабочий стол\77\3.gif"/>
          <p:cNvPicPr/>
          <p:nvPr/>
        </p:nvPicPr>
        <p:blipFill>
          <a:blip r:embed="rId2"/>
          <a:stretch/>
        </p:blipFill>
        <p:spPr>
          <a:xfrm>
            <a:off x="-76320" y="3352680"/>
            <a:ext cx="4191120" cy="3800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19f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245598899_44-2-f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022640" y="5599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382320" y="533520"/>
            <a:ext cx="25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2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l-GR" sz="5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l-GR" sz="5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l-GR" sz="5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Admin\Рабочий стол\77\15.gif"/>
          <p:cNvPicPr/>
          <p:nvPr/>
        </p:nvPicPr>
        <p:blipFill>
          <a:blip r:embed="rId2"/>
          <a:stretch/>
        </p:blipFill>
        <p:spPr>
          <a:xfrm>
            <a:off x="3657600" y="2971800"/>
            <a:ext cx="4876920" cy="3916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d6e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1245598899_44-2-f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2746080" y="4656240"/>
            <a:ext cx="358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  <a:ea typeface="Arial"/>
              </a:rPr>
              <a:t>∂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∂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∂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∂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V="1">
            <a:off x="3124080" y="4952520"/>
            <a:ext cx="3812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962520" y="525744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4648320" y="525744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5334120" y="525744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6019920" y="525744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C:\Documents and Settings\Admin\Рабочий стол\77\29.gif"/>
          <p:cNvPicPr/>
          <p:nvPr/>
        </p:nvPicPr>
        <p:blipFill>
          <a:blip r:embed="rId2"/>
          <a:stretch/>
        </p:blipFill>
        <p:spPr>
          <a:xfrm>
            <a:off x="0" y="1447920"/>
            <a:ext cx="5181480" cy="322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Documents and Settings\Admin\Рабочий стол\77\35.gif"/>
          <p:cNvPicPr/>
          <p:nvPr/>
        </p:nvPicPr>
        <p:blipFill>
          <a:blip r:embed="rId3"/>
          <a:stretch/>
        </p:blipFill>
        <p:spPr>
          <a:xfrm>
            <a:off x="3657600" y="-457200"/>
            <a:ext cx="5867280" cy="5300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d6e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245598899_44-2-f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23507"/>
          <p:cNvPicPr/>
          <p:nvPr/>
        </p:nvPicPr>
        <p:blipFill>
          <a:blip r:embed="rId2"/>
          <a:stretch/>
        </p:blipFill>
        <p:spPr>
          <a:xfrm>
            <a:off x="4343400" y="3486240"/>
            <a:ext cx="4495680" cy="33717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305640" y="304920"/>
            <a:ext cx="58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-u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-u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-u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-u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V</cp:lastModifiedBy>
  <dcterms:modified xsi:type="dcterms:W3CDTF">2020-04-03T07:22:52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