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BC31-002E-4B13-8909-7A858A328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8B6C-9B8F-4DFD-AA95-0F5F5309F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FDD-44DD-466D-B74F-33B9375F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B1A-21D2-4E32-BA29-32DFA639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E87-A34E-4DB0-B78E-8AF7E3D6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0F6-4E22-4C54-9BA0-3F4B6B85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2933-2902-4C4B-8759-4555356A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9972-31C9-4FF0-AADD-F608497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549F-523A-48CD-886C-FE1860AF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89D-0154-47C7-8020-35DCC4E8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EC3-011E-41A8-B5BD-7A07BFF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82F3-E006-4B54-8129-9A0E3D7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D48E-98A2-4F12-95AC-42DA1EC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B03-6DFC-4291-9CB9-1F28117F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B28B-2BBA-4CE0-838D-E9C6455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9063-2916-4299-B571-C1ED782E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4661-96AF-41DF-A3E8-34C97424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CD99-5052-4D44-B685-03901774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DB8-34ED-4C0A-8083-C2858E0F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E091-37D3-4375-866A-E336DB58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C8F0-B615-42FA-9D3E-17E0A19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4F5B-C70D-4692-9F9A-4AB0B957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6880-12FA-434E-BD0D-07B3A22A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92C6-4FE3-4E70-953A-D336BF78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DEF-99C8-4715-9DC5-A229936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764F-55E7-4EA3-ABAC-BA32775A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01D4-2145-43B1-9AFC-C60EE59A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77C9-71B9-4677-A381-A1C43E8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1C8A-B1D0-43D1-8DAB-903747F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B601-4F66-4D81-873F-E17D9A5D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B79A-D289-494C-A0BE-6A0CC3F9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06B1-3045-4578-9013-575E5360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87E3-491E-4996-A15B-B4B99261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0301-B486-4D0E-81BD-6324E431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28C2-9A34-46B2-8BAB-96C19C7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E3C-76A0-4607-94CD-28B520EA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86D0-3B4E-4DA4-9807-AE74B8B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E8AA-D8E8-46A5-B7E4-AD8B086C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5CCD-DF4E-464F-AB6D-54234C5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6700-7D4E-48CE-B9AE-4A86F7D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F331-891C-49E3-BC0D-47AFA9E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FD7F-8BC2-4A7E-8A52-D728A51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BFA9-BFD6-4DD5-B863-635D37A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EA3BB-F39C-4F4D-AB2A-42411626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FEBE-FE27-4A26-9D2E-A9DD5B76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536-4B18-4915-9C1A-A5287D8F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0EC-8F85-4539-929F-4DF748F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DAA-E152-48A6-97C5-FBA1FEF1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BEB-7682-48AE-8B91-7B6C4FC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36A-055B-4E9D-B4F3-649F14E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1E0D-6B4F-4334-8F8C-BA50367FF18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502-743C-4F6F-BE05-6E5D5B05C01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A36-7DBC-475E-9D8F-12DAF66AB71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88ED-705D-4CF1-A8B8-4CA25958FC9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900igr.net/datai/ekologija/Ekologicheskie-problemy-Moskvy/0003-002-Ekologicheskie-problemy-territorii-Moskvy-suschestvovali-esche-v-drevnosti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900igr.net/datai/obg/Lesnoj-pozhar/0008-010-Tema-Lesnye-pozhary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019.radikal.ru/i636/1204/68/f591f928736bt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4356000" y="5300640"/>
            <a:ext cx="47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 воспитател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очко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ланета Земл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337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тиц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Объект 6" descr=""/>
          <p:cNvPicPr/>
          <p:nvPr/>
        </p:nvPicPr>
        <p:blipFill>
          <a:blip r:embed="rId1"/>
          <a:stretch/>
        </p:blipFill>
        <p:spPr>
          <a:xfrm>
            <a:off x="857160" y="2271600"/>
            <a:ext cx="58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32000" y="2136600"/>
            <a:ext cx="712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аждого человека есть свой дом, у каждого животного есть свой дом. И у насекомых, цветов и деревьев есть 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ята, а как можно назвать наш общий дом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Зем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2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058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Объект 3" descr="C:\влас блогер\prezentatsiya1.pptx_files\htmlimage(3)"/>
          <p:cNvPicPr/>
          <p:nvPr/>
        </p:nvPicPr>
        <p:blipFill>
          <a:blip r:embed="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4"/>
          <p:cNvSpPr/>
          <p:nvPr/>
        </p:nvSpPr>
        <p:spPr>
          <a:xfrm>
            <a:off x="1258920" y="907920"/>
            <a:ext cx="698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шей планете очень много больных мест. Это случилось потому, что люди построили много заводов, фабрик, электро- и атомных станций. От этих предприятий загрязняется воздух – его загрязняют дым, который выходит в небо от труб, газы от машин. Отходы заводов сливаются в реки, моря. От этого гибнет много растений, животных, болеют люди. Гибнет природ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планета требует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2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4" descr="0003-002-Ekologicheskie-problemy-territorii-Moskvy-suschestvovali-esche-v-drevn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560" y="768240"/>
            <a:ext cx="842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1187280" y="1413000"/>
            <a:ext cx="7632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нет природа часто от неосторожного обращения с огнем. Выгорают многие километры, степи, гибнет лес. А вместе с ним и все живое в нем. После пожара остаются на теле Земли глубокие незаживающие раны. И порой нужны сотни лет для восстановления прежнего величия природы. А иногда и время не помогает. Лес не восстанавл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0008-010-Tema-Lesnye-pozha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907920"/>
            <a:ext cx="70405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403280" y="1197000"/>
            <a:ext cx="698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гда люди понимают, что к природе надо относиться бережно. Нельзя вырубать и ломать деревья и кустарники, убивать птиц и зверей, ловить бабочек. Хотя порой, кажется, что эта змея или букашка не приносят никакой пользы. Но это не так. Все эти растения и животные на месте. Они у себя дома. Все они составляют единую экологическую цеп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2"/>
          <p:cNvSpPr/>
          <p:nvPr/>
        </p:nvSpPr>
        <p:spPr>
          <a:xfrm>
            <a:off x="1332000" y="907920"/>
            <a:ext cx="74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а Земля – голубая план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духом свежим и солнцем од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вы поверьте, Земли голу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синевы рек, озёр и м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ы, равнины, леса и пол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это наша планета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тры поют, с облаками игр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вни шумят… И от края д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 не найдёте чудесней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ей прекрасной и доброй плане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дом родной, наш общий дом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ля, где с вами мы жив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Этот мир спасете вы -дети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7" descr="f591f928736b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Calibri"/>
              </a:rPr>
              <a:t>Какая удивительная планета – Земля!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900000" y="1900080"/>
            <a:ext cx="6859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d6440"/>
                </a:solidFill>
                <a:latin typeface="Trebuchet MS"/>
              </a:rPr>
              <a:t>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лещутся  моря и океа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сстилаются равнины    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Объект 3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8798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66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однимаются высокие го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54975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195640" y="2133360"/>
            <a:ext cx="9144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 Black"/>
              </a:rPr>
              <a:t>Разнообразны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 Black"/>
              </a:rPr>
              <a:t>мир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 Black"/>
              </a:rPr>
              <a:t>природы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Животны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52276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ыб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58212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6:20:26Z</dcterms:created>
  <dc:creator>Marion</dc:creator>
  <dc:description/>
  <dc:language>en-US</dc:language>
  <cp:lastModifiedBy>RePack by SPecialiST</cp:lastModifiedBy>
  <dcterms:modified xsi:type="dcterms:W3CDTF">2020-04-03T18:12:39Z</dcterms:modified>
  <cp:revision>38</cp:revision>
  <dc:subject/>
  <dc:title>Земля – наш общий дом</dc:title>
</cp:coreProperties>
</file>