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55B9-F264-4F27-BEC8-EB06CCE2A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89D7-BE99-4672-9CAA-CAAA157A7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AF8-AA22-42C2-93C8-1D97EBC9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C85-C3D1-4897-B175-79F0B86E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05A-054F-40EF-AF38-86223521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35F-2C23-414C-B050-BA003FDF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6AF7-54C6-438E-B763-F95034CA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0F1D-499A-42A0-9918-CBC2E7BB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3A9C-28DD-4E6F-9BD5-9835C13C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474B-032C-4BFB-B4A8-AF92EC0B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35B9-B65E-4521-A2D3-E0EA838A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EED5-1FE7-4C55-80F4-6F75D6DD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D317-1052-42FF-893A-6E4C58B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982-0A21-4B8D-8117-6BBD51F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5A03-5977-49A0-A245-0FD4D4D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925-966D-4C87-B18E-B0F7096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7167-2287-45D8-A414-D40EC004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A44C-D656-45F1-BC3B-AA4554BE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E60D-142F-4976-BDDA-DE576425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5DF6-7C14-4B65-851B-04EFD8F5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01012-157B-445E-9F24-B9719B1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3C7D-A958-4A45-AEA3-4B712008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57745-D9CE-4B56-BE15-06480040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B9DE-591C-4916-8F39-54F5D412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313-6C9A-4E56-A18D-3F00DC03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6434-56EE-4FDC-BDA1-CFFE150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9C44-D43D-4393-A024-3AAD391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D5C7-9B64-4EEE-9769-A0BF4306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3822-7F4A-4D15-A4DA-6FF8E06E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3F0E-24A9-4904-BF2D-F146FD59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B55FD-E754-4D73-A8E0-39F572D7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75F8-F5AA-491D-8EAC-E929367B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F1383-65A2-4752-ACDA-D019888F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88992-B750-42FC-905C-8913177F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DE99-5174-48E8-A2FF-A15D9683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2AB-4672-47B6-8FDA-396E6B7B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28AE-B54B-43E5-82D5-282051F9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295D-CEAF-4496-952B-01FD7EB9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12C04-9348-44FF-B853-13B43990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98C0-6E68-4A96-88FA-89DC7069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8E16-A4D9-4ADA-B613-A780B3F5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75202-684A-4E8A-B5FF-9C7F2F8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2B45-6DE0-4B6B-9862-BBD3D6EA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4084-E0A0-4A36-95CB-45EF7EC9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EFED-023E-4F44-A703-39B53946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A79-9748-476F-8E33-4929ED34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A06-091D-413B-9CD2-C9338D40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A8E-ECB3-4B47-8CEB-DEF2C00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6AC-DAA4-464E-8202-AE4EF86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3E8-CB47-4C7A-B18E-584261D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FC7-06A8-4569-87EE-E22B1914687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130E-5E77-484E-85AC-A0060331DEE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6C13-0186-4F37-B0F4-D093535D14F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663E-6CFC-467D-A39E-3A552C58714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900igr.net/datai/ekologija/Ekologicheskie-problemy-Moskvy/0003-002-Ekologicheskie-problemy-territorii-Moskvy-suschestvovali-esche-v-drevnosti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900igr.net/datai/obg/Lesnoj-pozhar/0008-010-Tema-Lesnye-pozhary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019.radikal.ru/i636/1204/68/f591f928736bt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4356000" y="5300640"/>
            <a:ext cx="47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 воспитател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очко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ланета Земл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337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тиц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7" name="Объект 6" descr=""/>
          <p:cNvPicPr/>
          <p:nvPr/>
        </p:nvPicPr>
        <p:blipFill>
          <a:blip r:embed="rId1"/>
          <a:stretch/>
        </p:blipFill>
        <p:spPr>
          <a:xfrm>
            <a:off x="857160" y="2271600"/>
            <a:ext cx="58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332000" y="2136600"/>
            <a:ext cx="7127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аждого человека есть свой дом, у каждого животного есть свой дом. И у насекомых, цветов и деревьев есть 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ята, а как можно назвать наш общий дом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Зем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Объект 2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058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Объект 3" descr="C:\влас блогер\prezentatsiya1.pptx_files\htmlimage(3)"/>
          <p:cNvPicPr/>
          <p:nvPr/>
        </p:nvPicPr>
        <p:blipFill>
          <a:blip r:embed="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4"/>
          <p:cNvSpPr/>
          <p:nvPr/>
        </p:nvSpPr>
        <p:spPr>
          <a:xfrm>
            <a:off x="1258920" y="907920"/>
            <a:ext cx="6985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шей планете очень много больных мест. Это случилось потому, что люди построили много заводов, фабрик, электро- и атомных станций. От этих предприятий загрязняется воздух – его загрязняют дым, который выходит в небо от труб, газы от машин. Отходы заводов сливаются в реки, моря. От этого гибнет много растений, животных, болеют люди. Гибнет природ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планета требует 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2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4" descr="0003-002-Ekologicheskie-problemy-territorii-Moskvy-suschestvovali-esche-v-drevn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560" y="768240"/>
            <a:ext cx="842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3"/>
          <p:cNvSpPr/>
          <p:nvPr/>
        </p:nvSpPr>
        <p:spPr>
          <a:xfrm>
            <a:off x="1187280" y="1413000"/>
            <a:ext cx="7632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нет природа часто от неосторожного обращения с огнем. Выгорают многие километры, степи, гибнет лес. А вместе с ним и все живое в нем. После пожара остаются на теле Земли глубокие незаживающие раны. И порой нужны сотни лет для восстановления прежнего величия природы. А иногда и время не помогает. Лес не восстанавл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0008-010-Tema-Lesnye-pozha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907920"/>
            <a:ext cx="70405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403280" y="1197000"/>
            <a:ext cx="698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гда люди понимают, что к природе надо относиться бережно. Нельзя вырубать и ломать деревья и кустарники, убивать птиц и зверей, ловить бабочек. Хотя порой, кажется, что эта змея или букашка не приносят никакой пользы. Но это не так. Все эти растения и животные на месте. Они у себя дома. Все они составляют единую экологическую цеп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2"/>
          <p:cNvSpPr/>
          <p:nvPr/>
        </p:nvSpPr>
        <p:spPr>
          <a:xfrm>
            <a:off x="1332000" y="907920"/>
            <a:ext cx="741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а Земля – голубая план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духом свежим и солнцем од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вы поверьте, Земли голу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синевы рек, озёр и мо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ы, равнины, леса и пол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 это наша планета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тры поют, с облаками игр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вни шумят… И от края д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 не найдёте чудесней на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ей прекрасной и доброй плане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ш дом родной, наш общий дом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ля, где с вами мы жив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Этот мир спасете вы -дети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7" descr="f591f928736b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Calibri"/>
              </a:rPr>
              <a:t>Какая удивительная планета – Земля!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900000" y="1900080"/>
            <a:ext cx="6859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d6440"/>
                </a:solidFill>
                <a:latin typeface="Trebuchet MS"/>
              </a:rPr>
              <a:t>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лещутся  моря и океа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сстилаются равнины    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Объект 3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48798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66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однимаются высокие го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Объект 3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54975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195640" y="2133360"/>
            <a:ext cx="9144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 Black"/>
              </a:rPr>
              <a:t>Разнообразны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 Black"/>
              </a:rPr>
              <a:t>мир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Arial Black"/>
              </a:rPr>
              <a:t>природы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Животны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Объект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52276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ыб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58212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16:20:26Z</dcterms:created>
  <dc:creator>Marion</dc:creator>
  <dc:description/>
  <dc:language>en-US</dc:language>
  <cp:lastModifiedBy>RePack by SPecialiST</cp:lastModifiedBy>
  <dcterms:modified xsi:type="dcterms:W3CDTF">2020-04-03T18:12:39Z</dcterms:modified>
  <cp:revision>38</cp:revision>
  <dc:subject/>
  <dc:title>Земля – наш общий дом</dc:title>
</cp:coreProperties>
</file>