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0.jpeg" ContentType="image/jpeg"/>
  <Override PartName="/ppt/media/image31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E54-D294-4866-A7D6-A7E4C42D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860-5D71-4101-AE6C-D1CE3ECD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84C-B5A3-4036-9399-BCB448EC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AA1-C6B3-4A65-B77C-B4B7FF08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D12C-EA56-4B78-9CCE-4D041185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33DF-2788-4E72-9D8B-B40A845E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3C93-A588-4F1F-96DE-5D384E0B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36E2-21C2-4B28-94C0-57E66700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66E3-317C-4405-B76A-690B9DF9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7564-A3FD-4205-88C3-C6DDC30F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7F5A-D8FC-4568-83F0-5886F51D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220-F65E-48AC-A6FF-319AB1CA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A8AE-3C1D-478D-BD12-1727871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DF3A-4D2C-4BC8-8223-31897A79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6485-D615-4073-B2DA-02F78F55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730E-D5AB-474C-A712-DB7AE2C6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BCD7-E860-4DD9-8AD3-67AD76F4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B926-870D-411B-B1A4-0B0EDDCE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234A3-A748-4017-B963-2950733A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229E-C046-4C6F-97D8-75970BAB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A27A-107C-4A86-924E-A6AA9D35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2FBA-B63D-4DAD-9D23-33FC417A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C1F-A620-46A3-8245-670360B6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2627-D8BA-4B83-8E9A-321F4B28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E20B-9D5C-42B2-8EEA-96A4641A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148FD-73B3-4DFC-BABF-0809AC0A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3DD4-0CDC-400F-B160-9C30A174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FFB2-EAC6-4B5E-8692-E362EA8E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602E-7D14-4BA2-97FC-69EE499D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B092-D6A1-4B9C-A640-F5990C64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32942-968E-46FD-861B-DBD60FDD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D0BFC-D222-49AA-BE0E-EDD5354A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1F77-86E4-4164-8A58-B68862EF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B53-6755-46F0-A25F-589B229C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D8362-54A2-4320-9F12-83E2A10D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9121-A819-47C1-9D94-C5238584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B8293-37B8-4889-BD85-90FFBFB9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2C6E3-25B4-44F6-A1EA-93DE94E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4EF4-3D6C-4777-8B95-1FD6A536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3E291-A57B-4DF7-9B1F-640438F9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248F9-F36D-45E8-8760-EE3C4D21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258B-48ED-40F8-AF84-CF27DD57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13E90-9753-43D7-B494-496776FD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939A-6990-4A4F-83BE-AE08B0E6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D80-E5F8-477E-A972-175A8FAA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4F04A-72C8-42BF-9038-8C157E7B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CC4DE-1389-4594-AF46-D69E9AA7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76A35-346F-456E-88EF-353981CB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CECE5-AAF2-424D-BE5C-F862A923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3EE34-8E0F-4E56-9AAC-7060A0D0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5D728-A009-48D0-8AA4-01115030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98B70-989E-43AA-8571-04A1A6A7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385D0-D94E-4252-8793-5B580C52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FF44B-DE66-4C3C-B094-097547A5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C31B7-0179-40A8-AB42-DACA329C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8CA-10E9-4AA0-A0F1-5FD9F533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AC62-FFA0-4659-B4D1-1DA8807B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F6024-F510-4345-9E81-BF72FD65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BC0C1-0CAA-49D8-A3A8-B159333A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BFF93-7C3D-440B-A7DA-6CBF08CC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22AD-7A80-430A-A36A-F96D4DE9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BF94-497D-4755-B988-A5860DE6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65C52-76FD-47B9-9402-208E5144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9ABC-0D05-4ED7-BF46-98821ECE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AE8D2-7D12-45BE-BA95-B2BAC0D7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7DE4F-04DB-4760-A86D-125342EA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432-D006-4359-83CB-EBFA84D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2E37A-44D7-478A-B52F-EDA95E3C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29B46-B9FC-44D1-A721-49CAE03C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91037-659B-4560-87C0-D94C2711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5DE-5299-4A6E-ADF1-0C7C0D09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C54-1602-4B04-82CB-8011E8E8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745A-6E5C-4F39-B39B-7D7393005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6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3080" y="73080"/>
              <a:ext cx="8997840" cy="49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Рамка 6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45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3080" y="73080"/>
              <a:ext cx="8997840" cy="49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Рисунок 7" descr="0005-009-Drevnij-mir.jpg"/>
          <p:cNvPicPr/>
          <p:nvPr/>
        </p:nvPicPr>
        <p:blipFill>
          <a:blip r:embed="rId4"/>
          <a:stretch/>
        </p:blipFill>
        <p:spPr>
          <a:xfrm>
            <a:off x="0" y="4786200"/>
            <a:ext cx="1143000" cy="3574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10687599.png"/>
          <p:cNvPicPr/>
          <p:nvPr/>
        </p:nvPicPr>
        <p:blipFill>
          <a:blip r:embed="rId5"/>
          <a:stretch/>
        </p:blipFill>
        <p:spPr>
          <a:xfrm>
            <a:off x="0" y="0"/>
            <a:ext cx="9144000" cy="3598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0005-009-Drevnij-mir.jpg"/>
          <p:cNvPicPr/>
          <p:nvPr/>
        </p:nvPicPr>
        <p:blipFill>
          <a:blip r:embed="rId6"/>
          <a:stretch/>
        </p:blipFill>
        <p:spPr>
          <a:xfrm>
            <a:off x="857160" y="4786200"/>
            <a:ext cx="1143000" cy="357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0005-009-Drevnij-mir.jpg"/>
          <p:cNvPicPr/>
          <p:nvPr/>
        </p:nvPicPr>
        <p:blipFill>
          <a:blip r:embed="rId7"/>
          <a:stretch/>
        </p:blipFill>
        <p:spPr>
          <a:xfrm>
            <a:off x="1643040" y="4786200"/>
            <a:ext cx="1143000" cy="357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0005-009-Drevnij-mir.jpg"/>
          <p:cNvPicPr/>
          <p:nvPr/>
        </p:nvPicPr>
        <p:blipFill>
          <a:blip r:embed="rId8"/>
          <a:stretch/>
        </p:blipFill>
        <p:spPr>
          <a:xfrm>
            <a:off x="2428920" y="4786200"/>
            <a:ext cx="1143000" cy="357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0005-009-Drevnij-mir.jpg"/>
          <p:cNvPicPr/>
          <p:nvPr/>
        </p:nvPicPr>
        <p:blipFill>
          <a:blip r:embed="rId9"/>
          <a:stretch/>
        </p:blipFill>
        <p:spPr>
          <a:xfrm>
            <a:off x="4000680" y="4786200"/>
            <a:ext cx="1143000" cy="357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3" descr="0005-009-Drevnij-mir.jpg"/>
          <p:cNvPicPr/>
          <p:nvPr/>
        </p:nvPicPr>
        <p:blipFill>
          <a:blip r:embed="rId10"/>
          <a:stretch/>
        </p:blipFill>
        <p:spPr>
          <a:xfrm>
            <a:off x="4786200" y="4786200"/>
            <a:ext cx="11430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4" descr="0005-009-Drevnij-mir.jpg"/>
          <p:cNvPicPr/>
          <p:nvPr/>
        </p:nvPicPr>
        <p:blipFill>
          <a:blip r:embed="rId11"/>
          <a:stretch/>
        </p:blipFill>
        <p:spPr>
          <a:xfrm>
            <a:off x="5572080" y="4786200"/>
            <a:ext cx="1143000" cy="357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0005-009-Drevnij-mir.jpg"/>
          <p:cNvPicPr/>
          <p:nvPr/>
        </p:nvPicPr>
        <p:blipFill>
          <a:blip r:embed="rId12"/>
          <a:stretch/>
        </p:blipFill>
        <p:spPr>
          <a:xfrm>
            <a:off x="6357960" y="4786200"/>
            <a:ext cx="1143000" cy="357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6" descr="0005-009-Drevnij-mir.jpg"/>
          <p:cNvPicPr/>
          <p:nvPr/>
        </p:nvPicPr>
        <p:blipFill>
          <a:blip r:embed="rId13"/>
          <a:stretch/>
        </p:blipFill>
        <p:spPr>
          <a:xfrm>
            <a:off x="7215120" y="4786200"/>
            <a:ext cx="1143000" cy="357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7" descr="0005-009-Drevnij-mir.jpg"/>
          <p:cNvPicPr/>
          <p:nvPr/>
        </p:nvPicPr>
        <p:blipFill>
          <a:blip r:embed="rId14"/>
          <a:stretch/>
        </p:blipFill>
        <p:spPr>
          <a:xfrm>
            <a:off x="8001000" y="4786200"/>
            <a:ext cx="1143000" cy="3574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8" descr="0005-009-Drevnij-mir.jpg"/>
          <p:cNvPicPr/>
          <p:nvPr/>
        </p:nvPicPr>
        <p:blipFill>
          <a:blip r:embed="rId15"/>
          <a:stretch/>
        </p:blipFill>
        <p:spPr>
          <a:xfrm>
            <a:off x="3214800" y="4786200"/>
            <a:ext cx="1143000" cy="357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0D05-44A0-4F42-92B2-89072D8F7D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Рамка 6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101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3080" y="73080"/>
              <a:ext cx="8997840" cy="49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Рисунок 7" descr="slider_shtori.png"/>
          <p:cNvPicPr/>
          <p:nvPr/>
        </p:nvPicPr>
        <p:blipFill>
          <a:blip r:embed="rId4"/>
          <a:srcRect l="764" t="0" r="2343" b="0"/>
          <a:stretch/>
        </p:blipFill>
        <p:spPr>
          <a:xfrm>
            <a:off x="0" y="0"/>
            <a:ext cx="9072720" cy="4191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album.jpg"/>
          <p:cNvPicPr/>
          <p:nvPr/>
        </p:nvPicPr>
        <p:blipFill>
          <a:blip r:embed="rId5"/>
          <a:stretch/>
        </p:blipFill>
        <p:spPr>
          <a:xfrm rot="903600">
            <a:off x="8145000" y="218880"/>
            <a:ext cx="673200" cy="649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33B3-D24D-4344-B947-486D696E3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Рамка 6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147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3080" y="73080"/>
              <a:ext cx="8997840" cy="49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Рисунок 7" descr="1263066869_1223724130_curtain.jpg"/>
          <p:cNvPicPr/>
          <p:nvPr/>
        </p:nvPicPr>
        <p:blipFill>
          <a:blip r:embed="rId4"/>
          <a:stretch/>
        </p:blipFill>
        <p:spPr>
          <a:xfrm>
            <a:off x="7861320" y="71280"/>
            <a:ext cx="1211400" cy="50007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8" descr="k26666171.png"/>
          <p:cNvPicPr/>
          <p:nvPr/>
        </p:nvPicPr>
        <p:blipFill>
          <a:blip r:embed="rId5"/>
          <a:stretch/>
        </p:blipFill>
        <p:spPr>
          <a:xfrm>
            <a:off x="7974000" y="-60480"/>
            <a:ext cx="1163520" cy="2054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DF46-1EE9-41A1-9E8B-C4E5AD3B0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Рамка 6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193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3080" y="73080"/>
              <a:ext cx="8997840" cy="49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Рисунок 7" descr="Curtains-PNG-Image-33003.png"/>
          <p:cNvPicPr/>
          <p:nvPr/>
        </p:nvPicPr>
        <p:blipFill>
          <a:blip r:embed="rId4"/>
          <a:stretch/>
        </p:blipFill>
        <p:spPr>
          <a:xfrm>
            <a:off x="71280" y="71280"/>
            <a:ext cx="1812960" cy="50724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8" descr="975130_345af.png"/>
          <p:cNvPicPr/>
          <p:nvPr/>
        </p:nvPicPr>
        <p:blipFill>
          <a:blip r:embed="rId5"/>
          <a:stretch/>
        </p:blipFill>
        <p:spPr>
          <a:xfrm rot="1138800">
            <a:off x="236520" y="395280"/>
            <a:ext cx="787320" cy="7048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9" descr="975130_345af.png"/>
          <p:cNvPicPr/>
          <p:nvPr/>
        </p:nvPicPr>
        <p:blipFill>
          <a:blip r:embed="rId6"/>
          <a:stretch/>
        </p:blipFill>
        <p:spPr>
          <a:xfrm rot="20208600">
            <a:off x="534960" y="127080"/>
            <a:ext cx="787320" cy="704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BDB8-593D-472F-8856-E127105B07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Рамка 6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240" name="Рамка 6" descr=""/>
            <p:cNvPicPr/>
            <p:nvPr/>
          </p:nvPicPr>
          <p:blipFill>
            <a:blip r:embed="rId3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3080" y="73080"/>
              <a:ext cx="8997840" cy="49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2499840" y="29998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DAD1-E937-41EC-A796-25E73ADE03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2" descr=""/>
          <p:cNvPicPr/>
          <p:nvPr/>
        </p:nvPicPr>
        <p:blipFill>
          <a:blip r:embed="rId1"/>
          <a:stretch/>
        </p:blipFill>
        <p:spPr>
          <a:xfrm>
            <a:off x="539640" y="195120"/>
            <a:ext cx="705672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4427640" y="195120"/>
            <a:ext cx="43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В ноябре 1959 года театр принял участие во II Декаде литературы и искусства Бурятской АССР в Москве. В репертуаре было пять спектаклей — «</a:t>
            </a:r>
            <a:r>
              <a:rPr b="0" i="1" lang="ru-RU" sz="1800" spc="-1" strike="noStrike">
                <a:solidFill>
                  <a:srgbClr val="222222"/>
                </a:solidFill>
                <a:latin typeface="Arial"/>
              </a:rPr>
              <a:t>Горе от ума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» Грибоедова, «</a:t>
            </a:r>
            <a:r>
              <a:rPr b="0" i="1" lang="ru-RU" sz="1800" spc="-1" strike="noStrike">
                <a:solidFill>
                  <a:srgbClr val="222222"/>
                </a:solidFill>
                <a:latin typeface="Arial"/>
              </a:rPr>
              <a:t>Тайфун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» Цао Юя, «</a:t>
            </a:r>
            <a:r>
              <a:rPr b="0" i="1" lang="ru-RU" sz="1800" spc="-1" strike="noStrike">
                <a:solidFill>
                  <a:srgbClr val="222222"/>
                </a:solidFill>
                <a:latin typeface="Arial"/>
              </a:rPr>
              <a:t>Барометр показывает бурю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» Даширабдана Батожабая, «</a:t>
            </a:r>
            <a:r>
              <a:rPr b="0" i="1" lang="ru-RU" sz="1800" spc="-1" strike="noStrike">
                <a:solidFill>
                  <a:srgbClr val="222222"/>
                </a:solidFill>
                <a:latin typeface="Arial"/>
              </a:rPr>
              <a:t>Будамшуу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» Цырена Шагжина, «</a:t>
            </a:r>
            <a:r>
              <a:rPr b="0" i="1" lang="ru-RU" sz="1800" spc="-1" strike="noStrike">
                <a:solidFill>
                  <a:srgbClr val="222222"/>
                </a:solidFill>
                <a:latin typeface="Arial"/>
              </a:rPr>
              <a:t>Ровесники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» Батомунко Пурбу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1" descr=""/>
          <p:cNvPicPr/>
          <p:nvPr/>
        </p:nvPicPr>
        <p:blipFill>
          <a:blip r:embed="rId1"/>
          <a:stretch/>
        </p:blipFill>
        <p:spPr>
          <a:xfrm>
            <a:off x="1200240" y="195120"/>
            <a:ext cx="2921040" cy="28083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2" descr=""/>
          <p:cNvPicPr/>
          <p:nvPr/>
        </p:nvPicPr>
        <p:blipFill>
          <a:blip r:embed="rId2"/>
          <a:stretch/>
        </p:blipFill>
        <p:spPr>
          <a:xfrm>
            <a:off x="4572000" y="3201840"/>
            <a:ext cx="2338560" cy="177984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3" descr=""/>
          <p:cNvPicPr/>
          <p:nvPr/>
        </p:nvPicPr>
        <p:blipFill>
          <a:blip r:embed="rId3"/>
          <a:stretch/>
        </p:blipFill>
        <p:spPr>
          <a:xfrm>
            <a:off x="1547640" y="3135240"/>
            <a:ext cx="243540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2"/>
          <p:cNvSpPr/>
          <p:nvPr/>
        </p:nvSpPr>
        <p:spPr>
          <a:xfrm>
            <a:off x="4788000" y="339840"/>
            <a:ext cx="309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959 года театр носит имя Хоца Намсараева, автора многочисленных пьес, тонкого знатока фольклора, осуществившего литературную обработку и опубликовавшего шедевры древнего народно-поэтического творчества — сказаний -улигэров 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амжи Мэргэ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гаадай Мэргэ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аралтуур ха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Хоца Н"/>
          <p:cNvPicPr/>
          <p:nvPr/>
        </p:nvPicPr>
        <p:blipFill>
          <a:blip r:embed="rId1"/>
          <a:stretch/>
        </p:blipFill>
        <p:spPr>
          <a:xfrm>
            <a:off x="324000" y="843120"/>
            <a:ext cx="4252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01"/>
          <p:cNvPicPr/>
          <p:nvPr/>
        </p:nvPicPr>
        <p:blipFill>
          <a:blip r:embed="rId1"/>
          <a:stretch/>
        </p:blipFill>
        <p:spPr>
          <a:xfrm>
            <a:off x="1908000" y="135000"/>
            <a:ext cx="6459840" cy="38764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2"/>
          <p:cNvSpPr/>
          <p:nvPr/>
        </p:nvSpPr>
        <p:spPr>
          <a:xfrm>
            <a:off x="1116000" y="4011480"/>
            <a:ext cx="754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PT Sans"/>
              </a:rPr>
              <a:t>В 1969 году труппа пополнилась 15 выпускниками второй Ленинградской студии:</a:t>
            </a:r>
            <a:r>
              <a:rPr b="0" i="1" lang="ru-RU" sz="1600" spc="-1" strike="noStrike">
                <a:solidFill>
                  <a:srgbClr val="333333"/>
                </a:solidFill>
                <a:latin typeface="PT Sans"/>
              </a:rPr>
              <a:t> Михаил Елбонов, Майдари Жапхандаев, Людмила Дугарова, Дарима Сангажапова, Чингис Гуруев, Владимир Кондратьев </a:t>
            </a:r>
            <a:r>
              <a:rPr b="0" lang="ru-RU" sz="1600" spc="-1" strike="noStrike">
                <a:solidFill>
                  <a:srgbClr val="333333"/>
                </a:solidFill>
                <a:latin typeface="PT Sans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Рисунок 2" descr=""/>
          <p:cNvPicPr/>
          <p:nvPr/>
        </p:nvPicPr>
        <p:blipFill>
          <a:blip r:embed="rId1"/>
          <a:stretch/>
        </p:blipFill>
        <p:spPr>
          <a:xfrm>
            <a:off x="395280" y="0"/>
            <a:ext cx="66978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2"/>
          <p:cNvSpPr/>
          <p:nvPr/>
        </p:nvSpPr>
        <p:spPr>
          <a:xfrm>
            <a:off x="1116000" y="3651120"/>
            <a:ext cx="7542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й из этапных постановок театра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0-х год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стал спектакль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Тополек мой в красной косынке» Чингиза Айтмат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1973 году в Ленинграде на 2 Всероссийском фестивале национальной драматургии и театрального искусства народов СССР эта бурятская постановка была признана одной из луч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3" descr=""/>
          <p:cNvPicPr/>
          <p:nvPr/>
        </p:nvPicPr>
        <p:blipFill>
          <a:blip r:embed="rId1"/>
          <a:stretch/>
        </p:blipFill>
        <p:spPr>
          <a:xfrm>
            <a:off x="2195640" y="123840"/>
            <a:ext cx="5624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04"/>
          <p:cNvPicPr/>
          <p:nvPr/>
        </p:nvPicPr>
        <p:blipFill>
          <a:blip r:embed="rId1"/>
          <a:stretch/>
        </p:blipFill>
        <p:spPr>
          <a:xfrm>
            <a:off x="1692360" y="123840"/>
            <a:ext cx="5221080" cy="352728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"/>
          <p:cNvSpPr/>
          <p:nvPr/>
        </p:nvSpPr>
        <p:spPr>
          <a:xfrm>
            <a:off x="900000" y="3681360"/>
            <a:ext cx="747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T Sans"/>
              </a:rPr>
              <a:t>В 1975 году труппу пополнили 24 выпускника Дальневосточного института искусств, среди которых:</a:t>
            </a:r>
            <a:r>
              <a:rPr b="0" i="1" lang="ru-RU" sz="1800" spc="-1" strike="noStrike">
                <a:solidFill>
                  <a:srgbClr val="333333"/>
                </a:solidFill>
                <a:latin typeface="PT Sans"/>
              </a:rPr>
              <a:t> Бабуев Олег, Бальжанов Цырен-Доржи, Сультимов Доржи, Дамбаева Елена, Дамдинова Дарима, Цыдыпова Любовь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агдырова Надежда</a:t>
            </a:r>
            <a:r>
              <a:rPr b="0" i="1" lang="ru-RU" sz="1800" spc="-1" strike="noStrike">
                <a:solidFill>
                  <a:srgbClr val="333333"/>
                </a:solidFill>
                <a:latin typeface="PT Sans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PT Sans"/>
              </a:rPr>
              <a:t>и др</a:t>
            </a:r>
            <a:r>
              <a:rPr b="0" i="1" lang="ru-RU" sz="1800" spc="-1" strike="noStrike">
                <a:solidFill>
                  <a:srgbClr val="333333"/>
                </a:solidFill>
                <a:latin typeface="PT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1" descr=""/>
          <p:cNvPicPr/>
          <p:nvPr/>
        </p:nvPicPr>
        <p:blipFill>
          <a:blip r:embed="rId1"/>
          <a:stretch/>
        </p:blipFill>
        <p:spPr>
          <a:xfrm>
            <a:off x="324000" y="50760"/>
            <a:ext cx="6984720" cy="500544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"/>
          <p:cNvPicPr/>
          <p:nvPr/>
        </p:nvPicPr>
        <p:blipFill>
          <a:blip r:embed="rId2"/>
          <a:stretch/>
        </p:blipFill>
        <p:spPr>
          <a:xfrm>
            <a:off x="2987640" y="123840"/>
            <a:ext cx="18716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2"/>
          <p:cNvSpPr/>
          <p:nvPr/>
        </p:nvSpPr>
        <p:spPr>
          <a:xfrm>
            <a:off x="4284720" y="1419120"/>
            <a:ext cx="388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PT Sans"/>
              </a:rPr>
              <a:t>За большие заслуги в развитии Советского искусства 3 марта 1977 года театру было присвоено высокое звание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PT Sans"/>
              </a:rPr>
              <a:t>«Академически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6" descr="вкладыш2"/>
          <p:cNvPicPr/>
          <p:nvPr/>
        </p:nvPicPr>
        <p:blipFill>
          <a:blip r:embed="rId1"/>
          <a:stretch/>
        </p:blipFill>
        <p:spPr>
          <a:xfrm>
            <a:off x="611280" y="195120"/>
            <a:ext cx="3456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1" descr=""/>
          <p:cNvPicPr/>
          <p:nvPr/>
        </p:nvPicPr>
        <p:blipFill>
          <a:blip r:embed="rId1"/>
          <a:stretch/>
        </p:blipFill>
        <p:spPr>
          <a:xfrm>
            <a:off x="611280" y="12384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2"/>
          <p:cNvSpPr/>
          <p:nvPr/>
        </p:nvSpPr>
        <p:spPr>
          <a:xfrm>
            <a:off x="3924360" y="411120"/>
            <a:ext cx="338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заслуги в развитии советского театрального искусства Указом от 14 июля 1982 года Президиум Верховного Совета СССР наградил Государственный Бурятский академический театр драмы им. Х. Намсараева Орденом Трудового Красного Зна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вкладыш1"/>
          <p:cNvPicPr/>
          <p:nvPr/>
        </p:nvPicPr>
        <p:blipFill>
          <a:blip r:embed="rId1"/>
          <a:stretch/>
        </p:blipFill>
        <p:spPr>
          <a:xfrm>
            <a:off x="539640" y="195120"/>
            <a:ext cx="32403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826920" y="700200"/>
            <a:ext cx="728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arianna"/>
              </a:rPr>
              <a:t>Государственный Бурятский академ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arianna"/>
              </a:rPr>
              <a:t>театр драмы им. Хоца Намсара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4501800" y="4280040"/>
            <a:ext cx="41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rianna"/>
              </a:rPr>
              <a:t>Учитель истории Намжилон А.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"/>
          <p:cNvSpPr/>
          <p:nvPr/>
        </p:nvSpPr>
        <p:spPr>
          <a:xfrm>
            <a:off x="900000" y="3508200"/>
            <a:ext cx="790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PT Sans"/>
              </a:rPr>
              <a:t>В 1988 году труппа театра пополнилась 12 выпускниками третьей Ленинградской студии:</a:t>
            </a:r>
            <a:r>
              <a:rPr b="0" i="1" lang="ru-RU" sz="1600" spc="-1" strike="noStrike">
                <a:solidFill>
                  <a:srgbClr val="333333"/>
                </a:solidFill>
                <a:latin typeface="PT Sans"/>
              </a:rPr>
              <a:t> Тангатова Должин Жаргаловна, Ринчинов Зорикто Ешинимаевич, Цыдыпова Саяна Чойбалсановна, Жалцанова Баярма Владимировна, Жамбалов Саян Цыдыпович, Жамбалова Эрженэ Зугдаровна, Дышенов Баир Николаевич, Жалцанов Эрдэни Очирович </a:t>
            </a:r>
            <a:r>
              <a:rPr b="0" lang="ru-RU" sz="1600" spc="-1" strike="noStrike">
                <a:solidFill>
                  <a:srgbClr val="333333"/>
                </a:solidFill>
                <a:latin typeface="PT Sans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05"/>
          <p:cNvPicPr/>
          <p:nvPr/>
        </p:nvPicPr>
        <p:blipFill>
          <a:blip r:embed="rId1"/>
          <a:stretch/>
        </p:blipFill>
        <p:spPr>
          <a:xfrm>
            <a:off x="2124000" y="95400"/>
            <a:ext cx="529128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3" descr=""/>
          <p:cNvPicPr/>
          <p:nvPr/>
        </p:nvPicPr>
        <p:blipFill>
          <a:blip r:embed="rId1"/>
          <a:stretch/>
        </p:blipFill>
        <p:spPr>
          <a:xfrm>
            <a:off x="539640" y="-404640"/>
            <a:ext cx="74883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06"/>
          <p:cNvPicPr/>
          <p:nvPr/>
        </p:nvPicPr>
        <p:blipFill>
          <a:blip r:embed="rId1"/>
          <a:stretch/>
        </p:blipFill>
        <p:spPr>
          <a:xfrm>
            <a:off x="1908000" y="123840"/>
            <a:ext cx="6551640" cy="38368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3"/>
          <p:cNvSpPr/>
          <p:nvPr/>
        </p:nvSpPr>
        <p:spPr>
          <a:xfrm>
            <a:off x="1547640" y="4156200"/>
            <a:ext cx="7417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уск Восточно-Сибирского Государственного института культуры и искусств. 199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2" descr=""/>
          <p:cNvPicPr/>
          <p:nvPr/>
        </p:nvPicPr>
        <p:blipFill>
          <a:blip r:embed="rId1"/>
          <a:stretch/>
        </p:blipFill>
        <p:spPr>
          <a:xfrm>
            <a:off x="468360" y="50760"/>
            <a:ext cx="72723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4" descr=""/>
          <p:cNvPicPr/>
          <p:nvPr/>
        </p:nvPicPr>
        <p:blipFill>
          <a:blip r:embed="rId1"/>
          <a:stretch/>
        </p:blipFill>
        <p:spPr>
          <a:xfrm>
            <a:off x="1619280" y="123840"/>
            <a:ext cx="7246800" cy="48243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"/>
          <p:cNvSpPr/>
          <p:nvPr/>
        </p:nvSpPr>
        <p:spPr>
          <a:xfrm>
            <a:off x="250920" y="2682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5" descr=""/>
          <p:cNvPicPr/>
          <p:nvPr/>
        </p:nvPicPr>
        <p:blipFill>
          <a:blip r:embed="rId1"/>
          <a:stretch/>
        </p:blipFill>
        <p:spPr>
          <a:xfrm>
            <a:off x="1619280" y="195120"/>
            <a:ext cx="6985080" cy="47912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6"/>
          <p:cNvSpPr/>
          <p:nvPr/>
        </p:nvSpPr>
        <p:spPr>
          <a:xfrm>
            <a:off x="250920" y="41112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1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"/>
          <p:cNvPicPr/>
          <p:nvPr/>
        </p:nvPicPr>
        <p:blipFill>
          <a:blip r:embed="rId1"/>
          <a:stretch/>
        </p:blipFill>
        <p:spPr>
          <a:xfrm>
            <a:off x="2268360" y="195120"/>
            <a:ext cx="6551640" cy="47358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"/>
          <p:cNvSpPr/>
          <p:nvPr/>
        </p:nvSpPr>
        <p:spPr>
          <a:xfrm>
            <a:off x="468360" y="339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2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2" descr=""/>
          <p:cNvPicPr/>
          <p:nvPr/>
        </p:nvPicPr>
        <p:blipFill>
          <a:blip r:embed="rId1"/>
          <a:stretch/>
        </p:blipFill>
        <p:spPr>
          <a:xfrm>
            <a:off x="2484360" y="195120"/>
            <a:ext cx="6480360" cy="4719960"/>
          </a:xfrm>
          <a:prstGeom prst="rect">
            <a:avLst/>
          </a:prstGeom>
          <a:ln w="0">
            <a:noFill/>
          </a:ln>
        </p:spPr>
      </p:pic>
      <p:sp>
        <p:nvSpPr>
          <p:cNvPr id="335" name="TextBox 3"/>
          <p:cNvSpPr/>
          <p:nvPr/>
        </p:nvSpPr>
        <p:spPr>
          <a:xfrm>
            <a:off x="539640" y="411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3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4"/>
          <p:cNvSpPr/>
          <p:nvPr/>
        </p:nvSpPr>
        <p:spPr>
          <a:xfrm>
            <a:off x="395280" y="411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4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5" descr=""/>
          <p:cNvPicPr/>
          <p:nvPr/>
        </p:nvPicPr>
        <p:blipFill>
          <a:blip r:embed="rId1"/>
          <a:stretch/>
        </p:blipFill>
        <p:spPr>
          <a:xfrm>
            <a:off x="1908000" y="195120"/>
            <a:ext cx="655164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1" descr=""/>
          <p:cNvPicPr/>
          <p:nvPr/>
        </p:nvPicPr>
        <p:blipFill>
          <a:blip r:embed="rId1"/>
          <a:stretch/>
        </p:blipFill>
        <p:spPr>
          <a:xfrm>
            <a:off x="2124000" y="195120"/>
            <a:ext cx="6769080" cy="47959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4"/>
          <p:cNvSpPr/>
          <p:nvPr/>
        </p:nvSpPr>
        <p:spPr>
          <a:xfrm>
            <a:off x="395280" y="411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5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11280" y="339840"/>
            <a:ext cx="453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Бурятский академический театр драмы им. Хоца Намсараева был учрежден решением коллегии Наркомпроса Бурят-Монгольской АССР от 03 июля 193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7 июля 1932 года национального профессионального театра явилось одним из знаменательных событий в культурной жизни Бурятской республ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афиша прорыв"/>
          <p:cNvPicPr/>
          <p:nvPr/>
        </p:nvPicPr>
        <p:blipFill>
          <a:blip r:embed="rId1"/>
          <a:stretch/>
        </p:blipFill>
        <p:spPr>
          <a:xfrm>
            <a:off x="5364000" y="195120"/>
            <a:ext cx="309564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2" descr=""/>
          <p:cNvPicPr/>
          <p:nvPr/>
        </p:nvPicPr>
        <p:blipFill>
          <a:blip r:embed="rId1"/>
          <a:stretch/>
        </p:blipFill>
        <p:spPr>
          <a:xfrm>
            <a:off x="2050920" y="268200"/>
            <a:ext cx="6842160" cy="46976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3"/>
          <p:cNvSpPr/>
          <p:nvPr/>
        </p:nvSpPr>
        <p:spPr>
          <a:xfrm>
            <a:off x="395280" y="411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6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3" descr=""/>
          <p:cNvPicPr/>
          <p:nvPr/>
        </p:nvPicPr>
        <p:blipFill>
          <a:blip r:embed="rId1"/>
          <a:stretch/>
        </p:blipFill>
        <p:spPr>
          <a:xfrm>
            <a:off x="1908000" y="123840"/>
            <a:ext cx="6767640" cy="48276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468360" y="339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7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7240" y="212400"/>
            <a:ext cx="2808360" cy="44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36 году в театре начали работать первые профессиональные бурятские режиссёры — выпускники Гитиса Гомбожап Цыдынжапов и Мария Шамбуева. Репертуар состоял из пьес первых бурятских драматургов: Сергея Балдаева, Хоца Намсараева, Аполлона Шадае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4" descr="1932"/>
          <p:cNvPicPr/>
          <p:nvPr/>
        </p:nvPicPr>
        <p:blipFill>
          <a:blip r:embed="rId1"/>
          <a:stretch/>
        </p:blipFill>
        <p:spPr>
          <a:xfrm>
            <a:off x="2987640" y="195120"/>
            <a:ext cx="590544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06"/>
          <p:cNvPicPr/>
          <p:nvPr/>
        </p:nvPicPr>
        <p:blipFill>
          <a:blip r:embed="rId1"/>
          <a:stretch/>
        </p:blipFill>
        <p:spPr>
          <a:xfrm>
            <a:off x="263520" y="268200"/>
            <a:ext cx="3776760" cy="2664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05"/>
          <p:cNvPicPr/>
          <p:nvPr/>
        </p:nvPicPr>
        <p:blipFill>
          <a:blip r:embed="rId2"/>
          <a:stretch/>
        </p:blipFill>
        <p:spPr>
          <a:xfrm>
            <a:off x="4572000" y="2066760"/>
            <a:ext cx="4081320" cy="28148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5"/>
          <p:cNvSpPr/>
          <p:nvPr/>
        </p:nvSpPr>
        <p:spPr>
          <a:xfrm>
            <a:off x="547560" y="4332240"/>
            <a:ext cx="4024440" cy="5414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тановка спектакля «Тартюф» Моль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жиссер Гомбо Цыдынжапов. 193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4040280" y="270000"/>
            <a:ext cx="3052800" cy="93348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уппа театра в Ял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о время съемки кинофильма «Наместник Буд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 мая 193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826920" y="2716200"/>
            <a:ext cx="7050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38 году в Бурятском драматическом театре была поставлена первая национальная музыкальная драма «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аи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(музыка П. Берлинского, текст Г. Цыдынжапова и А. Шадае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39 году принято постановление о реорганизации национального драматического театра в музыкально-драматиче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3" descr=""/>
          <p:cNvPicPr/>
          <p:nvPr/>
        </p:nvPicPr>
        <p:blipFill>
          <a:blip r:embed="rId1"/>
          <a:stretch/>
        </p:blipFill>
        <p:spPr>
          <a:xfrm>
            <a:off x="2340000" y="166680"/>
            <a:ext cx="39895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3"/>
          <p:cNvSpPr/>
          <p:nvPr/>
        </p:nvSpPr>
        <p:spPr>
          <a:xfrm>
            <a:off x="1332000" y="70020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1940-х годов в бурятском музыкально-драматическом театре было напряженным. Республика готовилась к проведению в октябре 1940 года в Моск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ады культуры и искусства. Для показа подготовили первую национальную оперу «Энхэ Булад батор», музыкальная драма «Баир», лирическая пьеса о современной бурятской деревне «Эржэ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4" descr=""/>
          <p:cNvPicPr/>
          <p:nvPr/>
        </p:nvPicPr>
        <p:blipFill>
          <a:blip r:embed="rId1"/>
          <a:stretch/>
        </p:blipFill>
        <p:spPr>
          <a:xfrm>
            <a:off x="5292720" y="555480"/>
            <a:ext cx="27352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1"/>
          <p:cNvSpPr/>
          <p:nvPr/>
        </p:nvSpPr>
        <p:spPr>
          <a:xfrm>
            <a:off x="395280" y="2859120"/>
            <a:ext cx="8497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PT Sans"/>
              </a:rPr>
              <a:t>В годы войны почти весь мужской состав труппы и технического персонала были призваны на фронт. В 1942 году состоялась премьера спектакля «Шел солдат с фронта» В.Катаева в постановке режиссера А.Миронского. В 1943 году тема войны была отражена в спектакле «Снайпер» Г.Цыдынжапова, прообразом стал реальный герой войны - снайпер Ц-Д. Доржи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PT Sans"/>
              </a:rPr>
              <a:t>Зимой 1943 года концертная бригада театра во главе с художественным руководителем, народным артистом СССР Г.Цыдынжаповым выехала для на Белорусский фронт, где дала около 100 концертов за два меся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2" descr=""/>
          <p:cNvPicPr/>
          <p:nvPr/>
        </p:nvPicPr>
        <p:blipFill>
          <a:blip r:embed="rId1"/>
          <a:stretch/>
        </p:blipFill>
        <p:spPr>
          <a:xfrm>
            <a:off x="468360" y="195120"/>
            <a:ext cx="741672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1"/>
          <p:cNvSpPr/>
          <p:nvPr/>
        </p:nvSpPr>
        <p:spPr>
          <a:xfrm>
            <a:off x="4500720" y="409680"/>
            <a:ext cx="2950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В 1945 году состоялась премьера спектакля «</a:t>
            </a:r>
            <a:r>
              <a:rPr b="0" i="1" lang="ru-RU" sz="1800" spc="-1" strike="noStrike">
                <a:solidFill>
                  <a:srgbClr val="222222"/>
                </a:solidFill>
                <a:latin typeface="Arial"/>
              </a:rPr>
              <a:t>Кнут тайши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» Хоца Намсараева, в 1948 году — спектакль «Отелло» Вильяма Шексп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В этом же году происходит разделение музыкально-драматического театра на два самостоятельных коллектива — театр оперы и балета и драматиче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2" descr=""/>
          <p:cNvPicPr/>
          <p:nvPr/>
        </p:nvPicPr>
        <p:blipFill>
          <a:blip r:embed="rId1"/>
          <a:stretch/>
        </p:blipFill>
        <p:spPr>
          <a:xfrm>
            <a:off x="755640" y="411120"/>
            <a:ext cx="30243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7T13:40:05Z</dcterms:created>
  <dc:creator>Lenovo</dc:creator>
  <dc:description/>
  <dc:language>en-US</dc:language>
  <cp:lastModifiedBy>acer</cp:lastModifiedBy>
  <dcterms:modified xsi:type="dcterms:W3CDTF">2020-04-03T14:02:39Z</dcterms:modified>
  <cp:revision>48</cp:revision>
  <dc:subject/>
  <dc:title>Слайд 1</dc:title>
</cp:coreProperties>
</file>