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3D1-630A-4859-8804-67D3D81E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54F-EDC8-4890-8F48-9132D5ED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5EF-7653-40E3-A22B-8D6D3E18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601-9A9C-4873-A0D9-40ED58C4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845-5693-4F16-8579-A623A141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873-3214-43DE-A058-6AF52DB7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495-7BD4-4D40-8880-125AE007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25A-B619-4EDF-AFA0-449973B5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5C2-4C70-4DED-B510-8E7B8782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8C3-4AA0-457B-8FE7-34C5BFD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323-EF00-4EE3-ADED-5FA471E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7D3-FB88-4510-A5FF-96307BF4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54AF-EBA2-4F04-813D-DEC757AD5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103;_&#1087;&#1088;&#1080;&#1083;&#1072;&#1075;&#1072;&#1090;&#1077;&#1083;&#1100;&#1085;&#1086;&#1077;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2360" y="1844640"/>
          <a:ext cx="6696000" cy="174636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17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русского языка в 3 класс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 «Понятие об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и прилагательном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2195640" y="3933720"/>
          <a:ext cx="5832360" cy="1150920"/>
        </p:xfrm>
        <a:graphic>
          <a:graphicData uri="http://schemas.openxmlformats.org/drawingml/2006/table">
            <a:tbl>
              <a:tblPr/>
              <a:tblGrid>
                <a:gridCol w="5832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начальных классов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Елена Вячеславо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C54-936C-4429-9605-F33E0D897E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333360"/>
            <a:ext cx="3313080" cy="54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с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уж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3213000"/>
            <a:ext cx="2592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ост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64360" y="2060640"/>
            <a:ext cx="2879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логод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2637000"/>
            <a:ext cx="27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ым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1484280"/>
            <a:ext cx="273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охлом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981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765000"/>
            <a:ext cx="172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205000"/>
            <a:ext cx="172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3645000"/>
            <a:ext cx="180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к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5300640"/>
            <a:ext cx="1728720" cy="33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728-7C99-46EF-AE66-0B46B98755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035240" cy="5977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014720" cy="6048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4000" y="57340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7BE-15CF-4F01-9590-DDD010AB74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333360"/>
            <a:ext cx="3313080" cy="54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с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уж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213000"/>
            <a:ext cx="259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ост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2060640"/>
            <a:ext cx="288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логод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2637000"/>
            <a:ext cx="277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ым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1484280"/>
            <a:ext cx="273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охлом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580000" y="765000"/>
          <a:ext cx="647640" cy="57780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f9f4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651640" y="2276640"/>
          <a:ext cx="720720" cy="57780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f9f4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651640" y="5157720"/>
          <a:ext cx="718920" cy="577800"/>
        </p:xfrm>
        <a:graphic>
          <a:graphicData uri="http://schemas.openxmlformats.org/drawingml/2006/table">
            <a:tbl>
              <a:tblPr/>
              <a:tblGrid>
                <a:gridCol w="718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solidFill>
                      <a:srgbClr val="f9f4d7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859280" y="981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60280"/>
            <a:ext cx="216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ж.р.,  ед.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765000"/>
            <a:ext cx="172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773360"/>
            <a:ext cx="230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ср.р., ед.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2205000"/>
            <a:ext cx="172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50028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м.р., ед.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3645000"/>
            <a:ext cx="180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к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94172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мн.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5300640"/>
            <a:ext cx="1728720" cy="33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716280"/>
            <a:ext cx="792360" cy="581400"/>
          </a:xfrm>
          <a:prstGeom prst="rect">
            <a:avLst/>
          </a:prstGeom>
          <a:solidFill>
            <a:srgbClr val="f9f4d7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171-41E3-4235-9F05-F4A3A6182C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63 4.10405E-006 L -0.27569 -0.10498 E">
                                      <p:cBhvr>
                                        <p:cTn id="9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27 3.46821E-006 L -0.2915 0.03144 E">
                                      <p:cBhvr>
                                        <p:cTn id="11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0.0104 L -0.30712 0.07329 E">
                                      <p:cBhvr>
                                        <p:cTn id="12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938 0.0104 L -0.31702 0.36716 E">
                                      <p:cBhvr>
                                        <p:cTn id="14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8280360" cy="403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eec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я прилагательное отвечает на вопросы…и обознач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я прилагательное изменяется п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этом меняется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 и число имени прилагательного зависит от…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00A-7B00-420C-ABFA-FAEED78DE6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260280"/>
            <a:ext cx="8353440" cy="4220280"/>
          </a:xfrm>
          <a:prstGeom prst="rect">
            <a:avLst/>
          </a:prstGeom>
          <a:solidFill>
            <a:srgbClr val="f9f4d7">
              <a:alpha val="30000"/>
            </a:srgbClr>
          </a:solidFill>
          <a:ln w="9360">
            <a:solidFill>
              <a:srgbClr val="f9f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Хохломская роспись, вологодское кружево,  жостовский поднос, дымковские игрушки – виды русского народного искус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76280"/>
            <a:ext cx="2808360" cy="6426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Хохлом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549360"/>
            <a:ext cx="3024360" cy="6426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ологод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1341360"/>
            <a:ext cx="2808360" cy="6426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жост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2133720"/>
            <a:ext cx="2808000" cy="6426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дымков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133720"/>
            <a:ext cx="2160360" cy="6426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рус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924280"/>
            <a:ext cx="2447640" cy="6426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р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A4D-54DB-4640-8149-3A4AFDD126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я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удл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бы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тейл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о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я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48320" y="1600200"/>
          <a:ext cx="4035600" cy="2184480"/>
        </p:xfrm>
        <a:graphic>
          <a:graphicData uri="http://schemas.openxmlformats.org/drawingml/2006/table">
            <a:tbl>
              <a:tblPr/>
              <a:tblGrid>
                <a:gridCol w="4035600"/>
              </a:tblGrid>
              <a:tr h="21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5545080" cy="4622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0" y="260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79640" y="1628640"/>
          <a:ext cx="576000" cy="576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195640" y="2852640"/>
          <a:ext cx="576000" cy="51732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627280" y="2276640"/>
          <a:ext cx="503280" cy="51732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692360" y="3429000"/>
          <a:ext cx="502920" cy="504720"/>
        </p:xfrm>
        <a:graphic>
          <a:graphicData uri="http://schemas.openxmlformats.org/drawingml/2006/table">
            <a:tbl>
              <a:tblPr/>
              <a:tblGrid>
                <a:gridCol w="50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340000" y="4076640"/>
          <a:ext cx="502920" cy="504720"/>
        </p:xfrm>
        <a:graphic>
          <a:graphicData uri="http://schemas.openxmlformats.org/drawingml/2006/table">
            <a:tbl>
              <a:tblPr/>
              <a:tblGrid>
                <a:gridCol w="50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619280" y="4581360"/>
          <a:ext cx="504360" cy="503280"/>
        </p:xfrm>
        <a:graphic>
          <a:graphicData uri="http://schemas.openxmlformats.org/drawingml/2006/table">
            <a:tbl>
              <a:tblPr/>
              <a:tblGrid>
                <a:gridCol w="50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340000" y="5157720"/>
          <a:ext cx="576000" cy="576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16D-3183-4D0D-867A-BAFD439EF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3456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лоснеж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здуш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зор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етё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ьня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916360" y="476280"/>
          <a:ext cx="575640" cy="504720"/>
        </p:xfrm>
        <a:graphic>
          <a:graphicData uri="http://schemas.openxmlformats.org/drawingml/2006/table">
            <a:tbl>
              <a:tblPr/>
              <a:tblGrid>
                <a:gridCol w="5756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411280" y="1125360"/>
          <a:ext cx="576000" cy="432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835280" y="1628640"/>
          <a:ext cx="504360" cy="503280"/>
        </p:xfrm>
        <a:graphic>
          <a:graphicData uri="http://schemas.openxmlformats.org/drawingml/2006/table">
            <a:tbl>
              <a:tblPr/>
              <a:tblGrid>
                <a:gridCol w="50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124000" y="2205000"/>
          <a:ext cx="504720" cy="432000"/>
        </p:xfrm>
        <a:graphic>
          <a:graphicData uri="http://schemas.openxmlformats.org/drawingml/2006/table">
            <a:tbl>
              <a:tblPr/>
              <a:tblGrid>
                <a:gridCol w="504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835280" y="2708280"/>
          <a:ext cx="575640" cy="504720"/>
        </p:xfrm>
        <a:graphic>
          <a:graphicData uri="http://schemas.openxmlformats.org/drawingml/2006/table">
            <a:tbl>
              <a:tblPr/>
              <a:tblGrid>
                <a:gridCol w="5756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6" name="" descr=""/>
          <p:cNvPicPr/>
          <p:nvPr/>
        </p:nvPicPr>
        <p:blipFill>
          <a:blip r:embed="rId1"/>
          <a:srcRect l="8419" t="11004" r="7253" b="888"/>
          <a:stretch/>
        </p:blipFill>
        <p:spPr>
          <a:xfrm>
            <a:off x="3348000" y="2000160"/>
            <a:ext cx="5506920" cy="457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5BF-3A6A-49B1-AA4A-DBDA217DF1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052640"/>
            <a:ext cx="374508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ря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ё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ас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елез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алл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уг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63640" y="3357720"/>
          <a:ext cx="642600" cy="575640"/>
        </p:xfrm>
        <a:graphic>
          <a:graphicData uri="http://schemas.openxmlformats.org/drawingml/2006/table">
            <a:tbl>
              <a:tblPr/>
              <a:tblGrid>
                <a:gridCol w="64260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648320" y="1600200"/>
          <a:ext cx="4035600" cy="2184480"/>
        </p:xfrm>
        <a:graphic>
          <a:graphicData uri="http://schemas.openxmlformats.org/drawingml/2006/table">
            <a:tbl>
              <a:tblPr/>
              <a:tblGrid>
                <a:gridCol w="4035600"/>
              </a:tblGrid>
              <a:tr h="21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258920" y="4437000"/>
          <a:ext cx="658440" cy="576000"/>
        </p:xfrm>
        <a:graphic>
          <a:graphicData uri="http://schemas.openxmlformats.org/drawingml/2006/table">
            <a:tbl>
              <a:tblPr/>
              <a:tblGrid>
                <a:gridCol w="6584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780000" y="260280"/>
            <a:ext cx="4964040" cy="612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187280" y="1700280"/>
          <a:ext cx="576000" cy="576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63640" y="1052640"/>
          <a:ext cx="576000" cy="57564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916360" y="3860640"/>
          <a:ext cx="570960" cy="505080"/>
        </p:xfrm>
        <a:graphic>
          <a:graphicData uri="http://schemas.openxmlformats.org/drawingml/2006/table">
            <a:tbl>
              <a:tblPr/>
              <a:tblGrid>
                <a:gridCol w="5709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547640" y="2781360"/>
          <a:ext cx="502920" cy="504720"/>
        </p:xfrm>
        <a:graphic>
          <a:graphicData uri="http://schemas.openxmlformats.org/drawingml/2006/table">
            <a:tbl>
              <a:tblPr/>
              <a:tblGrid>
                <a:gridCol w="50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835280" y="2133720"/>
          <a:ext cx="575640" cy="575640"/>
        </p:xfrm>
        <a:graphic>
          <a:graphicData uri="http://schemas.openxmlformats.org/drawingml/2006/table">
            <a:tbl>
              <a:tblPr/>
              <a:tblGrid>
                <a:gridCol w="57564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5F7-A17E-492B-8B37-605ED363A5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36520" y="1727280"/>
            <a:ext cx="3457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.р.  ка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.р. ка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р.р. ка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2276640"/>
            <a:ext cx="7207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916360"/>
            <a:ext cx="7207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227664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9080" y="227664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2276640"/>
            <a:ext cx="719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2916360"/>
            <a:ext cx="719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3280" y="227664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2560" y="227664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80000" y="3573360"/>
            <a:ext cx="7207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213080"/>
            <a:ext cx="72072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357336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357336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3573360"/>
            <a:ext cx="792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4213080"/>
            <a:ext cx="792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357336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357336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3573360"/>
            <a:ext cx="719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4213080"/>
            <a:ext cx="7192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57336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6560" y="3573360"/>
            <a:ext cx="0" cy="639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4941720"/>
            <a:ext cx="7923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5581800"/>
            <a:ext cx="7923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8360" y="4941720"/>
            <a:ext cx="0" cy="64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00720" y="4941720"/>
            <a:ext cx="0" cy="64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4941720"/>
            <a:ext cx="792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5581800"/>
            <a:ext cx="792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941720"/>
            <a:ext cx="0" cy="64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941720"/>
            <a:ext cx="0" cy="640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2276640"/>
            <a:ext cx="720720" cy="63972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3280" y="2276640"/>
            <a:ext cx="719280" cy="63972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80000" y="3573360"/>
            <a:ext cx="720720" cy="63972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3573360"/>
            <a:ext cx="792000" cy="63972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573360"/>
            <a:ext cx="719280" cy="63972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4941720"/>
            <a:ext cx="792360" cy="64008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88000" y="4941720"/>
            <a:ext cx="792000" cy="64008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00" y="58428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ОДОВЫЕ ОКОНЧАНИЯ ИМЁН ПРИЛАГАТЕЛЬНЫХ   (ед.ч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CC7-F0D6-41A8-94E0-8BFAC9A154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913440" cy="4975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003640" y="404640"/>
            <a:ext cx="3816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р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ноцве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здни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аз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вон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линя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812000" y="1052640"/>
          <a:ext cx="647280" cy="5047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40360" y="549360"/>
          <a:ext cx="576360" cy="43164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7596360" y="1628640"/>
          <a:ext cx="647280" cy="50508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443640" y="2708280"/>
          <a:ext cx="576000" cy="50652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732720" y="3284640"/>
          <a:ext cx="647280" cy="5047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6948360" y="2133720"/>
          <a:ext cx="647640" cy="50328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13D-F8AC-4E13-A39E-FB54C04569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8183520" cy="493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4005360"/>
            <a:ext cx="482436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Руси уж так и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лантливый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 себе и жнец, и шв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580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на дудочке иг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4F5-7571-409D-B927-0CE4B6D8B3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4360" y="765000"/>
            <a:ext cx="784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ОНЧАНИЯ ПРИЛАГАТЕЛЬНЫХ ВО МНОЖЕСТВЕННОМ ЧИ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2421000"/>
            <a:ext cx="158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н. 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2421000"/>
            <a:ext cx="18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27640" y="2421000"/>
          <a:ext cx="718920" cy="639720"/>
        </p:xfrm>
        <a:graphic>
          <a:graphicData uri="http://schemas.openxmlformats.org/drawingml/2006/table">
            <a:tbl>
              <a:tblPr/>
              <a:tblGrid>
                <a:gridCol w="71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9f4d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508720" y="2421000"/>
          <a:ext cx="792000" cy="639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9f4d7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4EE-4215-4F05-BBAD-A63541438E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4360" y="620640"/>
            <a:ext cx="78483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ПИТЕТ - это яркое образное определение предмета или явления. В художественном произведении эпитет помогает живо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дставить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бе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дмет,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чувствоват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ношение автора к нем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Выражается обычно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енем прилагате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0F8-5341-4E70-8637-6ADE72F3B8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39640" y="54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476280"/>
            <a:ext cx="860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ми узорами украшена хохломская посу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280" y="1989000"/>
            <a:ext cx="316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я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удл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бы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тейл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я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33720" y="1700280"/>
            <a:ext cx="414180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745-A055-4DAA-90B9-8F9E3F557A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4360" y="260280"/>
            <a:ext cx="792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апоминают белоснежные вологодские кружев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2881440" cy="3887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2133720"/>
            <a:ext cx="4032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479680" cy="2521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908000" y="2133720"/>
            <a:ext cx="244800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27D-37F6-4B73-8CA4-8AE56762E5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549360"/>
            <a:ext cx="849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е настроение дарят нам яркие дымковские игрушк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16000" y="2133720"/>
            <a:ext cx="31687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здни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азо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р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иня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до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3888000" cy="29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C36-288F-4150-B83F-CF22592143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6191280" cy="26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ние народных тради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620640"/>
            <a:ext cx="87854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человеческие качества помогают создавать мастерам такие замечательные вещ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982-D832-457C-9867-A7462C0CBA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04720" y="142920"/>
            <a:ext cx="4105440" cy="3162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681440" y="142920"/>
            <a:ext cx="3743280" cy="31431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681440" y="3384720"/>
            <a:ext cx="3743280" cy="3365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504720" y="3384720"/>
            <a:ext cx="4103640" cy="334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A6A-CF5E-4981-94AA-A6E39A565F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324000" y="260280"/>
          <a:ext cx="8640720" cy="626580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26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кие вопросы отвечает имя прилагательн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называет имя прилагательн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 какой частью речи связано имя прилагательное в словосочетани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т чего зависит род и число имени прилагательног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акие родовые окончания имеет имя прилагательн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На какой вопрос отвечает имя прилагательное во множественном числе, какие окончания имее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С какой целью используют имена прилагательные в реч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ABA-4EE2-4EEE-AF05-52105F551E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8360" y="1628640"/>
            <a:ext cx="81360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активное, восторженное настро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Желты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ветлое прия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Зелёны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окойно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в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Фиолетовы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устно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ча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ёрны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ояние крайней неудовлетворён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340000" y="476280"/>
            <a:ext cx="44766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троение от уро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170-4F22-4EDD-8F99-9EBF84942A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445000"/>
            <a:ext cx="65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варь всю по дому спр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6093000"/>
            <a:ext cx="655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ной чашей дом тот ста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869000"/>
            <a:ext cx="655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 добротный воз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292640"/>
            <a:ext cx="655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блоху он подку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33E-3820-49DB-A36F-7CDAABBC0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189000"/>
          <a:ext cx="8640720" cy="6397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: Имя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79280" y="765000"/>
          <a:ext cx="8964720" cy="576108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кие вопросы отвечает имя прилагательн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называет имя прилагательн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 какой частью речи связано имя прилагательное в словосочетани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т чего зависит род и число имени прилагательног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акие родовые окончания имеет имя прилагательно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На какой вопрос отвечает имя прилагательное во множественном числе, какие окончания имее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С какой целью используют имена прилагательные в реч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CB7-9FD0-4057-85F3-1D0B0A92FE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ж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с, п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а, игру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, м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нт, труд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ие, люб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ь, м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рство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ь, в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ть, в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у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инание, ук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ние, росп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, м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лл, ж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ку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, Род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, к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та, т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т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, нар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3A2-0C5C-42CD-A3D9-712008BF00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24000" y="260280"/>
            <a:ext cx="8569080" cy="6335280"/>
            <a:chOff x="324000" y="260280"/>
            <a:chExt cx="8569080" cy="63352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rcRect l="1962" t="62918" r="75197" b="5426"/>
            <a:stretch/>
          </p:blipFill>
          <p:spPr>
            <a:xfrm>
              <a:off x="324000" y="4147920"/>
              <a:ext cx="20887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324000" y="260280"/>
              <a:ext cx="4321080" cy="26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4883040" y="260280"/>
              <a:ext cx="4009680" cy="26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24000" y="260280"/>
              <a:ext cx="432108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000" y="260280"/>
              <a:ext cx="4321080" cy="0"/>
            </a:xfrm>
            <a:prstGeom prst="line">
              <a:avLst/>
            </a:prstGeom>
            <a:ln cap="sq"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" y="2923920"/>
              <a:ext cx="4321080" cy="0"/>
            </a:xfrm>
            <a:prstGeom prst="line">
              <a:avLst/>
            </a:prstGeom>
            <a:ln cap="sq"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" y="260280"/>
              <a:ext cx="0" cy="2663640"/>
            </a:xfrm>
            <a:prstGeom prst="line">
              <a:avLst/>
            </a:prstGeom>
            <a:ln cap="sq"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5080" y="260280"/>
              <a:ext cx="0" cy="2663640"/>
            </a:xfrm>
            <a:prstGeom prst="line">
              <a:avLst/>
            </a:prstGeom>
            <a:ln cap="sq"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5640" y="2420640"/>
              <a:ext cx="3526920" cy="642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ee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ело Жостов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60720" y="260280"/>
              <a:ext cx="4032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60720" y="260280"/>
              <a:ext cx="4032000" cy="0"/>
            </a:xfrm>
            <a:prstGeom prst="line">
              <a:avLst/>
            </a:prstGeom>
            <a:ln cap="sq"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60720" y="2923920"/>
              <a:ext cx="4032000" cy="0"/>
            </a:xfrm>
            <a:prstGeom prst="line">
              <a:avLst/>
            </a:prstGeom>
            <a:ln cap="sq"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60720" y="260280"/>
              <a:ext cx="0" cy="2663640"/>
            </a:xfrm>
            <a:prstGeom prst="line">
              <a:avLst/>
            </a:prstGeom>
            <a:ln cap="sq"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93080" y="260280"/>
              <a:ext cx="0" cy="2663640"/>
            </a:xfrm>
            <a:prstGeom prst="line">
              <a:avLst/>
            </a:prstGeom>
            <a:ln cap="sq"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03640" y="2492280"/>
              <a:ext cx="3600000" cy="642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ee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город Вологд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395280" y="3213000"/>
              <a:ext cx="4176360" cy="33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84000" y="5876640"/>
              <a:ext cx="3671640" cy="642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ee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ело Дымков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4932360" y="3213000"/>
              <a:ext cx="3671280" cy="33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076720" y="5876640"/>
              <a:ext cx="3455640" cy="642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ee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ело Хохлом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073-A81C-44AB-987B-AAA934BC5E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" name=""/>
          <p:cNvCxnSpPr/>
          <p:nvPr/>
        </p:nvCxnSpPr>
        <p:spPr>
          <a:xfrm>
            <a:off x="4571640" y="34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/>
          <p:nvPr/>
        </p:nvCxnSpPr>
        <p:spPr>
          <a:xfrm>
            <a:off x="9144000" y="34466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6" name=""/>
          <p:cNvGrpSpPr/>
          <p:nvPr/>
        </p:nvGrpSpPr>
        <p:grpSpPr>
          <a:xfrm>
            <a:off x="-94680" y="675720"/>
            <a:ext cx="5387400" cy="6500520"/>
            <a:chOff x="-94680" y="675720"/>
            <a:chExt cx="5387400" cy="6500520"/>
          </a:xfrm>
        </p:grpSpPr>
        <p:sp>
          <p:nvSpPr>
            <p:cNvPr id="77" name=""/>
            <p:cNvSpPr/>
            <p:nvPr/>
          </p:nvSpPr>
          <p:spPr>
            <a:xfrm>
              <a:off x="611280" y="1265400"/>
              <a:ext cx="4681440" cy="39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охлома + ск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ологда + ск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Дымково + ск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Жостово + ск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8832200">
              <a:off x="441360" y="1130760"/>
              <a:ext cx="2213280" cy="22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832200">
              <a:off x="441360" y="3346920"/>
              <a:ext cx="2213280" cy="22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832200">
              <a:off x="369720" y="2274480"/>
              <a:ext cx="2213280" cy="22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832200">
              <a:off x="441360" y="4489200"/>
              <a:ext cx="2213280" cy="22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132000" y="1123560"/>
              <a:ext cx="431640" cy="357840"/>
              <a:chOff x="3132000" y="1123560"/>
              <a:chExt cx="431640" cy="35784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132000" y="1123560"/>
                <a:ext cx="216000" cy="3578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48000" y="1123560"/>
                <a:ext cx="215640" cy="3578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987640" y="2194560"/>
              <a:ext cx="431640" cy="357840"/>
              <a:chOff x="2987640" y="2194560"/>
              <a:chExt cx="431640" cy="357840"/>
            </a:xfrm>
          </p:grpSpPr>
          <p:sp>
            <p:nvSpPr>
              <p:cNvPr id="86" name=""/>
              <p:cNvSpPr/>
              <p:nvPr/>
            </p:nvSpPr>
            <p:spPr>
              <a:xfrm flipV="1">
                <a:off x="2987640" y="2194560"/>
                <a:ext cx="21600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03640" y="2194920"/>
                <a:ext cx="21564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132000" y="3265560"/>
              <a:ext cx="431640" cy="357840"/>
              <a:chOff x="3132000" y="3265560"/>
              <a:chExt cx="431640" cy="357840"/>
            </a:xfrm>
          </p:grpSpPr>
          <p:sp>
            <p:nvSpPr>
              <p:cNvPr id="89" name=""/>
              <p:cNvSpPr/>
              <p:nvPr/>
            </p:nvSpPr>
            <p:spPr>
              <a:xfrm flipV="1">
                <a:off x="3132000" y="3265560"/>
                <a:ext cx="21600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48000" y="3265920"/>
                <a:ext cx="21564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132000" y="4408920"/>
              <a:ext cx="431640" cy="357840"/>
              <a:chOff x="3132000" y="4408920"/>
              <a:chExt cx="431640" cy="35784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3132000" y="4408920"/>
                <a:ext cx="21600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48000" y="4409280"/>
                <a:ext cx="21564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62C-641C-4AE9-93B4-A5C70ABF3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-94680" y="675720"/>
            <a:ext cx="5387400" cy="6500520"/>
            <a:chOff x="-94680" y="675720"/>
            <a:chExt cx="5387400" cy="6500520"/>
          </a:xfrm>
        </p:grpSpPr>
        <p:sp>
          <p:nvSpPr>
            <p:cNvPr id="95" name=""/>
            <p:cNvSpPr/>
            <p:nvPr/>
          </p:nvSpPr>
          <p:spPr>
            <a:xfrm>
              <a:off x="611280" y="1265400"/>
              <a:ext cx="4681440" cy="39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охлома + ск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ологда + ск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Дымково + ск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Жостово + ск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832200">
              <a:off x="441360" y="1130760"/>
              <a:ext cx="2213280" cy="22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832200">
              <a:off x="441360" y="3346920"/>
              <a:ext cx="2213280" cy="22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832200">
              <a:off x="369720" y="2274480"/>
              <a:ext cx="2213280" cy="22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832200">
              <a:off x="441360" y="4489200"/>
              <a:ext cx="2213280" cy="22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132000" y="1123560"/>
              <a:ext cx="431640" cy="357840"/>
              <a:chOff x="3132000" y="1123560"/>
              <a:chExt cx="431640" cy="35784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3132000" y="1123560"/>
                <a:ext cx="216000" cy="3578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48000" y="1123560"/>
                <a:ext cx="215640" cy="3578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987640" y="2194560"/>
              <a:ext cx="431640" cy="357840"/>
              <a:chOff x="2987640" y="2194560"/>
              <a:chExt cx="431640" cy="357840"/>
            </a:xfrm>
          </p:grpSpPr>
          <p:sp>
            <p:nvSpPr>
              <p:cNvPr id="104" name=""/>
              <p:cNvSpPr/>
              <p:nvPr/>
            </p:nvSpPr>
            <p:spPr>
              <a:xfrm flipV="1">
                <a:off x="2987640" y="2194560"/>
                <a:ext cx="21600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03640" y="2194920"/>
                <a:ext cx="21564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132000" y="3265560"/>
              <a:ext cx="431640" cy="357840"/>
              <a:chOff x="3132000" y="3265560"/>
              <a:chExt cx="431640" cy="35784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3132000" y="3265560"/>
                <a:ext cx="21600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48000" y="3265920"/>
                <a:ext cx="21564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132000" y="4408920"/>
              <a:ext cx="431640" cy="357840"/>
              <a:chOff x="3132000" y="4408920"/>
              <a:chExt cx="431640" cy="35784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3132000" y="4408920"/>
                <a:ext cx="21600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48000" y="4409280"/>
                <a:ext cx="215640" cy="357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4500720" y="1125360"/>
            <a:ext cx="3097080" cy="413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хломс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логод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ымк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ост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832200">
            <a:off x="4173840" y="1211760"/>
            <a:ext cx="2231280" cy="22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97800">
            <a:off x="4352040" y="2291400"/>
            <a:ext cx="2231280" cy="22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832200">
            <a:off x="4245480" y="3372480"/>
            <a:ext cx="2231280" cy="22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8832200">
            <a:off x="4173840" y="4451760"/>
            <a:ext cx="2231280" cy="22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27640" y="1268280"/>
            <a:ext cx="289080" cy="288720"/>
            <a:chOff x="6227640" y="1268280"/>
            <a:chExt cx="289080" cy="288720"/>
          </a:xfrm>
        </p:grpSpPr>
        <p:sp>
          <p:nvSpPr>
            <p:cNvPr id="118" name=""/>
            <p:cNvSpPr/>
            <p:nvPr/>
          </p:nvSpPr>
          <p:spPr>
            <a:xfrm flipV="1">
              <a:off x="6227640" y="1268280"/>
              <a:ext cx="144360" cy="288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72000" y="1268280"/>
              <a:ext cx="144720" cy="288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372360" y="2349360"/>
            <a:ext cx="288360" cy="288720"/>
            <a:chOff x="6372360" y="2349360"/>
            <a:chExt cx="288360" cy="288720"/>
          </a:xfrm>
        </p:grpSpPr>
        <p:sp>
          <p:nvSpPr>
            <p:cNvPr id="121" name=""/>
            <p:cNvSpPr/>
            <p:nvPr/>
          </p:nvSpPr>
          <p:spPr>
            <a:xfrm flipV="1">
              <a:off x="6372360" y="2349360"/>
              <a:ext cx="144000" cy="288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16360" y="2349360"/>
              <a:ext cx="144360" cy="288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300720" y="3357720"/>
            <a:ext cx="289080" cy="288720"/>
            <a:chOff x="6300720" y="3357720"/>
            <a:chExt cx="289080" cy="288720"/>
          </a:xfrm>
        </p:grpSpPr>
        <p:sp>
          <p:nvSpPr>
            <p:cNvPr id="124" name=""/>
            <p:cNvSpPr/>
            <p:nvPr/>
          </p:nvSpPr>
          <p:spPr>
            <a:xfrm flipV="1">
              <a:off x="6300720" y="3357720"/>
              <a:ext cx="144360" cy="288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45080" y="3357720"/>
              <a:ext cx="144720" cy="288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156360" y="4437000"/>
            <a:ext cx="288360" cy="288720"/>
            <a:chOff x="6156360" y="4437000"/>
            <a:chExt cx="288360" cy="288720"/>
          </a:xfrm>
        </p:grpSpPr>
        <p:sp>
          <p:nvSpPr>
            <p:cNvPr id="127" name=""/>
            <p:cNvSpPr/>
            <p:nvPr/>
          </p:nvSpPr>
          <p:spPr>
            <a:xfrm flipV="1">
              <a:off x="6156360" y="4437000"/>
              <a:ext cx="144000" cy="288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00360" y="4437000"/>
              <a:ext cx="144360" cy="2887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6588000" y="1413000"/>
          <a:ext cx="574560" cy="478800"/>
        </p:xfrm>
        <a:graphic>
          <a:graphicData uri="http://schemas.openxmlformats.org/drawingml/2006/table">
            <a:tbl>
              <a:tblPr/>
              <a:tblGrid>
                <a:gridCol w="574560"/>
              </a:tblGrid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732720" y="2492280"/>
          <a:ext cx="574200" cy="479160"/>
        </p:xfrm>
        <a:graphic>
          <a:graphicData uri="http://schemas.openxmlformats.org/drawingml/2006/table">
            <a:tbl>
              <a:tblPr/>
              <a:tblGrid>
                <a:gridCol w="57420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659640" y="3573360"/>
          <a:ext cx="574200" cy="479160"/>
        </p:xfrm>
        <a:graphic>
          <a:graphicData uri="http://schemas.openxmlformats.org/drawingml/2006/table">
            <a:tbl>
              <a:tblPr/>
              <a:tblGrid>
                <a:gridCol w="57420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516720" y="4653000"/>
          <a:ext cx="574200" cy="479160"/>
        </p:xfrm>
        <a:graphic>
          <a:graphicData uri="http://schemas.openxmlformats.org/drawingml/2006/table">
            <a:tbl>
              <a:tblPr/>
              <a:tblGrid>
                <a:gridCol w="57420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solidFill>
                        <a:srgbClr val="009999"/>
                      </a:solidFill>
                    </a:lnR>
                    <a:lnT w="18720">
                      <a:solidFill>
                        <a:srgbClr val="009999"/>
                      </a:solidFill>
                    </a:lnT>
                    <a:lnB w="1872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1C7-CEF8-4724-8EDC-8F0A1492F6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95640" y="249228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805360"/>
            <a:ext cx="1512720" cy="5814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мн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313440" cy="25272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58920" y="3502080"/>
            <a:ext cx="4031640" cy="2823840"/>
            <a:chOff x="358920" y="3502080"/>
            <a:chExt cx="4031640" cy="282384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1006200" y="3502080"/>
              <a:ext cx="338436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8920" y="5805360"/>
              <a:ext cx="2231640" cy="520560"/>
            </a:xfrm>
            <a:prstGeom prst="rect">
              <a:avLst/>
            </a:prstGeom>
            <a:solidFill>
              <a:srgbClr val="f9f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ИГРУШ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9280" y="404640"/>
            <a:ext cx="4211640" cy="2681280"/>
            <a:chOff x="179280" y="404640"/>
            <a:chExt cx="4211640" cy="268128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718920" y="404640"/>
              <a:ext cx="367200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79280" y="2565360"/>
              <a:ext cx="2016000" cy="520560"/>
            </a:xfrm>
            <a:prstGeom prst="rect">
              <a:avLst/>
            </a:prstGeom>
            <a:solidFill>
              <a:srgbClr val="f9f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ДНО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90920" y="3500280"/>
            <a:ext cx="4392720" cy="2825640"/>
            <a:chOff x="4390920" y="3500280"/>
            <a:chExt cx="4392720" cy="2825640"/>
          </a:xfrm>
        </p:grpSpPr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4967280" y="3500280"/>
              <a:ext cx="3816360" cy="26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390920" y="5805360"/>
              <a:ext cx="2376360" cy="520560"/>
            </a:xfrm>
            <a:prstGeom prst="rect">
              <a:avLst/>
            </a:prstGeom>
            <a:solidFill>
              <a:srgbClr val="f9f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ОСПИС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588000" y="5805360"/>
            <a:ext cx="2376720" cy="5814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ж.р., ед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565360"/>
            <a:ext cx="2519640" cy="5814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м.р., ед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637000"/>
            <a:ext cx="2556000" cy="58140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.р.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2637000"/>
            <a:ext cx="2016000" cy="520560"/>
          </a:xfrm>
          <a:prstGeom prst="rect">
            <a:avLst/>
          </a:prstGeom>
          <a:solidFill>
            <a:srgbClr val="f9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УЖ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266-C71B-4BAC-8AC2-3185727135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15:48Z</dcterms:created>
  <dc:creator>Lena</dc:creator>
  <dc:description/>
  <dc:language>en-US</dc:language>
  <cp:lastModifiedBy>Lena</cp:lastModifiedBy>
  <dcterms:modified xsi:type="dcterms:W3CDTF">2012-04-07T18:22:48Z</dcterms:modified>
  <cp:revision>56</cp:revision>
  <dc:subject/>
  <dc:title>Слайд 1</dc:title>
</cp:coreProperties>
</file>