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CE667-DBDE-4016-841F-3A4A74DE1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02BC-1B80-42FE-A44E-9D805509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D53EF-BBD2-4B76-86C1-8F0553168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17CBF-951B-4FB7-8C39-B0A2C7D3C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A9CFF-FAD4-466F-9D5F-97FA2CBD4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92FF5-8D47-46E1-91C8-82BFC248C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4FEE9-3C48-4518-8DEE-5849E88F1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7AECB-92D1-48F0-A5CB-AA3CB1925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78838-CDC5-404D-B0CC-88943C049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BE0E7-815C-4117-AD6A-B8B609448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0BEF2-70FC-4BC0-A463-D5E92C8F0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3BC0F-2F4B-4E4F-8391-72E207C88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1A2B-8740-42F5-856C-8F428F3F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6650-BAD5-44EE-B111-8616779C2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C3AD8-4D40-4D30-8A93-D76DCDB5C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AA1DC-6A62-4FBC-BCCA-9EB6B8AB0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422B4-34B8-4887-8399-863BE09B6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962E-B421-46E6-BDA1-378FA9E3D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8D56-31F9-43ED-9A71-C94E5D7E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C833-5C7D-4231-91A7-620DEA33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BCCB3-8420-4DEA-8E11-53076FFF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8F32-E729-4F17-B6FD-17EC4522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BAF5-6844-4677-95AD-8A1AFC48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D3E2-921D-4BC7-A54B-7529C5127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A452-B9B2-4E87-AD48-BC59CD08356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8407-36F9-4937-8F6F-4626DDC1C28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1143000"/>
            <a:ext cx="73803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0033"/>
                </a:solidFill>
                <a:latin typeface="Times New Roman"/>
              </a:rPr>
              <a:t>Особенности работы учителя-логопеда с неговорящими детьми</a:t>
            </a:r>
            <a:endParaRPr b="0" lang="en-US" sz="5400" spc="-1" strike="noStrike">
              <a:solidFill>
                <a:srgbClr val="330033"/>
              </a:solidFill>
              <a:latin typeface="Times New Roman"/>
            </a:endParaRPr>
          </a:p>
        </p:txBody>
      </p:sp>
      <p:sp>
        <p:nvSpPr>
          <p:cNvPr id="98" name="PlaceHolder 2"/>
          <p:cNvSpPr>
            <a:spLocks noGrp="1"/>
          </p:cNvSpPr>
          <p:nvPr>
            <p:ph type="subTitle"/>
          </p:nvPr>
        </p:nvSpPr>
        <p:spPr>
          <a:xfrm>
            <a:off x="1692360" y="400500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учитель-логопед Христофорова Светлана Сергеевна МКОУ «Рамонский лицей» им. Е.М.Ольденбургск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3. Формирование у детей связей между предметами, действиями и их словесным обозначением.</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1. Научить детей узнавать игрушки по их описа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2. Учить определять предметы по их словесному описанию и назначе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3. Учить узнавать животных на картинке, по словесному описанию, по звукоподража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4. Учить узнавать предметы по назначению.</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кажи, чем будешь есть су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Покажи, чем будешь рисова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Чем будешь чистить зуб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Что наденешь, когда пойдешь гулять? - Чем будешь мыть руки?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5. Где что лежало. Кто с кем поменялся. Кого (чего) не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дание 6 Сличение и сортировка предметов по цвету, форме, величине</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25992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Формирование у детей интереса к игрушкам, игре, обучение игровым действиям</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Стимулирование выполнения отраженных действий.</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делай, как 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кажи, как зайчик прыгает.</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Уложим кукол спать.</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денем Катю на прогул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строй ворот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строй башню.</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пусти шарик в короб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прячь шарик в ладошках.</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Почтовый ящик. Задание 2. Поиграем на гармошке (дудочке, барабане и т. п.).</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Куда упал мячик.</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Поймай зайку. Зайка прячетс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Катание мяча по показу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6. Бросание мяча по показу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Подражание движениям рук, ног, головы, плеч.</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Нанизывание колец (4 - 5 крупных) пирамиды.</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9. Бросание мелких предметов в жестяную коробку.</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0. Чудесный мешочек. Складывание парных предметов, игрушек.</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1. Солнце или дождик? (С бубном)</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2. Чей одуванчик дальше улетит?</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3. Угадай, на чем игра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200" spc="-1" strike="noStrike">
                <a:solidFill>
                  <a:srgbClr val="ff0000"/>
                </a:solidFill>
                <a:latin typeface="Times New Roman"/>
              </a:rPr>
              <a:t>Развитие у детей подражательной речевой деятельности</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990033"/>
                </a:solidFill>
                <a:latin typeface="Arial"/>
              </a:rPr>
              <a:t>Игры</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гадай, кто кричит», «Громко - тихо», «Кто как кричит?» А. Барто, «Птицеферма», «Кормление птенцов» - речевая гимнастика, «Кот и мыши» (слово «мяу»), «Поезд» (звук У), «Лошадки», «Накорми телят» (мму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Изменение силы голоса по подражанию.</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2. Изменение высоты голоса по подражанию («Пи-пи», «Гаф-гаф»).</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Развитие длительного направленного ротового выдоха (на звуке Ф)-</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Чей пароход лучше гудит? (на звуке 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Успокой куклу. Произношение звука А .</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6. Кто как кричит? ( Ау, уа, иа, га-га, пи-пи, мя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Улыбнемся Петрушке, (звук И )</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Покажи и назови. ( Катя, гуси, кот, конь)</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9. Игра «Волшебный сундучок» (это дом, это Катя, это киса, это утка, это гусь, это мишка и т.п.)</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0. Когда это бывает? (приметы времен года)</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1. Игра «Автомобили», (произношение «6и-би...»)</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2. Угадай, кто сказал. Сказки «Три медведя», «Теремок», «Волк и семеро козлят».</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3. Игра «Эхо». (Ау, Оля, Ау)</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полняя в игровой форме артикуляционную гимнастику, упражнения по звуковой культуре речи, играя, дети постепенно овладевают произношением звуков:а, у, о, и, э, м, п, б, ф, в, к, г</a:t>
            </a:r>
            <a:endParaRPr b="0" lang="en-US" sz="1400" spc="-1" strike="noStrike">
              <a:solidFill>
                <a:srgbClr val="000000"/>
              </a:solidFill>
              <a:latin typeface="Arial"/>
            </a:endParaRPr>
          </a:p>
          <a:p>
            <a:pPr marL="322200" indent="-32220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 звукоподражаниях (ау, уа, иа, э-э-э, ммуу, п-п-п, фф-уу, в-в-в, ко-ко, га-га, мяу, аи, ой, у-у-у, о-о-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Обучение детей выражать свои желания словесно, однословным или двухсловным несинтаксированным предложением</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Назвать свои игрушки, знакомые предметы. Допустимо нечеткое произношение.</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2. Назвать предметные картинки отраженно за педагогом, затем самостоятельно.</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Назвать слова отраженно и сопряженной с педагогом, сохраняя ударение.</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Аня, Алик, Катя, Тата, шарик, тапки, шапка, зайка, палка, мак, пальчик, чашка.</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 Оля, Коля, Зоя, ослик, дом, боты, зонт, козлик, ротик, котик, носик, ложка, кошка.</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 утка, муха, кубик, туфли, уши, зубы, губы.</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Дима, киса, Зина, Нина, нитки.</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Вызвать двусложные предложения со словами: где, дай, на, вот, тут.</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Где мячик? - Вот мячик.</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Дай кису. - На кису.</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5. Учить ребенка в бытовых ситуациях выражать свои желания с помощью речи:</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й пить идем домой</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й еще хочу пить</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тя идем хочу гулять идем гулять</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ловесное подражание может быть в любой форме без исправлений недостатков со стороны взрослого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Второй этап. Обогащение словарного запаса у детей и его активизация</a:t>
            </a:r>
            <a:br>
              <a:rPr sz="3200"/>
            </a:br>
            <a:endParaRPr b="0" lang="en-US" sz="3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Arial"/>
              </a:rPr>
              <a:t>Задач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расширить пассивный словарь за счет слов названий предметов, окружающих детей; действий, которые совершаются детьми или близкими взрослым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перевести как можно большее число слов из пассивного словаря в активный;</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произносить ударный слот в слове;</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строить обиходные словосочетания,</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учить употреблять однословные и двухсловные предложения;</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способствовать проявлению подражательной речевой деятельности без исправления со стороны взрослых</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мерное содержание работы по развитию речи при решении коррекционных задач на II этап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ff0000"/>
                </a:solidFill>
                <a:latin typeface="Times New Roman"/>
              </a:rPr>
              <a:t>Расширение пассивного словарного запаса</a:t>
            </a:r>
            <a:endParaRPr b="0" lang="en-US" sz="38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1. Расширение пассивного словарного запас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Различение количества предметов (много -мало - один).</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Различение величины предметов (большой - маленьк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 Различение вкуса (сладкий - солены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Различение пространственного расположения предмето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5. Различение предметов по их назначению (ложка, щетка, расческа, мочалка, мыло, карандаши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6. Узнавание предметов по их описанию («У нее пушистый хвост, мягкая шерсть, длинные усы, острые когот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7. Выполнение действий по словесной инструкции взрослог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Переключение с одного действия на другое по словесной инструк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Расширение пассивного словарного запаса</a:t>
            </a:r>
            <a:endParaRPr b="0" lang="en-US" sz="38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а) </a:t>
            </a:r>
            <a:r>
              <a:rPr b="1" lang="ru-RU" sz="1800" spc="-1" strike="noStrike" u="sng">
                <a:solidFill>
                  <a:srgbClr val="0033cc"/>
                </a:solidFill>
                <a:uFillTx/>
                <a:latin typeface="Arial"/>
              </a:rPr>
              <a:t>без предмет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ди – стой, беги – иди, ложись – садись, беги – стой, сиди – лежи, прыгай – бег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a:t>
            </a:r>
            <a:r>
              <a:rPr b="0" lang="ru-RU" sz="1800" spc="-1" strike="noStrike">
                <a:solidFill>
                  <a:srgbClr val="0033cc"/>
                </a:solidFill>
                <a:latin typeface="Arial"/>
              </a:rPr>
              <a:t>) </a:t>
            </a:r>
            <a:r>
              <a:rPr b="1" lang="ru-RU" sz="1800" spc="-1" strike="noStrike" u="sng">
                <a:solidFill>
                  <a:srgbClr val="0033cc"/>
                </a:solidFill>
                <a:uFillTx/>
                <a:latin typeface="Arial"/>
              </a:rPr>
              <a:t>с предметом</a:t>
            </a:r>
            <a:r>
              <a:rPr b="0" lang="ru-RU" sz="1800" spc="-1" strike="noStrike">
                <a:solidFill>
                  <a:srgbClr val="000000"/>
                </a:solidFill>
                <a:latin typeface="Arial"/>
              </a:rPr>
              <a:t>  (мяч, обруч, гимнастическая пал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мяч, подними его вверх, опусти вниз, отдай Ан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обруч, подними его над головой, опусти, пролезь в него, положи на пол.</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9. </a:t>
            </a:r>
            <a:r>
              <a:rPr b="1" lang="ru-RU" sz="1800" spc="-1" strike="noStrike" u="sng">
                <a:solidFill>
                  <a:srgbClr val="0033cc"/>
                </a:solidFill>
                <a:uFillTx/>
                <a:latin typeface="Arial"/>
              </a:rPr>
              <a:t>Различение утверждения и отрицани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ди - не ходи, закрой глаза - не закрывай, пей - не пей, дыши - не дыш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0. Различение, к кому обращена просьба, к одному лицу или нескольким лица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ва, сядь. Дети, садитесь.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1. </a:t>
            </a:r>
            <a:r>
              <a:rPr b="1" lang="ru-RU" sz="1800" spc="-1" strike="noStrike" u="sng">
                <a:solidFill>
                  <a:srgbClr val="0033cc"/>
                </a:solidFill>
                <a:uFillTx/>
                <a:latin typeface="Arial"/>
              </a:rPr>
              <a:t>Различение формы единственного и множественного числа существительных</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ьми: шар - шары, мяч - мячи, цветок - цветы; книгу - книги, кубик - кубики; лист - листья; стул - стуль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Активизация словарного запаса</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33cc"/>
                </a:solidFill>
                <a:uFillTx/>
                <a:latin typeface="Arial"/>
              </a:rPr>
              <a:t>Основные приемы:</a:t>
            </a:r>
            <a:r>
              <a:rPr b="0" lang="ru-RU" sz="1400" spc="-1" strike="noStrike">
                <a:solidFill>
                  <a:srgbClr val="000000"/>
                </a:solidFill>
                <a:latin typeface="Arial"/>
              </a:rPr>
              <a:t> называние предметов, предметных картинок; выполнение просьб, поручений передать, взять, отдать предмет; договаривание начатых педагогом слов, фраз с опорой на предмет или его изображение; название действий в повелительной форме, отраженное за педагогом, сопряженное с педагогом; хоровое и индивидуальное проговаривание слов.</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1. </a:t>
            </a:r>
            <a:r>
              <a:rPr b="1" lang="ru-RU" sz="1400" spc="-1" strike="noStrike" u="sng">
                <a:solidFill>
                  <a:srgbClr val="0033cc"/>
                </a:solidFill>
                <a:uFillTx/>
                <a:latin typeface="Arial"/>
              </a:rPr>
              <a:t>Называть имена близких людей, предметы или предметные картинк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ама, папа, баба, тетя, деда, Тата, Ляля, няня, дядя;</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ина, Вова, Валя, Ната, Тата, Таня, Оля, Аня, Катя, Лен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суп, гусь, кот, лук, дом, ком, сок, лоб, нос, пол, мяч, стул, хлеб, рот, лес;</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оги, руки, киса, муха, зубы, ухо, мыло, рыба, каша, шуба, бусы, осы, яма; пила, нога, рука, вода, лиса, коза, лицо, яйц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ашина, малина, собака, лопата, ворона, корова, панам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ягода, кубики, дерев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молоко, голова, сапоги, самолет.Задание 2. Договаривание слов (зай - ка, гал -ка, ут -ка и т. п.).</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3. Подскажи словечко (- Вова, вымой...).</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4. Объединение слов в двусложные предложения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7. Выполнение действий по словесной инструкции взрослого.</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ние 8. Переключение с одного действия на другое по словесной инструкци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без предмета:</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ди – стой, беги – иди, ложись – садись, беги – стой, сиди – лежи,</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гай - бег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Выделение на слух и в произношении ударного слога</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6" name="PlaceHolder 2"/>
          <p:cNvSpPr>
            <a:spLocks noGrp="1"/>
          </p:cNvSpPr>
          <p:nvPr>
            <p:ph/>
          </p:nvPr>
        </p:nvSpPr>
        <p:spPr>
          <a:xfrm>
            <a:off x="914400" y="1628640"/>
            <a:ext cx="7772400" cy="45021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ются приемы отхлопывания, отстукивания, протоптывания слоговой структуры слова, выделение голосом ударного слога. Последовательность знакомства детей с ударени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Двусложные слова с одинаковыми слогами: мама, Тата, дяд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Двусложные слова из разных слогов с ударением на первом слоге: Вова, Тома, Тан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Односложные слова: дом, дым, мак, су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Двусложные слова с ударением на втором слоге: нога, рука, лис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Трехсложные слова с ударением на среднем слоге: машина, собака, коров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Трехсложные слова с ударением на первом слоге: кубики, дерев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Трехсложные слова с ударением на последнем слоге: молоко, голова, самоле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о, чтобы дети в речи сохраняли ударный слог слова, чтобы слово было узнаваем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ff0000"/>
                </a:solidFill>
                <a:latin typeface="Times New Roman"/>
              </a:rPr>
              <a:t>Построение и употребление обиходных словосочета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Научить детей объединять слов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глагол повелительного наклонения единственного числа + существительное в винительном падеж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ай + мяч (шарик, грибок)</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 дай + ложку (Катю, зай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Подскажи нужное слов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ва, вымо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та, вытр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Таня, причеш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 Угадай, кто что будет делать. (Разные куклы. Что будет делать кукла Даша? А Маша?) Активизация глаголов в начальной форме: рисовать, гуля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Использование в общении словосочетаний, выражающих жела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ай (хлеба, воды, зай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лей (супу, моло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хочу есть, пить, спать, гулять,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0000"/>
                </a:solidFill>
                <a:latin typeface="Monotype Corsiva"/>
              </a:rPr>
              <a:t>Как    работать с неговорящими                  </a:t>
            </a:r>
            <a:br>
              <a:rPr sz="3800"/>
            </a:br>
            <a:r>
              <a:rPr b="1" lang="ru-RU" sz="3800" spc="-1" strike="noStrike">
                <a:solidFill>
                  <a:srgbClr val="ff0000"/>
                </a:solidFill>
                <a:latin typeface="Monotype Corsiva"/>
              </a:rPr>
              <a:t>                     детьми.</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средства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уществления программы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речи у неговорящих детей.</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Ведущим средством формирования речи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ребенка  является обучение</a:t>
            </a:r>
            <a:r>
              <a:rPr b="0" lang="ru-RU" sz="2000" spc="-1" strike="noStrike">
                <a:solidFill>
                  <a:srgbClr val="0033cc"/>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000" spc="-1" strike="noStrike">
                <a:solidFill>
                  <a:srgbClr val="6666ff"/>
                </a:solidFill>
                <a:latin typeface="Arial"/>
              </a:rPr>
              <a:t>По дидактическим целям выделяют такие типы занятий:</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сообщению нового материала;</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закреплению умений и навыков;</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занятия по обобщению и систематизации знаний;</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тоговые, проверочные занятия;</a:t>
            </a:r>
            <a:endParaRPr b="0" lang="en-US" sz="2000" spc="-1" strike="noStrike">
              <a:solidFill>
                <a:srgbClr val="000000"/>
              </a:solidFill>
              <a:latin typeface="Arial"/>
            </a:endParaRPr>
          </a:p>
          <a:p>
            <a:pPr marL="533520" indent="-5335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комбинированные (объединенные).</a:t>
            </a:r>
            <a:endParaRPr b="0" lang="en-US" sz="2000" spc="-1" strike="noStrike">
              <a:solidFill>
                <a:srgbClr val="000000"/>
              </a:solidFill>
              <a:latin typeface="Arial"/>
            </a:endParaRPr>
          </a:p>
        </p:txBody>
      </p:sp>
      <p:pic>
        <p:nvPicPr>
          <p:cNvPr id="101" name="Picture 4" descr="Дети"/>
          <p:cNvPicPr/>
          <p:nvPr/>
        </p:nvPicPr>
        <p:blipFill>
          <a:blip r:embed="rId1"/>
          <a:stretch/>
        </p:blipFill>
        <p:spPr>
          <a:xfrm>
            <a:off x="6480000" y="83664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Употребление в речи однословных и двусловных предложе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Употребление предложений типа:</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a:t>
            </a:r>
            <a:r>
              <a:rPr b="0" lang="ru-RU" sz="2400" spc="-1" strike="noStrike">
                <a:solidFill>
                  <a:srgbClr val="0033cc"/>
                </a:solidFill>
                <a:latin typeface="Arial"/>
              </a:rPr>
              <a:t>Это Катя. Это киса. Это гуси</a:t>
            </a:r>
            <a:r>
              <a:rPr b="0" lang="ru-RU" sz="2400" spc="-1" strike="noStrike">
                <a:solidFill>
                  <a:srgbClr val="000000"/>
                </a:solidFill>
                <a:latin typeface="Arial"/>
              </a:rPr>
              <a:t>. </a:t>
            </a:r>
            <a:r>
              <a:rPr b="0" lang="ru-RU" sz="2400" spc="-1" strike="noStrike">
                <a:solidFill>
                  <a:srgbClr val="0033cc"/>
                </a:solidFill>
                <a:latin typeface="Arial"/>
              </a:rPr>
              <a:t>Вот киса. Тут утка. И т. п.</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Дай утку Дай ложку. Дай воды.</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Хочу спать. Хочу гулять Хочу есть.</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Можно кушать? Можно идти?</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Нина, лови. Лежи, Катя. Пей, киса.</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Грамматические структуры желательно отрабатывать в активном общении с детьми, используя предметную деятельность.</a:t>
            </a:r>
            <a:r>
              <a:rPr b="0" lang="ru-RU" sz="2400" spc="-1" strike="noStrike">
                <a:solidFill>
                  <a:srgbClr val="000000"/>
                </a:solidFill>
                <a:latin typeface="Arial"/>
              </a:rPr>
              <a:t> От детей не требуется точного различения слов: это, вот, здесь, там, тут, допустимо также искажение звуко- слоговой структуры сл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0000"/>
                </a:solidFill>
                <a:latin typeface="Times New Roman"/>
              </a:rPr>
              <a:t> </a:t>
            </a:r>
            <a:r>
              <a:rPr b="1" i="1" lang="ru-RU" sz="3200" spc="-1" strike="noStrike">
                <a:solidFill>
                  <a:srgbClr val="ff0000"/>
                </a:solidFill>
                <a:latin typeface="Times New Roman"/>
              </a:rPr>
              <a:t>Развитие речевой подражательности</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 использование кукольного театра, </a:t>
            </a:r>
            <a:r>
              <a:rPr b="1" lang="ru-RU" sz="2000" spc="-1" strike="noStrike">
                <a:solidFill>
                  <a:srgbClr val="0033cc"/>
                </a:solidFill>
                <a:latin typeface="Arial"/>
              </a:rPr>
              <a:t>игр-драматизаций, дидактических игр и упражнен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1. Два клоуна. Активизация в общении словаря и первых грамматических фор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2. </a:t>
            </a:r>
            <a:r>
              <a:rPr b="1" lang="ru-RU" sz="2000" spc="-1" strike="noStrike">
                <a:solidFill>
                  <a:srgbClr val="0033cc"/>
                </a:solidFill>
                <a:latin typeface="Arial"/>
              </a:rPr>
              <a:t>«Колобок»</a:t>
            </a:r>
            <a:r>
              <a:rPr b="0" lang="ru-RU" sz="2000" spc="-1" strike="noStrike">
                <a:solidFill>
                  <a:srgbClr val="000000"/>
                </a:solidFill>
                <a:latin typeface="Arial"/>
              </a:rPr>
              <a:t> (игра-драматизац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Arial"/>
              </a:rPr>
              <a:t>Игр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оферы и строители», «Что мы делали - не скажем...», «Кто сказал «мяу»», «Покорми животных», «Посмотри и назови», «Куда пойдешь, что найдешь», «Кто как кричит», «Гуси - гуси», «Волк, пастух и гуси», «Кому что нужно», «Магазин», «К кому пришел, от кого ушел волк», «День рождения куклы Тани», «Кто что делает», «Отгадай, кто к нам пришел», «Высоко - низко», «Кто что ест», «Кто где сидит», «Угадай, что эт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Третий этап. Формирование в активной речи детей простого нераспространенного предложения </a:t>
            </a:r>
            <a:br>
              <a:rPr sz="2400"/>
            </a:br>
            <a:endParaRPr b="0" lang="en-US" sz="2400" spc="-1" strike="noStrike">
              <a:solidFill>
                <a:srgbClr val="330033"/>
              </a:solidFill>
              <a:latin typeface="Times New Roman"/>
            </a:endParaRPr>
          </a:p>
        </p:txBody>
      </p:sp>
      <p:sp>
        <p:nvSpPr>
          <p:cNvPr id="144" name="PlaceHolder 2"/>
          <p:cNvSpPr>
            <a:spLocks noGrp="1"/>
          </p:cNvSpPr>
          <p:nvPr>
            <p:ph/>
          </p:nvPr>
        </p:nvSpPr>
        <p:spPr>
          <a:xfrm>
            <a:off x="914400" y="1557360"/>
            <a:ext cx="7772400" cy="530064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Задач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научить понимать простые нераспространенные предложени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выполнять простые действия по речевой инструкци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понимать и строить словосочетания типа глагол в повелительном наклонении + существительное в винительном падеж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употреблять в речи словосочетания типа глагол + существительное в винительном падеже; глагол + существительное в творительном падеже; прилагательное + существительное; глагол + наречи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употреблять в общении предложения типа подлежащее + сказуемое, выраженное глаголом настоящего времени 3 лиц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понимать и употреблять предложения типа подлежащее + сказуемое + дополнение; подлежащее + сказуемое + обстоятельств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различать некоторые формы словоизменения и число существительных;</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некоторым продуктивным способам словообразования существительных и глаголов;</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учить воспроизводить слого- ритмическую структуру двусложных и трехсложных слов.</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рное содержание работы по развитию речи при решении коррекционных задач на Ш этап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1. Развитие понимания простых нераспространенных предложений</a:t>
            </a:r>
            <a:endParaRPr b="0" lang="en-US" sz="3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Arial"/>
              </a:rPr>
              <a:t>Задание 1. Различение существительных, сходных по звучани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Arial"/>
              </a:rPr>
              <a:t>-            Где? крыша земля стол палка крыса змея стул пол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200" spc="-1" strike="noStrike">
                <a:solidFill>
                  <a:srgbClr val="ff0000"/>
                </a:solidFill>
                <a:latin typeface="Times New Roman"/>
              </a:rPr>
              <a:t>Развитие понимания простых нераспространенных предложений</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Крыша, земля, стол, палка, крыса, змея, стул , пол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ша подмел пол. - Саша подмела пол.</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Определение взаимодействующих лиц на сюжетной картине Ответы на вопрос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2. Выполнение поручений по речевой инструкци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Выполнить действия с двумя предметами с целью различения падежных значен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карандашом руч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ручкой карандаш.</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Выполнение действий с целью различения предложных конструкц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зьми карандаш, который лежит в коробке (около коробки, на коробк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ставь игрушку на стол (в шкаф, на пол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остань мяч из-под шкафа (из шкафа) и т. 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14400" y="1557360"/>
            <a:ext cx="7772400" cy="457344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33cc"/>
                </a:solidFill>
                <a:latin typeface="Arial"/>
              </a:rPr>
              <a:t>Выполнение поручений с целью закрепления прилагательных-антонимов</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Большой мяч дай Вове, а маленький Та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зкую ленточку дай Маше, а широкую - Ол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линный - короткий, низкий - высокий, толстый - тонк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4. </a:t>
            </a:r>
            <a:r>
              <a:rPr b="1" lang="ru-RU" sz="2000" spc="-1" strike="noStrike">
                <a:solidFill>
                  <a:srgbClr val="0033cc"/>
                </a:solidFill>
                <a:latin typeface="Arial"/>
              </a:rPr>
              <a:t>Научить понимать значения слов, отражающих пространственные отношения</a:t>
            </a:r>
            <a:r>
              <a:rPr b="1"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990033"/>
                </a:solidFill>
                <a:latin typeface="Arial"/>
              </a:rPr>
              <a:t>вниз (внизу) - вверх (вверху) далеко - близко вперед (впереди) - назад (сзад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Кто спускается вниз по лестниц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Кто поднимается вверх?</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Встань впереди Саш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Arial"/>
              </a:rPr>
              <a:t>- Сделай шаг назад.</a:t>
            </a:r>
            <a:endParaRPr b="0" lang="en-US" sz="2000" spc="-1" strike="noStrike">
              <a:solidFill>
                <a:srgbClr val="000000"/>
              </a:solidFill>
              <a:latin typeface="Arial"/>
            </a:endParaRPr>
          </a:p>
        </p:txBody>
      </p:sp>
      <p:sp>
        <p:nvSpPr>
          <p:cNvPr id="150" name="Rectangle 5"/>
          <p:cNvSpPr/>
          <p:nvPr/>
        </p:nvSpPr>
        <p:spPr>
          <a:xfrm>
            <a:off x="611280" y="189000"/>
            <a:ext cx="8137440" cy="825480"/>
          </a:xfrm>
          <a:prstGeom prst="rect">
            <a:avLst/>
          </a:prstGeom>
          <a:solidFill>
            <a:srgbClr val="70f67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Развитие понимания простых нераспространенных предлож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Развитие понимания простых именных словосочетаний и введение их в активную речь</a:t>
            </a:r>
            <a:endParaRPr b="0" lang="en-US" sz="3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 </a:t>
            </a:r>
            <a:r>
              <a:rPr b="1" lang="ru-RU" sz="1800" spc="-1" strike="noStrike" u="sng">
                <a:solidFill>
                  <a:srgbClr val="990033"/>
                </a:solidFill>
                <a:uFillTx/>
                <a:latin typeface="Arial"/>
              </a:rPr>
              <a:t>Выполнение инструкций педагога в работе с картинкам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большой дом (маленьки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узкая тропинка? (широкая дорог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Где летний день? (морозное утр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жи аккуратного мальчика (неряшливую девочку) и т. 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2. </a:t>
            </a:r>
            <a:r>
              <a:rPr b="1" lang="ru-RU" sz="1800" spc="-1" strike="noStrike" u="sng">
                <a:solidFill>
                  <a:srgbClr val="990033"/>
                </a:solidFill>
                <a:uFillTx/>
                <a:latin typeface="Arial"/>
              </a:rPr>
              <a:t>Ответить на вопрос с опорой на картинк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Яблоко какое? Лимон какой?</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нфета какая? Игрушки как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3</a:t>
            </a:r>
            <a:r>
              <a:rPr b="1" lang="ru-RU" sz="1800" spc="-1" strike="noStrike" u="sng">
                <a:solidFill>
                  <a:srgbClr val="000000"/>
                </a:solidFill>
                <a:uFillTx/>
                <a:latin typeface="Arial"/>
              </a:rPr>
              <a:t>. </a:t>
            </a:r>
            <a:r>
              <a:rPr b="1" lang="ru-RU" sz="1800" spc="-1" strike="noStrike" u="sng">
                <a:solidFill>
                  <a:srgbClr val="990033"/>
                </a:solidFill>
                <a:uFillTx/>
                <a:latin typeface="Arial"/>
              </a:rPr>
              <a:t>Беседа по вопросам</a:t>
            </a:r>
            <a:r>
              <a:rPr b="1" lang="ru-RU"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акая сегодня погод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акой сегодня день? Какое небо?</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Когда бывают такие дн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4. </a:t>
            </a:r>
            <a:r>
              <a:rPr b="0" i="1" lang="ru-RU" sz="1800" spc="-1" strike="noStrike" u="sng">
                <a:solidFill>
                  <a:srgbClr val="990033"/>
                </a:solidFill>
                <a:uFillTx/>
                <a:latin typeface="Arial"/>
              </a:rPr>
              <a:t>У кого какие детеныши</a:t>
            </a:r>
            <a:r>
              <a:rPr b="0" i="1" lang="ru-RU"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Щенок у ...Мышонок у ...Котенок у ...Цыпленок 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rPr>
              <a:t>Закрепление продуктивных способов словообразования существительных, глаголов, относительных прилагательных</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Примерные задан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1. Учить правильно употреблять приставочные глагол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о демонстрируемому действию;</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по картинкам.</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е 2. </a:t>
            </a:r>
            <a:r>
              <a:rPr b="0" lang="ru-RU" sz="2400" spc="-1" strike="noStrike">
                <a:solidFill>
                  <a:srgbClr val="990033"/>
                </a:solidFill>
                <a:latin typeface="Arial"/>
              </a:rPr>
              <a:t>Составление словосочетаний</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ехал до остановки. Дошел до двери. Добежал до ручья. Побежал к воде. Поплыл по снегу. Пошел к  дороге. Перейти к речке Перешагнуть через канаву. Переплыть под мостом. Пролезть под столом. Пройти под окном. Пробежать под дожд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Учить образовывать прилагательные от существительных</a:t>
            </a:r>
            <a:r>
              <a:rPr b="0" lang="ru-RU" sz="3800" spc="-1" strike="noStrike">
                <a:solidFill>
                  <a:srgbClr val="330033"/>
                </a:solidFill>
                <a:latin typeface="Times New Roman"/>
              </a:rPr>
              <a:t>.</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железо - желез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бумага - бумаж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кожа - кожаны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ех – мехово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Образование существительных с уменьшительно-ласкательными суффиксами.</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а над темами «Части тела», «Мебель», «Одежда», «Посуд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ние 5. Использование существительных с суффиксами -онок (енок), -ата (ят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Тем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омашние животные и их детеныш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икие животные и их детеныши». И т.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Необходимость логопедических занятий с неговорящими детьми раннего возраста </a:t>
            </a:r>
            <a:br>
              <a:rPr sz="2800"/>
            </a:br>
            <a:endParaRPr b="0" lang="en-US" sz="28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местной деятельности ребенка и взрослого необходимо совмещать элементы игры и обучения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новый навык закрепился, необходимо повторени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обходимо контролировать уровень сложности предлагаемого материала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атериал должен быть доступен для учащегося, усложнение одного и того же задания происходит постепенно, от занятия к занятию (реализация принципа «от простого к сложном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360"/>
            <a:ext cx="896472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i="1" lang="ru-RU" sz="3200" spc="-1" strike="noStrike">
                <a:solidFill>
                  <a:srgbClr val="ff0000"/>
                </a:solidFill>
                <a:latin typeface="Times New Roman"/>
              </a:rPr>
              <a:t>Общие дидактические требования к занятиям:</a:t>
            </a:r>
            <a:br>
              <a:rPr sz="3200"/>
            </a:br>
            <a:br>
              <a:rPr sz="2800"/>
            </a:br>
            <a:br>
              <a:rPr sz="3600"/>
            </a:br>
            <a:endParaRPr b="0" lang="en-US" sz="3200" spc="-1" strike="noStrike">
              <a:solidFill>
                <a:srgbClr val="330033"/>
              </a:solidFill>
              <a:latin typeface="Times New Roman"/>
            </a:endParaRPr>
          </a:p>
        </p:txBody>
      </p:sp>
      <p:sp>
        <p:nvSpPr>
          <p:cNvPr id="103" name="PlaceHolder 2"/>
          <p:cNvSpPr>
            <a:spLocks noGrp="1"/>
          </p:cNvSpPr>
          <p:nvPr>
            <p:ph type="subTitle"/>
          </p:nvPr>
        </p:nvSpPr>
        <p:spPr>
          <a:xfrm>
            <a:off x="323640" y="1557360"/>
            <a:ext cx="8351640" cy="496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04" name="Picture 4" descr="2 шаблон7"/>
          <p:cNvPicPr/>
          <p:nvPr/>
        </p:nvPicPr>
        <p:blipFill>
          <a:blip r:embed="rId1"/>
          <a:stretch/>
        </p:blipFill>
        <p:spPr>
          <a:xfrm>
            <a:off x="0" y="1459080"/>
            <a:ext cx="9144000" cy="5398920"/>
          </a:xfrm>
          <a:prstGeom prst="rect">
            <a:avLst/>
          </a:prstGeom>
          <a:ln w="0">
            <a:noFill/>
          </a:ln>
        </p:spPr>
      </p:pic>
      <p:sp>
        <p:nvSpPr>
          <p:cNvPr id="105" name="Rectangle 7"/>
          <p:cNvSpPr/>
          <p:nvPr/>
        </p:nvSpPr>
        <p:spPr>
          <a:xfrm>
            <a:off x="522360" y="1852560"/>
            <a:ext cx="8280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Тщательная  подготовка к занятию, определение его содержания и приемов обуч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Коррекционная направленность занятия, определяющая содержание и методику его проведения. Оптимальная интенсивность нагруз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Использование приемов обучения в соответствии со структурой заня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Связь содержания занятия с жизнью, опора на опыт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Доступность в содержании и приемах обучения на занят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Использование разнообразных наглядных средств обучения. 7.Эмоц. фо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Сочетание коллективного характера обучения на занятии с индивидуальным и дифференцированным подход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Применение разнообразных форм закрепления материала на занятии и в другой деятель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Речевая активность каждого ребен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 Учет результатов занят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Особенности занятий с детьми раннего возраста </a:t>
            </a:r>
            <a:br>
              <a:rPr sz="3200"/>
            </a:br>
            <a:endParaRPr b="0" lang="en-US" sz="3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Ребенок познает мир с помощью взрослого человека путем подражания</a:t>
            </a:r>
            <a:r>
              <a:rPr b="0" lang="ru-RU" sz="2800" spc="-1" strike="noStrike">
                <a:solidFill>
                  <a:srgbClr val="000000"/>
                </a:solidFill>
                <a:latin typeface="Arial"/>
              </a:rPr>
              <a:t> </a:t>
            </a:r>
            <a:endParaRPr b="0" lang="en-US" sz="28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лыши с интересом исследуют сенсорные свойства окружающих предметов: открывают и закрывают, бросают, трогают, нюхают, пробуют на вкус. Но только с помощью взрослого ребенок узнает функциональное назначение предметов нашего быта – что ложкой едят суп, а лопаткой копают песок, книжку читают, а карандашом рисуют.</a:t>
            </a:r>
            <a:endParaRPr b="0" lang="en-US" sz="20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нятия</a:t>
            </a:r>
            <a:r>
              <a:rPr b="0" i="1" lang="ru-RU" sz="2000" spc="-1" strike="noStrike">
                <a:solidFill>
                  <a:srgbClr val="000000"/>
                </a:solidFill>
                <a:latin typeface="Arial"/>
              </a:rPr>
              <a:t> с детьми основаны на подражании взрослому, его движениям, действиям и словам, а не на объяснении, беседе, внушении.</a:t>
            </a:r>
            <a:endParaRPr b="0" lang="en-US" sz="2000" spc="-1" strike="noStrike">
              <a:solidFill>
                <a:srgbClr val="000000"/>
              </a:solidFill>
              <a:latin typeface="Arial"/>
            </a:endParaRPr>
          </a:p>
          <a:p>
            <a:pPr marL="325800" indent="-3258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местной деятельности ребенка и взрослого необходимо совмещать элементы игры и обучения Чтобы новый навык закрепился, необходимо повторение</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ru-RU" sz="3200" spc="-1" strike="noStrike">
                <a:solidFill>
                  <a:srgbClr val="ff0000"/>
                </a:solidFill>
                <a:latin typeface="Times New Roman"/>
              </a:rPr>
              <a:t>Необходима четкая структура занятия</a:t>
            </a:r>
            <a:r>
              <a:rPr b="1" lang="ru-RU" sz="3800" spc="-1" strike="noStrike">
                <a:solidFill>
                  <a:srgbClr val="330033"/>
                </a:solidFill>
                <a:latin typeface="Times New Roman"/>
              </a:rPr>
              <a:t> </a:t>
            </a:r>
            <a:br>
              <a:rPr sz="3800"/>
            </a:br>
            <a:r>
              <a:rPr b="1" lang="ru-RU" sz="3800" spc="-1" strike="noStrike">
                <a:solidFill>
                  <a:srgbClr val="330033"/>
                </a:solidFill>
                <a:latin typeface="Times New Roman"/>
              </a:rPr>
              <a:t> </a:t>
            </a:r>
            <a:br>
              <a:rPr sz="3800"/>
            </a:br>
            <a:r>
              <a:rPr b="1"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2"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Необходима смена видов деятельности</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ждое занятие должно включать несколько разноплановых игр, сменяющих одна другую. </a:t>
            </a:r>
            <a:r>
              <a:rPr b="0" lang="ru-RU" sz="2000" spc="-1" strike="noStrike">
                <a:solidFill>
                  <a:srgbClr val="000000"/>
                </a:solidFill>
                <a:latin typeface="Arial"/>
              </a:rPr>
              <a:t>необходимо сочетать четкое планирование занятия с гибкостью его проведения – отдельные части занятия можно сократить или расширить, что-то отложить до следующего занятия или ввести новый, незапланированный ранее, элемент.</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Перенос знаний</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тобы навыки и знания закреплялись, необходимо постоянно их использовать в самых разных ситуациях</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щимся необходима положительная оценка их деятельности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4280"/>
            <a:ext cx="7772400" cy="1440000"/>
          </a:xfrm>
          <a:prstGeom prst="rect">
            <a:avLst/>
          </a:prstGeom>
          <a:solidFill>
            <a:srgbClr val="70f67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Особенности логопедических занятий с  неговорящими детьми</a:t>
            </a:r>
            <a:br>
              <a:rPr sz="3800"/>
            </a:br>
            <a:endParaRPr b="0" lang="en-US" sz="2800" spc="-1" strike="noStrike">
              <a:solidFill>
                <a:srgbClr val="330033"/>
              </a:solidFill>
              <a:latin typeface="Times New Roman"/>
            </a:endParaRPr>
          </a:p>
        </p:txBody>
      </p:sp>
      <p:sp>
        <p:nvSpPr>
          <p:cNvPr id="164" name="PlaceHolder 2"/>
          <p:cNvSpPr>
            <a:spLocks noGrp="1"/>
          </p:cNvSpPr>
          <p:nvPr>
            <p:ph/>
          </p:nvPr>
        </p:nvSpPr>
        <p:spPr>
          <a:xfrm>
            <a:off x="914400" y="1628280"/>
            <a:ext cx="7772400" cy="50403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личие эмоционального контакта между педагогом и ребенком.</a:t>
            </a:r>
            <a:endParaRPr b="0" lang="en-US" sz="16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1600" spc="-1" strike="noStrike" u="sng">
                <a:solidFill>
                  <a:srgbClr val="0033cc"/>
                </a:solidFill>
                <a:uFillTx/>
                <a:latin typeface="Arial"/>
              </a:rPr>
              <a:t>Необходимость подготовительного этапа</a:t>
            </a:r>
            <a:r>
              <a:rPr b="1" lang="ru-RU" sz="2000" spc="-1" strike="noStrike">
                <a:solidFill>
                  <a:srgbClr val="0033cc"/>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жде чем начинать работу собственно над развитием речи, надо подготовить ребенка. Прежде всего – игры на развитие подражания. Именно в таких играх ребенок учится получать важную информацию от другого человека. Также проводится работа по развитию у малыша слухового восприятия и дыхания, внимания и памяти, без должного уровня развития которых формирование речи также будет тормозитьс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33cc"/>
                </a:solidFill>
                <a:uFillTx/>
                <a:latin typeface="Arial"/>
              </a:rPr>
              <a:t>Особенности речевого сопровождения занятия</a:t>
            </a:r>
            <a:r>
              <a:rPr b="1" lang="ru-RU" sz="1600" spc="-1" strike="noStrike" u="sng">
                <a:solidFill>
                  <a:srgbClr val="000000"/>
                </a:solidFill>
                <a:uFillTx/>
                <a:latin typeface="Arial"/>
              </a:rPr>
              <a:t> </a:t>
            </a: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Отсутствие у учащихся активной речи не позволяет строить занятия на основе речевого общения. Взрослый берет на себя активную роль: ведет ребенка за собой – объясняет и показывает, задает вопросы и сам же на них отвечает, предлагает ребенку несколько вариантов ответов на выбор. При этом необходимо многократное повторение словесного материала, чтобы облегчить детям его усвоение и запомина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К речи взрослого также предъявляется ряд требований: говорите простыми словами и фразами; речь должна быть чистая, без нарушений, взрослый дает только образцы правильной речи (недопустимо повторение за ребенком слов-заменителей); артикуляция должна быть четкой, дети должны видеть движения губ взрослого.</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220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0033"/>
                </a:solidFill>
                <a:latin typeface="Times New Roman"/>
              </a:rPr>
              <a:t>Спасибо за внимание!</a:t>
            </a:r>
            <a:endParaRPr b="0" lang="en-US" sz="5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Методы обучения</a:t>
            </a:r>
            <a:r>
              <a:rPr b="1" lang="ru-RU" sz="4400" spc="-1" strike="noStrike">
                <a:solidFill>
                  <a:srgbClr val="ff0000"/>
                </a:solidFill>
                <a:latin typeface="Times New Roman"/>
              </a:rPr>
              <a:t>.</a:t>
            </a:r>
            <a:endParaRPr b="0" lang="en-US" sz="44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работе по развитию речи применяются разные группы методов и в основном - в сочетании: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cc"/>
                </a:solidFill>
                <a:latin typeface="Monotype Corsiva"/>
              </a:rPr>
              <a:t>   </a:t>
            </a:r>
            <a:r>
              <a:rPr b="0" lang="ru-RU" sz="3200" spc="-1" strike="noStrike">
                <a:solidFill>
                  <a:srgbClr val="0033cc"/>
                </a:solidFill>
                <a:latin typeface="Monotype Corsiva"/>
              </a:rPr>
              <a:t>наглядные (экскурсия, метод демонстрации, наблюдения, осмотр помещения, рассматривание предметов и игрушек); словесные (коллективный разговор, чтение произведений детской литературы, пересказ, беседа, чтение стихов, рассказ); практические (игра, практические действия, тру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Методы обучения</a:t>
            </a:r>
            <a:endParaRPr b="0" lang="en-US" sz="4400" spc="-1" strike="noStrike">
              <a:solidFill>
                <a:srgbClr val="330033"/>
              </a:solidFill>
              <a:latin typeface="Times New Roman"/>
            </a:endParaRPr>
          </a:p>
        </p:txBody>
      </p:sp>
      <p:sp>
        <p:nvSpPr>
          <p:cNvPr id="109" name="PlaceHolder 2"/>
          <p:cNvSpPr>
            <a:spLocks noGrp="1"/>
          </p:cNvSpPr>
          <p:nvPr>
            <p:ph/>
          </p:nvPr>
        </p:nvSpPr>
        <p:spPr>
          <a:xfrm>
            <a:off x="914400" y="1600200"/>
            <a:ext cx="7772400" cy="50688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Словесные приемы:</a:t>
            </a:r>
            <a:endParaRPr b="0" lang="en-US" sz="24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речевой образец,</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ем имитаци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бъясне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указания;</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ловесное упражнени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вторение (сопряженное, отраженное, индивидуальное, хорово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вопросы (прямые, наводящие, подсказывающие, репродуктивные, поисковы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оценка детской речи.</a:t>
            </a:r>
            <a:endParaRPr b="0" lang="en-US" sz="18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Наглядные приемы:</a:t>
            </a:r>
            <a:endParaRPr b="0" lang="en-US" sz="24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з предмета, движения, игрушки, картин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каз с называни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емы работы с техническими средствами обучения (кинофильмы, интерактивная доска, интерактивный столик).</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cc"/>
                </a:solidFill>
                <a:latin typeface="Monotype Corsiva"/>
              </a:rPr>
              <a:t>Игра и рекомендации по ее использованию:</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1. Игра должна быть доступна по содержанию и движениям, решать задачи коррекционного воспитания и обуч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2. Игра должна быть интересна дет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3. Игра избирается с учетом психофизических и возрастных особенностей дете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4. Игра должна соответствовать программному материалу.</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5. Перед проведением игры проводится подготовительная работа, направленная на уяснение правил, игровых действий, цел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6. Педагог руководит игрой, оказывае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000" spc="-1" strike="noStrike">
                <a:solidFill>
                  <a:srgbClr val="0033cc"/>
                </a:solidFill>
                <a:latin typeface="Arial"/>
              </a:rPr>
              <a:t>детям дифференцированную помощь.</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7. Большинство игр требует оснащения.</a:t>
            </a:r>
            <a:endParaRPr b="0" lang="en-US" sz="2000" spc="-1" strike="noStrike">
              <a:solidFill>
                <a:srgbClr val="000000"/>
              </a:solidFill>
              <a:latin typeface="Arial"/>
            </a:endParaRPr>
          </a:p>
        </p:txBody>
      </p:sp>
      <p:pic>
        <p:nvPicPr>
          <p:cNvPr id="112" name="Picture 4" descr="Пчелки"/>
          <p:cNvPicPr/>
          <p:nvPr/>
        </p:nvPicPr>
        <p:blipFill>
          <a:blip r:embed="rId1"/>
          <a:srcRect l="53754" t="0" r="0" b="61456"/>
          <a:stretch/>
        </p:blipFill>
        <p:spPr>
          <a:xfrm>
            <a:off x="6804000" y="4745160"/>
            <a:ext cx="2052720" cy="20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33cc"/>
                </a:solidFill>
                <a:latin typeface="Times New Roman"/>
              </a:rPr>
              <a:t>Поэтапное формирование устной речи у детей с нарушенным интеллектом</a:t>
            </a:r>
            <a:br>
              <a:rPr sz="3800"/>
            </a:br>
            <a:endParaRPr b="0" lang="en-US" sz="2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cc"/>
                </a:solidFill>
                <a:latin typeface="Arial"/>
              </a:rPr>
              <a:t>Первый этап. Развитие понимания обращенной к ребенку реч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cc"/>
                </a:solidFill>
                <a:latin typeface="Arial"/>
              </a:rPr>
              <a:t>Задачи:</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развить у детей понимание отдельных простых просьб, обращений к нему;</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предметным действиям, пониманию сопровождающей эти действия речи;</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соотносить предметы и действия с их словесным обозначение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формировать интерес к игрушкам и игре, учить игровым действия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вызвать подражательную речевую деятельность детей в форме любых звуковых проявлений;</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 учить детей выражать желания словесно, однословным или двухсловным несинтаксированным предложением.</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Примерное содержание работы по развитию речи при решении коррекционных задач на I этапе.</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Arial"/>
              </a:rPr>
              <a:t>1. </a:t>
            </a:r>
            <a:r>
              <a:rPr b="1" i="1" lang="ru-RU" sz="1400" spc="-1" strike="noStrike">
                <a:solidFill>
                  <a:srgbClr val="0033cc"/>
                </a:solidFill>
                <a:latin typeface="Arial"/>
              </a:rPr>
              <a:t>Развитие у детей понимания отдельных простых просьб и обращений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1. Показать предметы из ближайшей окружающей обстановки по просьбе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2. Показать знакомых близких людей по просьбе взрослого.</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3. Показать по просьбе взрослого простые движения (встать, сесть, подойти, лечь, попрыгать, бежать).</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4. Показать по словесной инструкции действия на себе (на картинке): ест, пьет, умывается, спит, рисует, читает.</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Arial"/>
              </a:rPr>
              <a:t>Задание 5. Научить понимать вопросы Что? Кого?, которые помогают выяснить объект действия: Что делает? У кого был? Кого види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0000"/>
                </a:solidFill>
                <a:latin typeface="Arial"/>
              </a:rPr>
              <a:t>Формирование устной речи</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6. </a:t>
            </a:r>
            <a:r>
              <a:rPr b="1" lang="ru-RU" sz="1800" spc="-1" strike="noStrike">
                <a:solidFill>
                  <a:srgbClr val="0033cc"/>
                </a:solidFill>
                <a:latin typeface="Arial"/>
              </a:rPr>
              <a:t>Научить понимать вопросы:</a:t>
            </a:r>
            <a:r>
              <a:rPr b="0" lang="ru-RU" sz="1800" spc="-1" strike="noStrike">
                <a:solidFill>
                  <a:srgbClr val="000000"/>
                </a:solidFill>
                <a:latin typeface="Arial"/>
              </a:rPr>
              <a:t> </a:t>
            </a:r>
            <a:r>
              <a:rPr b="1" lang="ru-RU" sz="1800" spc="-1" strike="noStrike">
                <a:solidFill>
                  <a:srgbClr val="990033"/>
                </a:solidFill>
                <a:latin typeface="Arial"/>
              </a:rPr>
              <a:t>Кто это? Что это? Кто?</a:t>
            </a:r>
            <a:r>
              <a:rPr b="0" lang="ru-RU" sz="1800" spc="-1" strike="noStrike">
                <a:solidFill>
                  <a:srgbClr val="000000"/>
                </a:solidFill>
                <a:latin typeface="Arial"/>
              </a:rPr>
              <a:t> Что?, выясняющие субъект действия: </a:t>
            </a:r>
            <a:r>
              <a:rPr b="1" lang="ru-RU" sz="1800" spc="-1" strike="noStrike">
                <a:solidFill>
                  <a:srgbClr val="990033"/>
                </a:solidFill>
                <a:latin typeface="Arial"/>
              </a:rPr>
              <a:t>Кто поет? Кто читает? Что лежит?</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7. </a:t>
            </a:r>
            <a:r>
              <a:rPr b="1" lang="ru-RU" sz="1800" spc="-1" strike="noStrike">
                <a:solidFill>
                  <a:srgbClr val="0033cc"/>
                </a:solidFill>
                <a:latin typeface="Arial"/>
              </a:rPr>
              <a:t>Научить понимать вопросы</a:t>
            </a:r>
            <a:r>
              <a:rPr b="0" lang="ru-RU" sz="1800" spc="-1" strike="noStrike">
                <a:solidFill>
                  <a:srgbClr val="000000"/>
                </a:solidFill>
                <a:latin typeface="Arial"/>
              </a:rPr>
              <a:t> </a:t>
            </a:r>
            <a:r>
              <a:rPr b="1" lang="ru-RU" sz="1800" spc="-1" strike="noStrike">
                <a:solidFill>
                  <a:srgbClr val="052f07"/>
                </a:solidFill>
                <a:latin typeface="Arial"/>
              </a:rPr>
              <a:t>Где? Куда? Откуда? На</a:t>
            </a:r>
            <a:r>
              <a:rPr b="0" lang="ru-RU" sz="1800" spc="-1" strike="noStrike">
                <a:solidFill>
                  <a:srgbClr val="000000"/>
                </a:solidFill>
                <a:latin typeface="Arial"/>
              </a:rPr>
              <a:t> </a:t>
            </a:r>
            <a:r>
              <a:rPr b="0" lang="ru-RU" sz="1800" spc="-1" strike="noStrike">
                <a:solidFill>
                  <a:srgbClr val="052f07"/>
                </a:solidFill>
                <a:latin typeface="Arial"/>
              </a:rPr>
              <a:t>чем?,</a:t>
            </a:r>
            <a:r>
              <a:rPr b="0" lang="ru-RU" sz="1800" spc="-1" strike="noStrike">
                <a:solidFill>
                  <a:srgbClr val="000000"/>
                </a:solidFill>
                <a:latin typeface="Arial"/>
              </a:rPr>
              <a:t> выясняющие местонахождение предмето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8. </a:t>
            </a:r>
            <a:r>
              <a:rPr b="0" lang="ru-RU" sz="1800" spc="-1" strike="noStrike">
                <a:solidFill>
                  <a:srgbClr val="0033cc"/>
                </a:solidFill>
                <a:latin typeface="Arial"/>
              </a:rPr>
              <a:t>Научить понимать вопрос</a:t>
            </a:r>
            <a:r>
              <a:rPr b="0" lang="ru-RU" sz="1800" spc="-1" strike="noStrike">
                <a:solidFill>
                  <a:srgbClr val="000000"/>
                </a:solidFill>
                <a:latin typeface="Arial"/>
              </a:rPr>
              <a:t> </a:t>
            </a:r>
            <a:r>
              <a:rPr b="1" lang="ru-RU" sz="1800" spc="-1" strike="noStrike">
                <a:solidFill>
                  <a:srgbClr val="052f07"/>
                </a:solidFill>
                <a:latin typeface="Arial"/>
              </a:rPr>
              <a:t>Чем?</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9. Разложить предметы, игрушки в заданной последовательности (3 штук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0. Разложить картинки в нужной последовательност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1. Понимать вопросы к простой сюжетной картин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ние 12. Совершать действия с отобранными предметами по инструкции педагог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cc"/>
                </a:solidFill>
                <a:latin typeface="Arial"/>
              </a:rPr>
              <a:t>Игр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душки», «Иди ко мне», «Возьми шарик», «Хоровод с куклой», «Догонялки», «Идите ко мне - бегом ко мне», «Возьми, положи, брось», «Возьми, кати», «Покорми птичку», «Найди свою игрушку», «Мишка спрятался», «Куда девался мяч», «Спрячь матрешку», «Покатай зай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solidFill>
            <a:srgbClr val="70f67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2. Обучение предметным действиям и пониманию сопровождающей эти действия речи.</a:t>
            </a:r>
            <a:endParaRPr b="0" lang="en-US" sz="24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33cc"/>
                </a:solidFill>
                <a:latin typeface="Arial"/>
              </a:rPr>
              <a:t>Игр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990033"/>
                </a:solidFill>
                <a:latin typeface="Arial"/>
              </a:rPr>
              <a:t>Поймай мяч», «Попляшем с погремушками», «Переложи игрушки», «Прокати шарики», «Прокати шарики через воротца», «Посадим грибы» (пособие), «Пирамидки», «Закрой коробочки», «Сделай целую игрушку», «Игра на детском рояле», «Спрячь игрушку»» «Спрячь картинку», «Найди свой стул», «Бегите ко мне», «У кого такое?», «Найди пару», «Угадай, чего не стал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33cc"/>
                </a:solidFill>
                <a:latin typeface="Arial"/>
              </a:rPr>
              <a:t>Естественные бытовые ситуаци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ание 1. </a:t>
            </a:r>
            <a:r>
              <a:rPr b="0" lang="ru-RU" sz="1600" spc="-1" strike="noStrike">
                <a:solidFill>
                  <a:srgbClr val="990033"/>
                </a:solidFill>
                <a:latin typeface="Arial"/>
              </a:rPr>
              <a:t>Чем моет? Что моет? (водой, мылом, лицо, рук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2. Чем вытирает? Что вытирает? (полотенцем, лицо, рук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3. Чем играет? На чем играет? (куклой, мячом, на гармошке, дудочке)</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4. Чем ест? Что ест? (ложкой, вилкой, суп, кашу, картошку)</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5. Чем рисует? Что рисует? (карандашом, дом, машину)</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6. Чем приколачивает? Что приколачивает? (молотком, картину и др.)</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33"/>
                </a:solidFill>
                <a:latin typeface="Arial"/>
              </a:rPr>
              <a:t>Задание 7. Чем режет? Что режет? (ножом, хлеб, сыр)</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9:19:06Z</dcterms:created>
  <dc:creator>Надежда Кирилловна</dc:creator>
  <dc:description/>
  <dc:language>en-US</dc:language>
  <cp:lastModifiedBy>Максим</cp:lastModifiedBy>
  <dcterms:modified xsi:type="dcterms:W3CDTF">2020-04-03T13:08:53Z</dcterms:modified>
  <cp:revision>12</cp:revision>
  <dc:subject/>
  <dc:title>Слайд 1</dc:title>
</cp:coreProperties>
</file>