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3EF-5227-429E-974E-A4E3F5AC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163-4312-4186-92BE-0BD7B6C2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EFA-4E9E-4CA1-9269-5137D5B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0ED-0798-4B1D-B01A-15F3F913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4C7-EB88-4F89-89D5-B2A7328D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D8A1-6D29-4E53-9C7D-1C0C0FB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7494-1AA5-4D3C-BB16-DF32DD0E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023-EA30-4CB9-A5B6-5AB62D0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0A2E-A284-413E-96A8-D934D42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BF1E-9F48-4256-ABCF-931BC257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59F-8DF5-4FE8-84BC-9C8E8DD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9BD-855F-4E80-A71D-96D4E2A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2551-7FB0-420E-9A44-1A83F9A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6A92-3487-4E0D-A08F-B8E1B92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093-15BA-4238-8861-0AFB907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D148-12C1-4EF0-A4A7-39D99EB0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7CB-0748-4282-96FB-0F35FF02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A3F3-4478-46C8-83C7-A5E2BC41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14C8-3339-4ECC-946E-88F2774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0F1B-A6BB-4DEF-A317-D3F0EB1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D41F-1563-47A6-A620-EDDAC22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2A82-D1A1-49FA-9F8C-8764BF14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73E-973B-48A1-8550-8E90528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5FA4-783D-428F-94E2-488AAC1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F9AE-5989-4A87-9A58-F8A3B05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AED4-1768-4465-B8E9-AED1C1B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0DA4-4F49-49B5-8160-8CB9DFD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243B-FCF4-4637-B8E7-B8016285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843C-B64D-4DC2-B088-F4A1BF3B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D2A3-7841-4904-B8B8-BFE05E1A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515A-43EF-4F33-9199-1AFAA427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E646-F243-41FB-8DCA-BF71578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422A-3637-4FF6-BAAB-CC99DEA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605-7AE6-44FF-88DF-F5ABEFF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026C-DC79-4224-9439-4C6CF38E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F26D-BD52-4F2B-851B-76FBD5DE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433F-AD05-40F4-A26B-D497E543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E778-AFF6-4D62-A6B2-E685873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AC40-5BD5-4F19-9E6A-AC8018A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02AA-AA44-44A5-AD47-BEA45612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02EF-5BCC-4AEE-B81C-D8DAD55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4CC3-46A9-4073-801B-D31ED9FE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15D4-2515-40DD-BEB8-5D36A764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7B03-CDC9-4194-BE97-704BF29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BF5-A15C-4264-9F05-83FF0FD8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3672-2AD2-4DD1-AD94-8EBB539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14C2-1887-4EF3-8397-3D94854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4372-9BA9-44DD-AF92-6A5E2974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D73C-475C-4F23-A72D-A4481A58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D6A0-8DAD-425F-BE3F-3740609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CFC4-6F75-4600-AFBF-23B46008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9D6D-68DD-4781-9B18-94A427D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BE0F-FA28-4917-ACF1-FC74B32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7EC0-794E-4FC4-87E8-3EC2E2C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79E2-CF0A-4880-A6EA-AF31F955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65E-37C1-4609-9CC1-BB9A844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1B3F-BB6B-4781-81AD-6F3F14A8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726D-E3B4-4552-BBE9-245031CE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E8CA-9692-47E9-BEF5-41F2F741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6C88-99DC-43A9-8DF5-3473E40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4DF3-9072-4CEE-B18E-DE2A1E1B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BBBD7-D6E0-46D8-B8D6-8F60FF4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3577-9891-4522-A91F-F0C9F95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35F2-154F-43C0-915E-792E533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8743A-3AFB-4217-9DA9-65037D2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90DC-2FFE-4CA8-8B8A-4C03D0D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128-FB74-4521-8299-48BA12B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A10E-F18E-46B4-AEB0-7B714F2D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1C78-BDAE-494E-AEAB-8B2969F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09E1-4A39-4F21-8691-8AAD612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34C0-25FC-4C64-8D31-A2E6A384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8D6F8-B715-4881-AC1B-D86477F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557C-2FC3-436C-9985-0D1B1087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C6D3E-36C0-431F-9FE2-26C57D10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0166-C116-4EA3-A35E-65E21BB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0277-BFD7-442E-AE41-2EAEF68A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16B7-2352-4A75-8474-3497263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151-F2C5-4B62-A83F-69EB34A6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5B53C-E0E8-476C-B251-BF7B8979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E3DB-21B1-42E9-8100-789D6FCD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F8F5-0873-4951-AC3E-B1A3664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78ED-9DFD-4FDB-97F4-C3DA1B64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BF520-0F25-4228-BC1E-04DB0D68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D1A0-B298-4646-8D71-1B802A24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408B6-7602-4897-83FC-2004449A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1A12-569F-4CF6-B84C-D0845986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63F92-F0D6-4673-A15B-049ADA0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26B0-B387-456D-BEE4-33900C4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C48-4352-4B79-9CE6-0961C32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C9F3-1085-49C1-93C1-7B0A71AB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76C3-5646-4ED0-A763-D555E950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577D7-A68F-419C-9D4B-4645818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36E3-F7BC-462E-A6DA-B9FDEBA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2596-9DD9-4C97-9EB2-FD85B8B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2DEF8-2093-460A-BEA4-290F8A2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093BB-65EC-47B5-8936-9CB2A3AE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635-2115-444A-A8DC-60723403484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2B2-4095-4074-97E7-BEDF7DF0481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105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17D-7465-4B35-BA96-7DE6EDEDAAB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7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0AEE-049A-44DD-891F-B65A72C31A7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1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9815-183B-4397-8858-D8C1885C02B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265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8F46-B64C-416C-AD4E-52C4D76DFC6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17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6B02-30BC-4D26-9981-8FA81EEE90C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37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DEF5-A969-4584-B177-A79F6AFE3BA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7520" y="487080"/>
            <a:ext cx="859644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ahoma"/>
                <a:ea typeface="Tahoma"/>
              </a:rPr>
              <a:t>Предметно-пространственная среда ДОУ в соответствии с требованиями федерального государственного стандарта дошкольного образования.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2406600" y="2382840"/>
            <a:ext cx="5818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7520" y="136440"/>
            <a:ext cx="8596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  <a:ea typeface="Tahoma"/>
              </a:rPr>
              <a:t>Доступность среды предполагает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77520" y="1950840"/>
            <a:ext cx="859644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Доступность для воспитанников всех помещений, где осуществляется образовательная деятельност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Свободный доступ к играм, игрушкам, пособиям, обеспечивающим все виды детской активност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Исправность и сохранность материалов и оборудова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4520" y="131760"/>
            <a:ext cx="859644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  <a:ea typeface="Tahoma"/>
              </a:rPr>
              <a:t>Безопасность среды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04520" y="673200"/>
            <a:ext cx="859644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Соответствие всех её элементов по обеспечению надёжности и безопасности, т. е. на игрушки должны быть сертификаты и декларации соответств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1911240" y="2738520"/>
            <a:ext cx="2791080" cy="39481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5135400" y="2741760"/>
            <a:ext cx="28292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Дата 1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DCF-7E16-46D8-A38D-05AD5043AACB}" type="datetime">
              <a:rPr b="0" lang="en-US" sz="900" spc="-1" strike="noStrike">
                <a:solidFill>
                  <a:srgbClr val="898989"/>
                </a:solidFill>
                <a:latin typeface="Trebuchet M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431640" y="13824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  <a:ea typeface="Tahoma"/>
              </a:rPr>
              <a:t>Примерные центры по образовательным областям в свете требований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77840" y="1197000"/>
          <a:ext cx="11572920" cy="5557680"/>
        </p:xfrm>
        <a:graphic>
          <a:graphicData uri="http://schemas.openxmlformats.org/drawingml/2006/table">
            <a:tbl>
              <a:tblPr/>
              <a:tblGrid>
                <a:gridCol w="2206440"/>
                <a:gridCol w="2422800"/>
                <a:gridCol w="2314440"/>
                <a:gridCol w="2314440"/>
                <a:gridCol w="2314800"/>
              </a:tblGrid>
              <a:tr h="1341360"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иально-коммуникативное развит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знавательное развит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чевое развит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Художественно-эстетическое развит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ое развит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6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пожарной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труда, уголок дежур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игровой активности (центр сюжетно-ролевых и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«Уголок Природ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сенсорн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конструктив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математ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Центр эксперимен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речевого развития или уголок речи и 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«Здравствуй, книжка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Логопедический уго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ИЗО или уголок творч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Центр музыкально-театрализова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тр физ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Спортивный уголок «Будь здоров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333333"/>
                </a:solidFill>
                <a:latin typeface="Arial"/>
              </a:rPr>
              <a:t>РПП среда в младшем дошкольном возрасте: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77520" y="1828440"/>
            <a:ext cx="85964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Для детей этого возраста –должно быть достаточно большое пространство в группе для удовлетворения потребности в двигательной активности. 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о сверстниками, понимать и оценивать их чувства и поступки, а ведь именно это и лежит в основе развивающего обучени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333333"/>
                </a:solidFill>
                <a:latin typeface="Arial"/>
              </a:rPr>
              <a:t>РПП среда в среднем дошкольном возрасте: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77520" y="1844280"/>
            <a:ext cx="85964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чтобы не мешать их свободному перемещению. Необходимо предусмотреть место для временного уединения дошкольника, где он может подумать, помечта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РПП среда в старшем дошкольном возрасте: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77520" y="1950840"/>
            <a:ext cx="859644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 старшем дошкольном возрасте происходит интенсивное развитие интеллектуальной, нравственно-волевой и эмоциональной сфер личности. Переход в старшую группу связан с изменением психологической позиции детей: они впервые начинают ощущать себя старшими среди других детей в детском саду. Воспитатель помогает дошкольникам понять это новое полож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7520" y="563400"/>
            <a:ext cx="85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77520" y="563040"/>
            <a:ext cx="859644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33"/>
                </a:solidFill>
                <a:latin typeface="Arial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В детском саду ребёнку важно чувствовать себя любимым и неповторимым. Поэтому, важным является и среда, в которой проходит воспитательный процесс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0" name="Рисунок 3" descr=""/>
          <p:cNvPicPr/>
          <p:nvPr/>
        </p:nvPicPr>
        <p:blipFill>
          <a:blip r:embed="rId1"/>
          <a:stretch/>
        </p:blipFill>
        <p:spPr>
          <a:xfrm>
            <a:off x="1173240" y="3246480"/>
            <a:ext cx="6599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  <a:ea typeface="Tahoma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461880" y="1474920"/>
            <a:ext cx="859968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7520" y="396720"/>
            <a:ext cx="85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77520" y="441000"/>
            <a:ext cx="859644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576360" y="0"/>
            <a:ext cx="33051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7520" y="473040"/>
            <a:ext cx="85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77520" y="517680"/>
            <a:ext cx="859644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редметно-пространственная среда ДОУ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система материальных объектов деятельности ребенка, функционально моделирующая содержание его духовного и физического развит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(С. Л. Новоселов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7520" y="473040"/>
            <a:ext cx="85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77520" y="517680"/>
            <a:ext cx="859644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Развивающая среда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необходимый фактор для развития ребенка. Чем богаче и насыщенней развивающая среда, тем интереснее и познавательнее в ней находиться ребенку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7520" y="579600"/>
            <a:ext cx="85964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Tahoma"/>
                <a:ea typeface="Tahoma"/>
              </a:rPr>
              <a:t>Предметная развивающая среда должна быть:</a:t>
            </a:r>
            <a:br>
              <a:rPr sz="26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77520" y="1858680"/>
            <a:ext cx="8596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Содержательно-насыщенн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Трансформируем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Полифункциональн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Вариативн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Доступн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Безопасно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  <a:ea typeface="Tahoma"/>
              </a:rPr>
              <a:t>Насыщенность среды предполагает: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77520" y="1722600"/>
            <a:ext cx="859644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Разнообразие материалов, оборудования, инвентаря в групп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Должна соответствовать возрастным особенностям и содержанию программ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Tahoma"/>
                <a:ea typeface="Tahoma"/>
              </a:rPr>
              <a:t>Трансформируемость пространства обеспечивает возможность изменений РПП среды в зависимости:</a:t>
            </a:r>
            <a:br>
              <a:rPr sz="26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77520" y="2454120"/>
            <a:ext cx="85964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От образовательной ситуаци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От меняющихся интересов дет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От возможностей дет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Tahoma"/>
                <a:ea typeface="Tahoma"/>
              </a:rPr>
              <a:t>Полифункциональность материалов предполагает:</a:t>
            </a:r>
            <a:br>
              <a:rPr sz="21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77520" y="2239560"/>
            <a:ext cx="859644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ahoma"/>
                <a:ea typeface="Tahoma"/>
              </a:rPr>
              <a:t>Возможность разнообразного использования различных составляющих предметной среды (детская мебель, маты, мягкие модули, ширмы и т. д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ahoma"/>
                <a:ea typeface="Tahoma"/>
              </a:rPr>
              <a:t>Наличие не обладающих жёстко закреплённым способом употребления полифункциональных предметов (в т. ч. природные материалы, предметы-заместител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3300"/>
                </a:solidFill>
                <a:latin typeface="Tahoma"/>
                <a:ea typeface="Tahoma"/>
              </a:rPr>
              <a:t>Вариативность среды предполагает:</a:t>
            </a:r>
            <a:endParaRPr b="0" lang="en-US" sz="3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01280" y="1360080"/>
            <a:ext cx="85964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Наличие различных пространств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Периодическую сменяемость игрового материал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Разнообразие материалов и игрушек для обеспечения свободного выбора детьм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ahoma"/>
                <a:ea typeface="Tahoma"/>
              </a:rPr>
              <a:t>Появление новых предметов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7:55:59Z</dcterms:created>
  <dc:creator>Александр</dc:creator>
  <dc:description/>
  <dc:language>en-US</dc:language>
  <cp:lastModifiedBy>Наталья</cp:lastModifiedBy>
  <dcterms:modified xsi:type="dcterms:W3CDTF">2020-04-03T05:55:48Z</dcterms:modified>
  <cp:revision>32</cp:revision>
  <dc:subject/>
  <dc:title>Презентация PowerPoint</dc:title>
</cp:coreProperties>
</file>