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6B70-E2F2-4CA2-BBC0-0A024CA9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616F-E61E-4CA4-B67E-930E238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EC74-834E-4228-A615-0510E0FE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4224-3635-4E47-8A76-7E147162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5FD1-AA9E-4906-9DB7-B07DC62B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E61-204F-4593-B06C-D31B6186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1EF-A824-4075-9EA4-F5CB03E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1AA0-349A-4D38-A6B8-4611A01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28E-CAF5-405F-9F8A-C0A4D6F6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2A1-9E8C-41FC-879D-3825EC8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A2D-D6A3-4EC9-A6F4-F4A44C4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07F4-AA1F-4B00-ADFB-C915D671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3AF6-FFAF-4C27-AB3C-5A75AA1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1EEF-9D18-494F-9BD8-90ADF48E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1AA-3B02-48C5-822F-640AB49B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18F8-D9D8-4B92-951A-0F46A744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04EE-786B-40E0-A600-9BB92817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91D5-A30F-4E15-9189-C4EE124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622B-AD75-4CF8-9835-A22BC393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EBA0-FBF8-433E-849B-F48B8B7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7159-D8EE-4606-B904-BA33FD2F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0627-7DC2-4AE0-B8DD-37A0817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2A20-62C9-4F3F-9514-34A030CE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0A7F-54EA-4660-A0F2-40E94551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E462-BB3D-4039-86C2-3F5295C96A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369-0F5C-41A6-A49E-FA1809C0CD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6;&#1086;&#1073;&#1097;&#1077;&#1085;&#1080;&#1077;" TargetMode="External"/><Relationship Id="rId2" Type="http://schemas.openxmlformats.org/officeDocument/2006/relationships/hyperlink" Target="https://ru.wikipedia.org/wiki/&#1056;&#1072;&#1079;&#1075;&#1086;&#1074;&#1086;&#1088;" TargetMode="External"/><Relationship Id="rId3" Type="http://schemas.openxmlformats.org/officeDocument/2006/relationships/hyperlink" Target="https://ru.wikipedia.org/wiki/&#1056;&#1072;&#1087;&#1087;&#1086;&#1088;&#1090;_(&#1087;&#1089;&#1080;&#1093;&#1086;&#1083;&#1086;&#1075;&#1080;&#1103;)" TargetMode="External"/><Relationship Id="rId4" Type="http://schemas.openxmlformats.org/officeDocument/2006/relationships/hyperlink" Target="https://ru.wikipedia.org/wiki/&#1058;&#1086;&#1095;&#1082;&#1072;_&#1079;&#1088;&#1077;&#1085;&#1080;&#1103;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сихология общения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w6ip20eja"/>
          <p:cNvPicPr/>
          <p:nvPr/>
        </p:nvPicPr>
        <p:blipFill>
          <a:blip r:embed="rId1"/>
          <a:stretch/>
        </p:blipFill>
        <p:spPr>
          <a:xfrm>
            <a:off x="6012000" y="4265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helovek"/>
          <p:cNvPicPr/>
          <p:nvPr/>
        </p:nvPicPr>
        <p:blipFill>
          <a:blip r:embed="rId2"/>
          <a:stretch/>
        </p:blipFill>
        <p:spPr>
          <a:xfrm>
            <a:off x="3419640" y="4267080"/>
            <a:ext cx="25923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sihologiya-lji-pol-ekman-a-1262-large"/>
          <p:cNvPicPr/>
          <p:nvPr/>
        </p:nvPicPr>
        <p:blipFill>
          <a:blip r:embed="rId1"/>
          <a:stretch/>
        </p:blipFill>
        <p:spPr>
          <a:xfrm>
            <a:off x="179280" y="620640"/>
            <a:ext cx="5040360" cy="357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85794176_mimika_03"/>
          <p:cNvPicPr/>
          <p:nvPr/>
        </p:nvPicPr>
        <p:blipFill>
          <a:blip r:embed="rId2"/>
          <a:stretch/>
        </p:blipFill>
        <p:spPr>
          <a:xfrm>
            <a:off x="4248000" y="3500280"/>
            <a:ext cx="4896000" cy="346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sihologiya-lji-pol-ekman-a-1260-large"/>
          <p:cNvPicPr/>
          <p:nvPr/>
        </p:nvPicPr>
        <p:blipFill>
          <a:blip r:embed="rId1"/>
          <a:stretch/>
        </p:blipFill>
        <p:spPr>
          <a:xfrm>
            <a:off x="108000" y="692280"/>
            <a:ext cx="5371920" cy="3809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x_34000618"/>
          <p:cNvPicPr/>
          <p:nvPr/>
        </p:nvPicPr>
        <p:blipFill>
          <a:blip r:embed="rId2"/>
          <a:stretch/>
        </p:blipFill>
        <p:spPr>
          <a:xfrm>
            <a:off x="3851280" y="3772080"/>
            <a:ext cx="5076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ные элементы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970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Раз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Рап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очка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и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ая 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kommunikauiya-v-seme"/>
          <p:cNvPicPr/>
          <p:nvPr/>
        </p:nvPicPr>
        <p:blipFill>
          <a:blip r:embed="rId5"/>
          <a:stretch/>
        </p:blipFill>
        <p:spPr>
          <a:xfrm>
            <a:off x="3564000" y="1908000"/>
            <a:ext cx="5580000" cy="36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532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́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ложный многоплановый процесс установления и развития контактов между людьми и группами, порождаемый потребностями совместной деятельности и включающий в себя как минимум три различных процесса: коммуникацию, интеракцию и социальную перцепц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Communication"/>
          <p:cNvPicPr/>
          <p:nvPr/>
        </p:nvPicPr>
        <p:blipFill>
          <a:blip r:embed="rId1"/>
          <a:stretch/>
        </p:blipFill>
        <p:spPr>
          <a:xfrm>
            <a:off x="5219640" y="2349360"/>
            <a:ext cx="3745080" cy="309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5280" y="1052280"/>
            <a:ext cx="49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ная — установление конта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 — приём и передача сообщений в ответ на запр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удительная —стимуляция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ционная — взаимная координация и согласованность в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понимания — адекватное понимание смысла, взаимопонимание в ц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тивная — обмен эмо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установления отношений — фиксация своего места в социу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оказания влияния — изменение состояния,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948"/>
          <p:cNvPicPr/>
          <p:nvPr/>
        </p:nvPicPr>
        <p:blipFill>
          <a:blip r:embed="rId2"/>
          <a:stretch/>
        </p:blipFill>
        <p:spPr>
          <a:xfrm>
            <a:off x="0" y="2781360"/>
            <a:ext cx="3924360" cy="294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9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е общение — обмен предметами или продуктам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нитивное общение — обмен информацией, зна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диционное, или эмоциональное общение — обмен эмоциональными состояниями между общающимися индиви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ивационное общение — обмен желаниями, побуждениями, целями, интересами или потреб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е общение — обмен навыками и умениями, который осуществляется в результате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000336884_m"/>
          <p:cNvPicPr/>
          <p:nvPr/>
        </p:nvPicPr>
        <p:blipFill>
          <a:blip r:embed="rId1"/>
          <a:stretch/>
        </p:blipFill>
        <p:spPr>
          <a:xfrm>
            <a:off x="5219640" y="1413000"/>
            <a:ext cx="370044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56d166b947b14"/>
          <p:cNvPicPr/>
          <p:nvPr/>
        </p:nvPicPr>
        <p:blipFill>
          <a:blip r:embed="rId1"/>
          <a:stretch/>
        </p:blipFill>
        <p:spPr>
          <a:xfrm>
            <a:off x="179280" y="1268280"/>
            <a:ext cx="84963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ства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619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ба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речев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верба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здел языкознания, изучающий невербальные (неязыковые) средства, передающие совместно с вербальными смысловую информацию в составе речевого сообщения, а также совокупность таки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Obshhenie-obshhenie-obuchenie-razvitie-obshhenija-trening-obshhenija-31"/>
          <p:cNvPicPr/>
          <p:nvPr/>
        </p:nvPicPr>
        <p:blipFill>
          <a:blip r:embed="rId1"/>
          <a:stretch/>
        </p:blipFill>
        <p:spPr>
          <a:xfrm>
            <a:off x="130320" y="1557360"/>
            <a:ext cx="383364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634920" y="549360"/>
            <a:ext cx="5194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невербального об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мика — «выразительные движения мышц лица, являющиеся одной из форм проявления тех или иных чувств чело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икуляция— некоторое действие или движение человеческого тела или его части, имеющее определённое значение или смысл, то есть являющееся знаком или симв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тела — знаковые элементы поз и движений различных частей тела, при помощи которых, как и при помощи слов, структурно оформляются и кодируются мысли и чувства, передаются идеи и эмоции. Визуальный конт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56a40447262ed"/>
          <p:cNvPicPr/>
          <p:nvPr/>
        </p:nvPicPr>
        <p:blipFill>
          <a:blip r:embed="rId1"/>
          <a:stretch/>
        </p:blipFill>
        <p:spPr>
          <a:xfrm>
            <a:off x="0" y="3341520"/>
            <a:ext cx="3959280" cy="351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9c73a24f22a082c6b4f8923c62161f5f_full"/>
          <p:cNvPicPr/>
          <p:nvPr/>
        </p:nvPicPr>
        <p:blipFill>
          <a:blip r:embed="rId2"/>
          <a:stretch/>
        </p:blipFill>
        <p:spPr>
          <a:xfrm>
            <a:off x="539640" y="115920"/>
            <a:ext cx="27352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imic"/>
          <p:cNvPicPr/>
          <p:nvPr/>
        </p:nvPicPr>
        <p:blipFill>
          <a:blip r:embed="rId1"/>
          <a:stretch/>
        </p:blipFill>
        <p:spPr>
          <a:xfrm>
            <a:off x="179280" y="620640"/>
            <a:ext cx="4896000" cy="3622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ody-language-facial-expressions-1026966"/>
          <p:cNvPicPr/>
          <p:nvPr/>
        </p:nvPicPr>
        <p:blipFill>
          <a:blip r:embed="rId2"/>
          <a:stretch/>
        </p:blipFill>
        <p:spPr>
          <a:xfrm>
            <a:off x="5364000" y="1125360"/>
            <a:ext cx="3549960" cy="496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over"/>
          <p:cNvPicPr/>
          <p:nvPr/>
        </p:nvPicPr>
        <p:blipFill>
          <a:blip r:embed="rId3"/>
          <a:stretch/>
        </p:blipFill>
        <p:spPr>
          <a:xfrm>
            <a:off x="1187280" y="4365720"/>
            <a:ext cx="3311640" cy="2324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mYjctOTkx"/>
          <p:cNvPicPr/>
          <p:nvPr/>
        </p:nvPicPr>
        <p:blipFill>
          <a:blip r:embed="rId1"/>
          <a:stretch/>
        </p:blipFill>
        <p:spPr>
          <a:xfrm>
            <a:off x="250920" y="1484280"/>
            <a:ext cx="8713800" cy="38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17:04:24Z</dcterms:created>
  <dc:creator>MASHA</dc:creator>
  <dc:description/>
  <dc:language>en-US</dc:language>
  <cp:lastModifiedBy>Анатолич</cp:lastModifiedBy>
  <dcterms:modified xsi:type="dcterms:W3CDTF">2020-04-03T09:49:28Z</dcterms:modified>
  <cp:revision>5</cp:revision>
  <dc:subject/>
  <dc:title>Психология общения.</dc:title>
</cp:coreProperties>
</file>