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3.gif" ContentType="image/gif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24C95-04AB-4644-8EC1-6D65F7013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C25B5-7272-49F1-9609-B1263A498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D20F7-8A16-498E-B1BC-4040A6839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BC8E4-B905-4825-A5C2-D6A5E3D13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64A35-8132-42E5-9BB0-E17E56BD3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10A50-B6C5-402F-96ED-F75906AF0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92A91-51FA-469F-905F-CFCB55CF9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C5242-C16C-431B-88E8-443C0BBD0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96BA2-2934-41F9-8051-F10BB96E1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CD1DF-0685-4EC7-B641-EEB245BBC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C835E-8A4D-46E1-A5FB-826A2E26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AB6B9-8AB6-4D39-A415-34503C8C6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C0D7B-E358-4E95-9C1C-63C0F718B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DB458-FFB0-4710-9F5F-44BF88991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9B872-00D0-4E1D-A7D6-8CE7ED336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47565-C305-4113-AD70-B217CCBEE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2F31D-5094-4FCF-BEB7-84D2DBC4A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B58EB-A513-402A-BA53-48CCCC5FB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729AA-87B3-4845-B497-ECB96EBE6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E5191-35CC-4699-840A-C217FEC0E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A26BE-440B-4EEE-9D8B-513B1ED70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B97BC-7079-461A-88E4-88EE3933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CA27A-3E5A-4695-A27C-AFD67024E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ED5D0-8DD8-4FF0-8A6A-15E9BA58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57FFE-40BD-4942-A8FD-48A695B8839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F55ED-A9E3-4C53-AE6A-C58B6083214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57;&#1086;&#1086;&#1073;&#1097;&#1077;&#1085;&#1080;&#1077;" TargetMode="External"/><Relationship Id="rId2" Type="http://schemas.openxmlformats.org/officeDocument/2006/relationships/hyperlink" Target="https://ru.wikipedia.org/wiki/&#1056;&#1072;&#1079;&#1075;&#1086;&#1074;&#1086;&#1088;" TargetMode="External"/><Relationship Id="rId3" Type="http://schemas.openxmlformats.org/officeDocument/2006/relationships/hyperlink" Target="https://ru.wikipedia.org/wiki/&#1056;&#1072;&#1087;&#1087;&#1086;&#1088;&#1090;_(&#1087;&#1089;&#1080;&#1093;&#1086;&#1083;&#1086;&#1075;&#1080;&#1103;)" TargetMode="External"/><Relationship Id="rId4" Type="http://schemas.openxmlformats.org/officeDocument/2006/relationships/hyperlink" Target="https://ru.wikipedia.org/wiki/&#1058;&#1086;&#1095;&#1082;&#1072;_&#1079;&#1088;&#1077;&#1085;&#1080;&#1103;" TargetMode="External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Психология общения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87640" y="4292640"/>
            <a:ext cx="60199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w6ip20eja"/>
          <p:cNvPicPr/>
          <p:nvPr/>
        </p:nvPicPr>
        <p:blipFill>
          <a:blip r:embed="rId1"/>
          <a:stretch/>
        </p:blipFill>
        <p:spPr>
          <a:xfrm>
            <a:off x="6012000" y="4265640"/>
            <a:ext cx="2592360" cy="2592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chelovek"/>
          <p:cNvPicPr/>
          <p:nvPr/>
        </p:nvPicPr>
        <p:blipFill>
          <a:blip r:embed="rId2"/>
          <a:stretch/>
        </p:blipFill>
        <p:spPr>
          <a:xfrm>
            <a:off x="3419640" y="4267080"/>
            <a:ext cx="2592360" cy="2590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5" descr="psihologiya-lji-pol-ekman-a-1262-large"/>
          <p:cNvPicPr/>
          <p:nvPr/>
        </p:nvPicPr>
        <p:blipFill>
          <a:blip r:embed="rId1"/>
          <a:stretch/>
        </p:blipFill>
        <p:spPr>
          <a:xfrm>
            <a:off x="179280" y="620640"/>
            <a:ext cx="5040360" cy="3573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85794176_mimika_03"/>
          <p:cNvPicPr/>
          <p:nvPr/>
        </p:nvPicPr>
        <p:blipFill>
          <a:blip r:embed="rId2"/>
          <a:stretch/>
        </p:blipFill>
        <p:spPr>
          <a:xfrm>
            <a:off x="4248000" y="3500280"/>
            <a:ext cx="4896000" cy="3468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psihologiya-lji-pol-ekman-a-1260-large"/>
          <p:cNvPicPr/>
          <p:nvPr/>
        </p:nvPicPr>
        <p:blipFill>
          <a:blip r:embed="rId1"/>
          <a:stretch/>
        </p:blipFill>
        <p:spPr>
          <a:xfrm>
            <a:off x="108000" y="692280"/>
            <a:ext cx="5371920" cy="38098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x_34000618"/>
          <p:cNvPicPr/>
          <p:nvPr/>
        </p:nvPicPr>
        <p:blipFill>
          <a:blip r:embed="rId2"/>
          <a:stretch/>
        </p:blipFill>
        <p:spPr>
          <a:xfrm>
            <a:off x="3851280" y="3772080"/>
            <a:ext cx="507672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ставные элементы общен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39704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Сообщ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Разгов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Раппор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Точка зр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лимен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ере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зыковая лич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kommunikauiya-v-seme"/>
          <p:cNvPicPr/>
          <p:nvPr/>
        </p:nvPicPr>
        <p:blipFill>
          <a:blip r:embed="rId5"/>
          <a:stretch/>
        </p:blipFill>
        <p:spPr>
          <a:xfrm>
            <a:off x="3564000" y="1908000"/>
            <a:ext cx="5580000" cy="3629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98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98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98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98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98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98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98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98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79280" y="549000"/>
            <a:ext cx="532944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ще́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— сложный многоплановый процесс установления и развития контактов между людьми и группами, порождаемый потребностями совместной деятельности и включающий в себя как минимум три различных процесса: коммуникацию, интеракцию и социальную перцепци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7" descr="Communication"/>
          <p:cNvPicPr/>
          <p:nvPr/>
        </p:nvPicPr>
        <p:blipFill>
          <a:blip r:embed="rId1"/>
          <a:stretch/>
        </p:blipFill>
        <p:spPr>
          <a:xfrm>
            <a:off x="5219640" y="2349360"/>
            <a:ext cx="3745080" cy="3092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98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ункции общен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95280" y="1052280"/>
            <a:ext cx="49690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тактная — установление контак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формационная — приём и передача сообщений в ответ на запрос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будительная —стимуляция актив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ординационная — взаимная координация и согласованность в совместно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ункция понимания — адекватное понимание смысла, взаимопонимание в цел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мотивная — обмен эмоция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ункция установления отношений — фиксация своего места в социум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ункция оказания влияния — изменение состояния, пове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948"/>
          <p:cNvPicPr/>
          <p:nvPr/>
        </p:nvPicPr>
        <p:blipFill>
          <a:blip r:embed="rId2"/>
          <a:stretch/>
        </p:blipFill>
        <p:spPr>
          <a:xfrm>
            <a:off x="0" y="2781360"/>
            <a:ext cx="3924360" cy="2941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98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98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иды общен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497844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ериальное общение — обмен предметами или продуктами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гнитивное общение — обмен информацией, знания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диционное, или эмоциональное общение — обмен эмоциональными состояниями между общающимися индивид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тивационное общение — обмен желаниями, побуждениями, целями, интересами или потребностя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ятельностное общение — обмен навыками и умениями, который осуществляется в результате совместн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000336884_m"/>
          <p:cNvPicPr/>
          <p:nvPr/>
        </p:nvPicPr>
        <p:blipFill>
          <a:blip r:embed="rId1"/>
          <a:stretch/>
        </p:blipFill>
        <p:spPr>
          <a:xfrm>
            <a:off x="5219640" y="1413000"/>
            <a:ext cx="3700440" cy="4060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98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98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98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98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98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98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56d166b947b14"/>
          <p:cNvPicPr/>
          <p:nvPr/>
        </p:nvPicPr>
        <p:blipFill>
          <a:blip r:embed="rId1"/>
          <a:stretch/>
        </p:blipFill>
        <p:spPr>
          <a:xfrm>
            <a:off x="179280" y="1268280"/>
            <a:ext cx="8496360" cy="43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редства общен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067280" y="1412640"/>
            <a:ext cx="46195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рбальны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(речевы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равербальны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раздел языкознания, изучающий невербальные (неязыковые) средства, передающие совместно с вербальными смысловую информацию в составе речевого сообщения, а также совокупность таких сред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ерба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Obshhenie-obshhenie-obuchenie-razvitie-obshhenija-trening-obshhenija-31"/>
          <p:cNvPicPr/>
          <p:nvPr/>
        </p:nvPicPr>
        <p:blipFill>
          <a:blip r:embed="rId1"/>
          <a:stretch/>
        </p:blipFill>
        <p:spPr>
          <a:xfrm>
            <a:off x="130320" y="1557360"/>
            <a:ext cx="3833640" cy="424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98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98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98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98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634920" y="549360"/>
            <a:ext cx="519444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редства невербального общ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имика — «выразительные движения мышц лица, являющиеся одной из форм проявления тех или иных чувств челове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естикуляция— некоторое действие или движение человеческого тела или его части, имеющее определённое значение или смысл, то есть являющееся знаком или символ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зык тела — знаковые элементы поз и движений различных частей тела, при помощи которых, как и при помощи слов, структурно оформляются и кодируются мысли и чувства, передаются идеи и эмоции. Визуальный контак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56a40447262ed"/>
          <p:cNvPicPr/>
          <p:nvPr/>
        </p:nvPicPr>
        <p:blipFill>
          <a:blip r:embed="rId1"/>
          <a:stretch/>
        </p:blipFill>
        <p:spPr>
          <a:xfrm>
            <a:off x="0" y="3341520"/>
            <a:ext cx="3959280" cy="3516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1" descr="9c73a24f22a082c6b4f8923c62161f5f_full"/>
          <p:cNvPicPr/>
          <p:nvPr/>
        </p:nvPicPr>
        <p:blipFill>
          <a:blip r:embed="rId2"/>
          <a:stretch/>
        </p:blipFill>
        <p:spPr>
          <a:xfrm>
            <a:off x="539640" y="115920"/>
            <a:ext cx="2735280" cy="3529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98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898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98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98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mimic"/>
          <p:cNvPicPr/>
          <p:nvPr/>
        </p:nvPicPr>
        <p:blipFill>
          <a:blip r:embed="rId1"/>
          <a:stretch/>
        </p:blipFill>
        <p:spPr>
          <a:xfrm>
            <a:off x="179280" y="620640"/>
            <a:ext cx="4896000" cy="3622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body-language-facial-expressions-1026966"/>
          <p:cNvPicPr/>
          <p:nvPr/>
        </p:nvPicPr>
        <p:blipFill>
          <a:blip r:embed="rId2"/>
          <a:stretch/>
        </p:blipFill>
        <p:spPr>
          <a:xfrm>
            <a:off x="5364000" y="1125360"/>
            <a:ext cx="3549960" cy="4969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cover"/>
          <p:cNvPicPr/>
          <p:nvPr/>
        </p:nvPicPr>
        <p:blipFill>
          <a:blip r:embed="rId3"/>
          <a:stretch/>
        </p:blipFill>
        <p:spPr>
          <a:xfrm>
            <a:off x="1187280" y="4365720"/>
            <a:ext cx="3311640" cy="2324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6" descr="mYjctOTkx"/>
          <p:cNvPicPr/>
          <p:nvPr/>
        </p:nvPicPr>
        <p:blipFill>
          <a:blip r:embed="rId1"/>
          <a:stretch/>
        </p:blipFill>
        <p:spPr>
          <a:xfrm>
            <a:off x="250920" y="1484280"/>
            <a:ext cx="8713800" cy="3852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06T17:04:24Z</dcterms:created>
  <dc:creator>MASHA</dc:creator>
  <dc:description/>
  <dc:language>en-US</dc:language>
  <cp:lastModifiedBy>Анатолич</cp:lastModifiedBy>
  <dcterms:modified xsi:type="dcterms:W3CDTF">2020-04-03T09:49:28Z</dcterms:modified>
  <cp:revision>5</cp:revision>
  <dc:subject/>
  <dc:title>Психология общения.</dc:title>
</cp:coreProperties>
</file>