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39B6-F374-41BB-A711-4C34EF443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A9FD-604A-455F-BA30-03DA62DAC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670E-3F1B-40A1-A290-305AC4386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85FF-54BF-4686-B285-7C619EE1B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6ABE-E77E-4135-9656-FEA291086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E24C-3FB1-4BEB-85B5-368433C2C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9A87-379E-4139-AD72-5F14CC401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6C35-4275-4075-985F-C7811AE9C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1699-A28D-4909-AF8F-2DC9E0E80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09F6-D580-4934-8050-4D461E2B5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A622-0D52-4FDF-B111-59388DA80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FAF2-24CC-4097-9D86-B8CEFF973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21FB6-94DC-421D-B007-27EFC106FF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-33480" y="-100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2"/>
          <p:cNvSpPr/>
          <p:nvPr/>
        </p:nvSpPr>
        <p:spPr>
          <a:xfrm>
            <a:off x="325440" y="2133720"/>
            <a:ext cx="842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c3300"/>
                </a:solidFill>
                <a:latin typeface="Arial"/>
              </a:rPr>
              <a:t>ПЯТНИЦА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c3300"/>
                </a:solidFill>
                <a:latin typeface="Arial"/>
              </a:rPr>
              <a:t>ДЕНЬ ЮНОГО ХУДОЖНИ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3502800" y="10126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(3 апрел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1"/>
          <p:cNvSpPr/>
          <p:nvPr/>
        </p:nvSpPr>
        <p:spPr>
          <a:xfrm>
            <a:off x="4067640" y="76500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Ут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2"/>
          <p:cNvSpPr/>
          <p:nvPr/>
        </p:nvSpPr>
        <p:spPr>
          <a:xfrm>
            <a:off x="576360" y="1557360"/>
            <a:ext cx="7920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Беседа с детьми: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«Как помиритьс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Цель: формировать у детей социально-коммуникативные навыки, учить поддерживать дружеские взаимоотнош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гровая деятельнос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Сюжетно-ролевые игры: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«Мы шофёры», «Каф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Дидактические игры: «Чудесный мешочек», «Угадай знак», «Угадай, чего не стало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Трудовое поручение: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Помоги взрослым накрыть стол к завтра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3"/>
          <p:cNvSpPr/>
          <p:nvPr/>
        </p:nvSpPr>
        <p:spPr>
          <a:xfrm>
            <a:off x="503280" y="4869000"/>
            <a:ext cx="7993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Зарядка «Утро уже просыпайся и новому дню улыбайся №5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Завтр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1" descr=""/>
          <p:cNvPicPr/>
          <p:nvPr/>
        </p:nvPicPr>
        <p:blipFill>
          <a:blip r:embed="rId2"/>
          <a:stretch/>
        </p:blipFill>
        <p:spPr>
          <a:xfrm>
            <a:off x="987480" y="1125360"/>
            <a:ext cx="7169040" cy="74952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2"/>
          <p:cNvSpPr/>
          <p:nvPr/>
        </p:nvSpPr>
        <p:spPr>
          <a:xfrm>
            <a:off x="179280" y="1849320"/>
            <a:ext cx="8425080" cy="40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Физическое развит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Разминка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– комплекс общеразвивающих упражнен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гры с мячом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(учимся перекидывать мяч из рук в руки на небольшом расстоян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Рисование «Скворечник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Учить детей рисовать предмет, состоящий из прямоугольной формы, круга, прямой крыши; правильно передавать относительную величину предмета. Закреплять приёмы закраши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Чтение художественной литерату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Рассказ в стихах А Крылов «Неприятный случай»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тихотворение М. Карем «Мой кот»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1" descr=""/>
          <p:cNvPicPr/>
          <p:nvPr/>
        </p:nvPicPr>
        <p:blipFill>
          <a:blip r:embed="rId2"/>
          <a:stretch/>
        </p:blipFill>
        <p:spPr>
          <a:xfrm>
            <a:off x="1692360" y="907920"/>
            <a:ext cx="5638680" cy="117792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2"/>
          <p:cNvSpPr/>
          <p:nvPr/>
        </p:nvSpPr>
        <p:spPr>
          <a:xfrm>
            <a:off x="514440" y="2116080"/>
            <a:ext cx="79930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Наблюдение за работой дворника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- </a:t>
            </a: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Воспитывать уважение к труду люд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- Учить приходить на помощь окружающим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- Формировать умение наблюдать за трудовыми действиями, инструментами, выделяя особен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- Расширять кругозор по теме «Професс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3"/>
          <p:cNvSpPr/>
          <p:nvPr/>
        </p:nvSpPr>
        <p:spPr>
          <a:xfrm>
            <a:off x="527040" y="4005360"/>
            <a:ext cx="808992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Обе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Работа перед сном: </a:t>
            </a: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заучивание песни «Солнышко-ведрышко» способствовать формированию у детей певческих навыков, учить передавать эмо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1" descr=""/>
          <p:cNvPicPr/>
          <p:nvPr/>
        </p:nvPicPr>
        <p:blipFill>
          <a:blip r:embed="rId2"/>
          <a:stretch/>
        </p:blipFill>
        <p:spPr>
          <a:xfrm>
            <a:off x="1969920" y="476280"/>
            <a:ext cx="4908600" cy="75096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2"/>
          <p:cNvSpPr/>
          <p:nvPr/>
        </p:nvSpPr>
        <p:spPr>
          <a:xfrm>
            <a:off x="684360" y="1052640"/>
            <a:ext cx="8137440" cy="50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Игровая деятельнос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Рассматривание презентации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«Транспорт» закреплять умение детей различать и называть грузовой и пассажирский транспор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Настольные игры: 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«Найди цвет который скажу», «Угадай знак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Сюжетно-ролевые игры: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«Супермаркет», «Чаепитие 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езнайки»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Трудовое поручение: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убрать игрушки после иг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Беседа по ПДД: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««Помощники на дороге» закрепить знания о работе светофора и о назначении дорожных знаков; закрепить знания о правилах поведения на проезжей части для шофера и пешехода; учить применять правила на практике в игров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итуация общения «Если стоишь на остановке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Чтение перед сном: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Сказка «Как лечили петуха»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28T17:57:10Z</dcterms:created>
  <dc:creator>PC</dc:creator>
  <dc:description/>
  <dc:language>en-US</dc:language>
  <cp:lastModifiedBy>user</cp:lastModifiedBy>
  <dcterms:modified xsi:type="dcterms:W3CDTF">2020-04-02T15:36:12Z</dcterms:modified>
  <cp:revision>28</cp:revision>
  <dc:subject/>
  <dc:title>Слайд 1</dc:title>
</cp:coreProperties>
</file>