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440-C4BF-4073-9B02-A9B0B2B3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E81-AC46-4A2A-99B4-14169D65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765-F004-464F-A8AE-188DA86D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602-4510-4339-8F3D-0AC600F8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EB9-F870-4780-A176-CDD510A6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AE0-AE97-4C0E-A6E0-B95E94D7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02B-6E77-4650-ADCE-7E8099C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5A2-F395-479B-8A39-DDAB32FD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162-4B2F-485B-9F27-7A01B240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ED0-E580-4F9F-AA09-CF6421E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C5C-1C0A-48D9-8E7E-38FB882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6E1-926B-41FA-BE1C-674231D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36A-C01D-4243-A3C0-E0955DA7A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3348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325440" y="21337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ПЯТНИЦ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ДЕНЬ ЮНОГО ХУДОЖ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502800" y="10126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(3 апр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4067640" y="765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576360" y="1557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еда с детьми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Как помири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формировать у детей социально-коммуникативные навыки, учить поддерживать дружеские взаимо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овая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южетно-ролевые игры: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Мы шофёры», «Каф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идактические игры: «Чудесный мешочек», «Угадай знак», «Угадай, чего не стало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рудовое поручение: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моги взрослым накрыть стол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03280" y="4869000"/>
            <a:ext cx="799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арядка «Утро уже просыпайся и новому дню улыбайся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2"/>
          <a:stretch/>
        </p:blipFill>
        <p:spPr>
          <a:xfrm>
            <a:off x="987480" y="1125360"/>
            <a:ext cx="7169040" cy="7495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179280" y="1849320"/>
            <a:ext cx="842508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зическое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минка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– комплекс общеразвивающих упражн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ы с мячо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(учимся перекидывать мяч из рук в руки на небольшом расстоя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исование «Скворечник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чить детей рисовать предмет, состоящий из прямоугольной формы, круга, прямой крыши; правильно передавать относительную величину предмета. Закреплять приёмы закраш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сказ в стихах А Крылов «Неприятный случай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тихотворение М. Карем «Мой кот»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692360" y="907920"/>
            <a:ext cx="5638680" cy="11779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514440" y="2116080"/>
            <a:ext cx="7993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блюдение за работой дворни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оспитывать уважение к труду люд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Учить приходить на помощь окружающи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Формировать умение наблюдать за трудовыми действиями, инструментами, выделяя особ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Расширять кругозор по теме «Профе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27040" y="4005360"/>
            <a:ext cx="80899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бота перед сном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заучивание песни «Солнышко-ведрышко» способствовать формированию у детей певческих навыков, учить передавать эмо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1969920" y="476280"/>
            <a:ext cx="4908600" cy="750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684360" y="1052640"/>
            <a:ext cx="8137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гровая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ссматривание презентации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Транспорт» закреплять умение детей различать и называть грузовой и пассажирский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стольные игры: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Найди цвет который скажу», «Угадай зна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упермаркет», «Чаепити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найки»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еседа по ПДД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«Помощники на дороге» закрепить знания о работе светофора и о назначении дорожных знаков; закрепить знания о правилах поведения на проезжей части для шофера и пешехода; учить применять правила на практике в игр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итуация общения «Если стоишь на остановк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казка «Как лечили петух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7:57:10Z</dcterms:created>
  <dc:creator>PC</dc:creator>
  <dc:description/>
  <dc:language>en-US</dc:language>
  <cp:lastModifiedBy>user</cp:lastModifiedBy>
  <dcterms:modified xsi:type="dcterms:W3CDTF">2020-04-02T15:36:12Z</dcterms:modified>
  <cp:revision>28</cp:revision>
  <dc:subject/>
  <dc:title>Слайд 1</dc:title>
</cp:coreProperties>
</file>