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3D9-6D27-4993-A5D7-B44C18CE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CF6-9CA6-4DEA-A1B2-6DBB5700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22D-EEC2-4A30-9404-8346F707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4F6-798C-41E9-AD1B-02454DB9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F62F-40D5-4A13-833A-115D81CD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4149-FB90-453F-B6D8-FC84B23D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438A-56EA-40D3-A85C-FC3FAA25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9F8B-B21C-4657-BE14-EE9AA620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B921-2C76-46F4-B4F2-F18367E0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798E-0291-4E3C-920B-D659C447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6E62-3FA8-44DD-BA10-9699FD0D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9D2-6B1C-42B0-8BC0-90885F5F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F926-21D7-46F5-BABD-02D073B7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94DA-5F38-40AF-8685-FB11B1E1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5EC7-F527-44FC-B470-6EDBE01B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C2D3-8143-446B-ACF0-3FAD3F8E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E855-7904-46B2-9839-4B9867A0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12F3-C8E5-4C39-AC69-A841FBAD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F5ABA-2943-45AE-8B3E-829312FF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0B7B-892F-4881-B012-94F34177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F72C-7484-4ACB-9D32-988676D8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B866-2CF5-458E-926D-EAE8ABB0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4BB-FA32-43C3-B3FB-C5A30DC6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00E0-D820-41FA-9120-D9B05117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6D4EA-FC86-4157-9BC5-07194690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1352-A2E8-4921-88B7-A7CEB771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4AAFC-18AB-4AE4-A50C-BA772129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F0D7-F389-42BB-83A7-CD99F72F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76E93-0DF4-4A15-B351-FA90C14B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AFF62-A9A7-4E10-BBFA-0E7F9A08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EC0E-79F8-48B2-9EAF-63D31E24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9304-90E6-4088-B266-3680D400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2F80-F344-487B-9ED0-2FDD17F1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A88-EC60-45F6-982C-F29F2526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86900-943E-4B8F-AE42-140F3107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DC391-7C9B-4DAF-A17B-AD157AA8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2521-987C-4615-BD01-ECD1BAF4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21F1F-E93F-4BAB-8689-8F4D742B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574C-8A92-4123-AEF7-C9A3C38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791CD-83E8-42CF-ABF6-A156D3B2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5972-457B-4360-9291-05859899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2195-0668-448A-BD41-A0B5B0A3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2D84-0C07-4D0D-86E5-E9C5C5AF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3EC-E33F-4D03-BAF4-0485E23B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2B9-E0BE-474D-9902-3FF65B2B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2B1-C895-4F93-B6B0-CECA2B21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13F-F6E5-469C-9078-3F2B351F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553-6915-4053-9D71-F6A32A82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A5E3-FF6E-4E19-82E3-4C39EC5F1A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3405-7B8B-4F81-B151-2D430FA60E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679-0E47-42ED-9628-D6BF266A33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6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1439-C001-4448-9C63-84E5CF50D1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75582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БОУ СОШ № 2 п. Краснообск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76360" y="2276640"/>
            <a:ext cx="64008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тие творческого мышления у учащихся на основе деятельного подхода в обучен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ецкая Наталья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6480" y="-2188080"/>
            <a:ext cx="8507520" cy="57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Существует много тестов, специально направленных на выявление творческих возможностей.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диагностического исследования творческих возможностей учащихся я использовала тесты Поля Торре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исследования в сентябре проводились уроки и внеклассные мероариятия (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ложение №6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с использованием методов и приёмов, развивающих творческое мышл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е вводной диагностики сравнивались с результатами исследования, проводимых  в мае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ходя из полученных данных можно сделать вывод, что у учащихся развились творческие способности: беглость, гибкость, оригинальность мышления и способность к детальной разработ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Данная технология преподавания  имеет ряд преимуществ по сравнению с традиционной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зволяет повысить качественную успеваемость учащихся, что свидетельствует о возрастании их учебных возможностей 2015-2016 уч.г.-58%, 2016-2017-62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ёт оптимальные условия для активной мыслительной деятельности и развития дивергентного мыш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ирует интерес к предмету и научно-исследовательской деятельности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ложение №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собствует развитию у школьников умений переносить знания в новые ситу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ет организационные, коммуникативные, информационные умения и навыки, следовательно активную жизненную позиц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Ученики умеют самостоятельно работать и применять приобретённые знания в жизненных ситуациях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ствуют в озеленение школы и пришкольной территор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абатывают проекты социально-значимых объектов посёлка (парковой зоны, пляжа, детской площадки, экодома, спортивного комплекса  и т.д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ствуют в акциях по очистки территории от бытового мусо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трудничают с обществом по охране окружающей среды( собирали подписи жителей посёлка для организации пункта по сортировки упаковочных материалов, участвовали в акциях , направленных на сохранение дендропарк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трудничают с «Сибэкоцентром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нм1"/>
          <p:cNvPicPr/>
          <p:nvPr/>
        </p:nvPicPr>
        <p:blipFill>
          <a:blip r:embed="rId1"/>
          <a:stretch/>
        </p:blipFill>
        <p:spPr>
          <a:xfrm>
            <a:off x="5219640" y="4270320"/>
            <a:ext cx="3419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435880" cy="27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Более 80% учащихся поступают в ВУЗы. За последние три года два выпускника поступили в НГУ на факультет естественных наук.</a:t>
            </a:r>
            <a:br>
              <a:rPr sz="1800"/>
            </a:b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Многие выпускники учатся в медицинской академии, аграрном университете, педагогическом  университете, томском университете(ф-т экологии)  и других учебных заведениях, где сдаются вступительные экзамены по биологии.</a:t>
            </a:r>
            <a:br>
              <a:rPr sz="1800"/>
            </a:b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Среди моих выпускников  2016\2017 учебного года и 2017\2018 уч. года 6 медалистов.</a:t>
            </a:r>
            <a:br>
              <a:rPr sz="1800"/>
            </a:b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   Выпускники школы часто приходят в гости. Беседуют с учащимися, проводят классные часы.  Приглашают на экскурсии  в исследовательские институты, на предприятия, где они работают после окончания ВУЗов.</a:t>
            </a:r>
            <a:br>
              <a:rPr sz="18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9" name="Picture 4" descr="DSC02375"/>
          <p:cNvPicPr/>
          <p:nvPr/>
        </p:nvPicPr>
        <p:blipFill>
          <a:blip r:embed="rId1"/>
          <a:stretch/>
        </p:blipFill>
        <p:spPr>
          <a:xfrm>
            <a:off x="179280" y="3429000"/>
            <a:ext cx="4392720" cy="2992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DSC02543"/>
          <p:cNvPicPr/>
          <p:nvPr/>
        </p:nvPicPr>
        <p:blipFill>
          <a:blip r:embed="rId2"/>
          <a:stretch/>
        </p:blipFill>
        <p:spPr>
          <a:xfrm>
            <a:off x="4572000" y="371628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1"/>
          <p:cNvSpPr/>
          <p:nvPr/>
        </p:nvSpPr>
        <p:spPr>
          <a:xfrm>
            <a:off x="2908080" y="35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686800" cy="48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ри обучении учащихся важна  активная жизненная позиция учителя, его положительный пример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ля учителя биологии актуальным и значимым является пропаганда здорового образа жизни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     Приложение № 7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Накопленным опытом хочется поделиться с коллегами. Так как мы учимся друг у друга. Помогаем найти ошибки, осознать результаты своей деятельности.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     Приложение № 8                     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                                   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Приложение № 1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                                     Кабинет биологи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етодическая литература для учител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ебная и научно-популярная литература для учени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глядные пособ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идеотека, мультимедийные пособ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нтерне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И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дактический материа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здаточный материа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пытно-экспериментальное оборудо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ифровые образовательные ресурсы, созданные учителе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хнические средства обуч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телевизор,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VD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компьютер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рмативные документ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чень оснащ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5" descr="Кабинет 060"/>
          <p:cNvPicPr/>
          <p:nvPr/>
        </p:nvPicPr>
        <p:blipFill>
          <a:blip r:embed="rId1"/>
          <a:stretch/>
        </p:blipFill>
        <p:spPr>
          <a:xfrm>
            <a:off x="0" y="333360"/>
            <a:ext cx="2460600" cy="2519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DSC01970"/>
          <p:cNvPicPr/>
          <p:nvPr/>
        </p:nvPicPr>
        <p:blipFill>
          <a:blip r:embed="rId2"/>
          <a:stretch/>
        </p:blipFill>
        <p:spPr>
          <a:xfrm>
            <a:off x="468360" y="3828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DSC01939"/>
          <p:cNvPicPr/>
          <p:nvPr/>
        </p:nvPicPr>
        <p:blipFill>
          <a:blip r:embed="rId3"/>
          <a:stretch/>
        </p:blipFill>
        <p:spPr>
          <a:xfrm>
            <a:off x="2195640" y="836640"/>
            <a:ext cx="2493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Приложение №2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исок вопросов для стимулирования беглости мышл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льтернативные применения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но ли данный объект использовать как-то по другому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 что похож данный объект? Что он напоминае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. Изменения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ете ли Вы изменить цвет данного объекта, размер, форму, звук, запах, направление движения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но ли удлинить этот объект, сделать его больше, тяжелее, сильнее, толще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Как можно улучшить, усовершенствовать объект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. Уменьшение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но ли сделать этот объект меньше, короче, тоньше, слабее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. Замещение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но ли в замен этого использовать другой механизм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5. Перемещение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ете ли Вы поменять части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ете ли Вы сделать это в другой последовательности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6. Комбинирование, объединение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ете ли Вы скомбинировать эти части, идеи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ете ли Вы смешать, соединить эти части вместе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7. Перевёртывание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ете ли Вы развернуть этот объект задом наперёд или перевернуть его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риложение № 3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опросы для самостоятельного оценивания работы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бе нравится твоя работа? Почем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что ты думаешь об это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что хорошего, по-твоему, есть в твоей работ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ы бы сравнил эту работу с той, что сделал в прошлый раз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в этой работе тебе больше всего удалос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в этой работе тебе больше всего нравитс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5" descr="IMG_1781"/>
          <p:cNvPicPr/>
          <p:nvPr/>
        </p:nvPicPr>
        <p:blipFill>
          <a:blip r:embed="rId1"/>
          <a:stretch/>
        </p:blipFill>
        <p:spPr>
          <a:xfrm>
            <a:off x="1835280" y="4327560"/>
            <a:ext cx="3373200" cy="2530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PICT1253"/>
          <p:cNvPicPr/>
          <p:nvPr/>
        </p:nvPicPr>
        <p:blipFill>
          <a:blip r:embed="rId2"/>
          <a:stretch/>
        </p:blipFill>
        <p:spPr>
          <a:xfrm>
            <a:off x="7058160" y="4076640"/>
            <a:ext cx="2085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иложение №4</a:t>
            </a:r>
            <a:br>
              <a:rPr sz="19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лассификация занятий в соответствии со структурой интеллекта Дж. Гилфор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84280"/>
          <a:ext cx="8280360" cy="5461200"/>
        </p:xfrm>
        <a:graphic>
          <a:graphicData uri="http://schemas.openxmlformats.org/drawingml/2006/table">
            <a:tbl>
              <a:tblPr/>
              <a:tblGrid>
                <a:gridCol w="1944720"/>
                <a:gridCol w="2087640"/>
                <a:gridCol w="4248000"/>
              </a:tblGrid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зад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йств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ёмы, применяемые учител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умия о слов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ные единиц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ить синквейн, работа с поняти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ду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ные сист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ирование, составь тест, схему, условие задачи, кроссворд, конспек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рии и сказ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е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тешествие пчелы и т.д., истории взаимоотношений совы и мыши, листьев и стебля. Рассказ, использу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ор сл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здн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волические импликации и разработки дета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вящение. День птиц. День Зем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каз по рисунка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в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каз по рисункам, таблицам, схемам. Пантомим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ты видишь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ные разработки дета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ор, модель, часть скелета рыбы, орган млекопитающих, процесс и т. 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ая жизнь старых вещ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ные разработки дета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ирование, альтернатив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ису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волические разработки дета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етку бактерий, растений, грибов, эритроцита. Сердце, рефлекторную дуг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чинение стих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антические отнош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чинение стих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ли бы я написал книг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ные трансформ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ли бы я написал книгу по кусу «Человек», статью по теме «Генетика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497800" cy="61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иложение № 5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чебные достижения учащихся подвергаются внешней экспертизе:</a:t>
            </a:r>
            <a:br>
              <a:rPr sz="1900"/>
            </a:b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 Всероссийские проверочные работы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 ГИА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. ОГЭ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  ЭГЭ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Всероссийская олимпиада школьников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. Научно-практические конференции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DSC02552"/>
          <p:cNvPicPr/>
          <p:nvPr/>
        </p:nvPicPr>
        <p:blipFill>
          <a:blip r:embed="rId1"/>
          <a:stretch/>
        </p:blipFill>
        <p:spPr>
          <a:xfrm>
            <a:off x="5508720" y="155736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Копия 3"/>
          <p:cNvPicPr/>
          <p:nvPr/>
        </p:nvPicPr>
        <p:blipFill>
          <a:blip r:embed="rId2"/>
          <a:stretch/>
        </p:blipFill>
        <p:spPr>
          <a:xfrm>
            <a:off x="4211640" y="3708360"/>
            <a:ext cx="43210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860640"/>
            <a:ext cx="8208720" cy="371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Цель: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формирование творческого мышления у учащихс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ровести вводную диагностику уровня творческих способностей учащихся.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Создать благоприятную психологическую атмосферу для занятий.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Обеспечить развитие творческого потенциала каждого ребёнка как субъекта обучения со своими психолого-возрастными особенностями.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Использовать разнообразные методы и приёмы, развивающие творческое мышление.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5.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Выяснить закономерности мешающие развитию личности, способной к творческой самореализации.</a:t>
            </a:r>
            <a:br>
              <a:rPr sz="24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316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иложение № 6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                       Внеклассная дея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када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ая деятельность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ивные к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ции по эк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еленение школы и пришкольной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импи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ные ч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ечи с выпускник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DSC02494"/>
          <p:cNvPicPr/>
          <p:nvPr/>
        </p:nvPicPr>
        <p:blipFill>
          <a:blip r:embed="rId1"/>
          <a:stretch/>
        </p:blipFill>
        <p:spPr>
          <a:xfrm>
            <a:off x="179280" y="3905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IMG_3923"/>
          <p:cNvPicPr/>
          <p:nvPr/>
        </p:nvPicPr>
        <p:blipFill>
          <a:blip r:embed="rId2"/>
          <a:stretch/>
        </p:blipFill>
        <p:spPr>
          <a:xfrm>
            <a:off x="324000" y="1125360"/>
            <a:ext cx="353988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иложение № 7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                  Пропаганда здорового образа жиз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тические классные ч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еологические минуты на уро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ый отдых с классом на приро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районном конкурс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амый спортивный класс»   -2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районном конкурсе «Папа, мама, я – спортив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»  - 3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Копия 2"/>
          <p:cNvPicPr/>
          <p:nvPr/>
        </p:nvPicPr>
        <p:blipFill>
          <a:blip r:embed="rId1"/>
          <a:stretch/>
        </p:blipFill>
        <p:spPr>
          <a:xfrm>
            <a:off x="468360" y="1557360"/>
            <a:ext cx="3527280" cy="2303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1"/>
          <p:cNvPicPr/>
          <p:nvPr/>
        </p:nvPicPr>
        <p:blipFill>
          <a:blip r:embed="rId2"/>
          <a:stretch/>
        </p:blipFill>
        <p:spPr>
          <a:xfrm>
            <a:off x="395280" y="3927600"/>
            <a:ext cx="4032360" cy="2684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4"/>
          <p:cNvPicPr/>
          <p:nvPr/>
        </p:nvPicPr>
        <p:blipFill>
          <a:blip r:embed="rId3"/>
          <a:stretch/>
        </p:blipFill>
        <p:spPr>
          <a:xfrm>
            <a:off x="5651640" y="5013360"/>
            <a:ext cx="255564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ложение № 8 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бобщение и распространение опы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9640" y="907920"/>
          <a:ext cx="8604360" cy="6328080"/>
        </p:xfrm>
        <a:graphic>
          <a:graphicData uri="http://schemas.openxmlformats.org/drawingml/2006/table">
            <a:tbl>
              <a:tblPr/>
              <a:tblGrid>
                <a:gridCol w="1284480"/>
                <a:gridCol w="1285920"/>
                <a:gridCol w="1143000"/>
                <a:gridCol w="1071360"/>
                <a:gridCol w="1214640"/>
                <a:gridCol w="1357200"/>
                <a:gridCol w="1247760"/>
              </a:tblGrid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тупление на педсовет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крытые уро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дение семинар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авниче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ставление опыта на сайт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зывы о результатах педагогической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ие в семинарах, конференция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Современные технологи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обучени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Создание интеллектуального фона развит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Различные формы и приёмы обеспечения  надлежащего поведения учащихся в класс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Отметка – как фактор рис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Жизнь без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гар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районный с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Состав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й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питков 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доровь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еминар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ректор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Белки –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ш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п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ества 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е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словивш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явл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зн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еминар уч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ологи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йонный семинар учителей биологии – март 20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Развитие творческого мышления у учащихся через внеурочную деятельность»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 и проведение педагогической практики студентов НГП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ичка 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йт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_2_kras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. edu 54. 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ле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минист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щих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йо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лас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ск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она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496360" cy="410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ля успешного решения этих задач свою деятельность строю на основе следующих принципов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1. Опора на данные психологов.</a:t>
            </a:r>
            <a:br>
              <a:rPr sz="2800"/>
            </a:b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2. Личностно-деятельный подход в обучении.</a:t>
            </a:r>
            <a:br>
              <a:rPr sz="2800"/>
            </a:b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3.Принцип выбора.</a:t>
            </a:r>
            <a:br>
              <a:rPr sz="2800"/>
            </a:b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4. Совершенствование своей профессиональной деятельности.</a:t>
            </a:r>
            <a:br>
              <a:rPr sz="2800"/>
            </a:b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5. Творчества и успеха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«Успех – самый лучший воспитатель, ибо он даёт ребёнку главное: уверенность в собственные силы и самого себя».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Л. С. Выготско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8200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 соответствии с названными целью, задачами и принципами были применены следующие метод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- изучение и анализ зарубежной и отечественной литератур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-  посещение семинаров , учёба на курсах ,беседы с коллегами и наблюдение их уроко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- анкетирование, тестирование и интервьюирование учащихся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- экспериментальное преподавание биологии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-анализ опытно-практической деятельности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пособом мотивации, для развития творческого мышления  у учащихся, выступает хорошо оборудованный  кабинет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кабинете собран большой дидактический , раздаточный материал, что позволяет применять дифференцированный подход в обучении, используя задания разной степени сложност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еются различные информационные ресурс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всем курсам собраны учебно –методические комплект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атизированы  наглядные пособия, опытно-экспериментальное оборудование 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ложение №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4" descr="Кабинет 062"/>
          <p:cNvPicPr/>
          <p:nvPr/>
        </p:nvPicPr>
        <p:blipFill>
          <a:blip r:embed="rId1"/>
          <a:stretch/>
        </p:blipFill>
        <p:spPr>
          <a:xfrm>
            <a:off x="324000" y="388764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Кабинет 055"/>
          <p:cNvPicPr/>
          <p:nvPr/>
        </p:nvPicPr>
        <p:blipFill>
          <a:blip r:embed="rId2"/>
          <a:stretch/>
        </p:blipFill>
        <p:spPr>
          <a:xfrm>
            <a:off x="4788000" y="3860640"/>
            <a:ext cx="3960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4920" y="1916280"/>
            <a:ext cx="830268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Творческое мышление (дивергентное, нешаблонное) – это вид мышления, который характеризуется разрушением шаблонных стереотипов и ограничений и большой свободой в решении проблем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Особенности творческого мышления по Дж. Гилфорду: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- беглость мысли;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- гибкость мысли;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- оригинальность мысли;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- точность.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Ю. Б. Гатановым разработан «Курс развития творческого мышления».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Из предлагаемых автором Курса методов мной были использован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1. «Мозговой штурм» или принцип «беглости».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Приложение №2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2. Принцип мягкого соревнования.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3. Сотрудничество и кооперация.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4. Оценивание и благоприятная психологическая атмосфера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 Приложение № 3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5. Поиск альтернатив.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6. Дробление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7. Почему?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8. « От противного».</a:t>
            </a:r>
            <a:br>
              <a:rPr sz="2400"/>
            </a:b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9. Проектирование.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К перечисленным методам , на основе своей педагогической деятельности, я бы добавила ряд приёмов, развивающих творческое мышление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Составление вопросов-суждений, опорных конспектов, тес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Составление синквейн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Составление условий задач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Решение нестандартных задач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Написание рассказов, сказок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Составление сценарие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Проведение классных часов, вечеров, уро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. Пантоми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 Сбор  коллек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0. Прогнозирование ситу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1. Сочинение стих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2. Обсуждение проблемой ситу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меняемые методы, развивающие творческое мышление, можно систематизировать, используя структуру интеллекта Дж. Гилфорда. Приложение №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 выводам Р.С. Немова существуют условия препятствующие творческому подходу к решению  каких-либо задач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прошлом определённый способ решения человеком некоторых задач оказался достаточно успешным, то это обстоятельство побуждает его и в дальнейшем придерживаться данного способа реш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м больше усилий было потрачено на то, чтобы найти и применить на практике новый способ решения задачи, тем вероятнее обращение кнему в будущ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ллектуальные способности человека, как правило, страдают от частых неудач, и боязнь очередной неудачи начинает автоматически возникать при встрече с новой задач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выводам Р.С.Немова я бы добаивла, что человеку быть творческой личностью и проявлять оригинальность мышления мешает боязнь оказаться «белой вороной» среди людей, показаться глупым или смешным в своих сужд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7:25:27Z</dcterms:created>
  <dc:creator>school2</dc:creator>
  <dc:description/>
  <dc:language>en-US</dc:language>
  <cp:lastModifiedBy>Админ</cp:lastModifiedBy>
  <dcterms:modified xsi:type="dcterms:W3CDTF">2020-04-02T08:37:37Z</dcterms:modified>
  <cp:revision>60</cp:revision>
  <dc:subject/>
  <dc:title>МОУ – Краснообская средняя общеобразовательная  школа № 2</dc:title>
</cp:coreProperties>
</file>