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8.gif" ContentType="image/gif"/>
  <Override PartName="/ppt/media/image5.gif" ContentType="image/gif"/>
  <Override PartName="/ppt/media/image9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B8F-454C-4A47-BE25-6513288D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BF2-4E51-435D-95F3-CBAF4FC2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7CF-53DA-4F07-9A99-80866777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C14-71F4-4F82-BE1D-84CA5555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A6B-4702-44FB-99D2-66F12AEA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47A-300E-45FD-8E09-FB64CB54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B70-C463-40A7-8A4A-43B9AF37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0C3-FEEA-4318-BB13-431C2539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2BE-29C0-4278-BAB0-B90941C6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CC3-A49B-49EE-B403-AB5EF63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DDF-6B5A-4776-BBC4-A691C083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54F-A9B2-4576-BC3D-B8B2F9D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4CE2-0480-48C9-9812-E29E4DA0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1790640" cy="2381040"/>
          </a:xfrm>
          <a:prstGeom prst="rect">
            <a:avLst/>
          </a:prstGeom>
          <a:ln w="76320">
            <a:solidFill>
              <a:srgbClr val="66ff66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476280" y="609480"/>
            <a:ext cx="8439120" cy="30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слове, реч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культуре общения 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3680" y="3762360"/>
            <a:ext cx="44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редних клас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0880" y="466560"/>
            <a:ext cx="8458200" cy="258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емиться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лучшему будущему...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43000" y="914400"/>
            <a:ext cx="6477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зультаты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кетирования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57800" y="3743280"/>
            <a:ext cx="3795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67680" y="1339560"/>
            <a:ext cx="90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ение разнообразной литерату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особенно стихотвор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6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веты: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8320" y="3054240"/>
            <a:ext cx="751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2. Семейное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личный пример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2459160" cy="2608560"/>
          </a:xfrm>
          <a:prstGeom prst="rect">
            <a:avLst/>
          </a:prstGeom>
          <a:ln w="7632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533520"/>
            <a:ext cx="662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езная игра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40" y="2819520"/>
            <a:ext cx="888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«Давайте говор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66ffff"/>
                </a:solidFill>
                <a:latin typeface="Arial"/>
              </a:rPr>
              <a:t>красиво..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0" y="2819520"/>
            <a:ext cx="888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«Давайте говори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красиво..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867600">
            <a:off x="7009920" y="4038480"/>
            <a:ext cx="18525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1120" y="761400"/>
            <a:ext cx="27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зросл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0200"/>
          <a:ext cx="307188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30718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2700360" cy="3124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127680" y="380880"/>
            <a:ext cx="31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с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94840" y="121932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7520" y="5318280"/>
            <a:ext cx="181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7 -0.04884 L 0.62847 -0.04884 L 0.62847 0.7956 L 0.02847 0.7956 L 0.02847 -0.04884 Z">
                                      <p:cBhvr>
                                        <p:cTn id="49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9 0.8331 L -0.31163 0.8331 L -0.31163 0.00648 L 0.2849 0.00648 L 0.2849 0.8331 Z">
                                      <p:cBhvr>
                                        <p:cTn id="51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18 0.70115 L -0.6118 -0.10996 L 0.00486 -0.10996 L 0.00486 0.70115 L -0.6118 0.70115 Z">
                                      <p:cBhvr>
                                        <p:cTn id="53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035 -0.70208 L 0.30035 0.08681 L -0.30799 0.08681 L -0.30799 -0.70208 L 0.30035 -0.70208 Z">
                                      <p:cBhvr>
                                        <p:cTn id="55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4281480"/>
            <a:ext cx="3352680" cy="229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280" y="-58680"/>
            <a:ext cx="77018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то говорит — тот с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то слушает — тот собир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Своего «спасибо» не жа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чужого не ж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Далеко идёт тот, кто мягко ступа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Весёлое слово — речи оп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Не бросай слова на ве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Одно доброе слово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слов руган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008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-2590920" y="152280"/>
            <a:ext cx="9601200" cy="396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ущее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</a:t>
            </a: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висит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   </a:t>
            </a: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 нас...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04T23:07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