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0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9.jpeg" ContentType="image/jpeg"/>
  <Override PartName="/ppt/media/image11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10.jpeg" ContentType="image/jpeg"/>
  <Override PartName="/ppt/media/image30.png" ContentType="image/png"/>
  <Override PartName="/ppt/media/image28.jpeg" ContentType="image/jpeg"/>
  <Override PartName="/ppt/media/image7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8.wmf" ContentType="image/x-wmf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9.wmf" ContentType="image/x-wmf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camera.wav" ContentType="audio/x-wav"/>
  <Override PartName="/ppt/media/image21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AC98-A357-4EEC-B823-00E2177E7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9837-E706-4FEB-89F8-77128BBB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02F9-9BB2-4E06-A267-3FABED664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1AE9-391C-48D1-9E66-CBC9EDDF4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9A93-D59F-4DF7-9CE6-FE4B6F1D6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CBB4-2871-44A1-8DD2-6893CB76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0EEF-FB64-4470-B95D-C07EDCF4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8747-5E6C-4293-9569-140948CF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C880-C225-4870-B56D-D6FE9DD1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4B3B-0917-45CD-B971-7FBC694C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F626C-4CA0-4CD3-85C7-1CA09B4D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F87E-92E3-4742-88DD-AF59A424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455BB-1434-4A27-A634-A1A54874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5C11-48C2-4392-99C8-BC6CBF08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75FD-43B8-4779-B8E6-99B0E1AA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A895E-42DD-4E05-914A-AB12464EC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1BD9-0E1B-42FF-8FE5-5A4392064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D7A4-060A-49EE-AE3A-0084E0D1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7875-28E0-4E05-A3B8-B3E4712D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A9B3-1F3A-42D3-A91E-CE18690D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CDCF-F9AC-40D9-8B43-98ADC623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EC60-02CC-4347-B413-41B1D7FE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80FD-F3E0-4DF4-8F3B-4468ECB2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D4EC-FBFB-466E-B814-04FA8D52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Group 1024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Rectangle 2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Freeform 4"/>
              <p:cNvSpPr/>
              <p:nvPr/>
            </p:nvSpPr>
            <p:spPr>
              <a:xfrm>
                <a:off x="9360" y="1623960"/>
                <a:ext cx="1413000" cy="1454040"/>
              </a:xfrm>
              <a:prstGeom prst="pie">
                <a:avLst/>
              </a:pr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5"/>
              <p:cNvSpPr/>
              <p:nvPr/>
            </p:nvSpPr>
            <p:spPr>
              <a:xfrm>
                <a:off x="9360" y="3313080"/>
                <a:ext cx="1413000" cy="1454040"/>
              </a:xfrm>
              <a:prstGeom prst="pie">
                <a:avLst/>
              </a:pr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6"/>
              <p:cNvSpPr/>
              <p:nvPr/>
            </p:nvSpPr>
            <p:spPr>
              <a:xfrm>
                <a:off x="9360" y="5016600"/>
                <a:ext cx="1413000" cy="1454040"/>
              </a:xfrm>
              <a:prstGeom prst="pie">
                <a:avLst/>
              </a:pr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1025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Rectangle 8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9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0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1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2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3"/>
              <p:cNvSpPr/>
              <p:nvPr/>
            </p:nvSpPr>
            <p:spPr>
              <a:xfrm>
                <a:off x="1576440" y="1631880"/>
                <a:ext cx="7564320" cy="189000"/>
              </a:xfrm>
              <a:prstGeom prst="pie">
                <a:avLst/>
              </a:pr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0CA0-9EA9-4E66-90AA-5AF2C07E448E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5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Group 21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Rectangle 10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11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12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13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14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15"/>
              <p:cNvSpPr/>
              <p:nvPr/>
            </p:nvSpPr>
            <p:spPr>
              <a:xfrm>
                <a:off x="1527120" y="3090960"/>
                <a:ext cx="7564320" cy="188640"/>
              </a:xfrm>
              <a:prstGeom prst="pie">
                <a:avLst/>
              </a:pr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23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Rectangle 4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Group 22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Picture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Freeform 6"/>
                <p:cNvSpPr/>
                <p:nvPr/>
              </p:nvSpPr>
              <p:spPr>
                <a:xfrm>
                  <a:off x="60480" y="65160"/>
                  <a:ext cx="1412640" cy="1454040"/>
                </a:xfrm>
                <a:prstGeom prst="pie">
                  <a:avLst/>
                </a:pr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Freeform 7"/>
                <p:cNvSpPr/>
                <p:nvPr/>
              </p:nvSpPr>
              <p:spPr>
                <a:xfrm>
                  <a:off x="9360" y="3313080"/>
                  <a:ext cx="1413000" cy="1454040"/>
                </a:xfrm>
                <a:prstGeom prst="pie">
                  <a:avLst/>
                </a:pr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8"/>
                <p:cNvSpPr/>
                <p:nvPr/>
              </p:nvSpPr>
              <p:spPr>
                <a:xfrm>
                  <a:off x="9360" y="5016600"/>
                  <a:ext cx="1413000" cy="1454040"/>
                </a:xfrm>
                <a:prstGeom prst="pie">
                  <a:avLst/>
                </a:pr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0B11-FD73-47CA-9D2F-918D66EC4C1E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image" Target="../media/image26.jpeg"/><Relationship Id="rId11" Type="http://schemas.openxmlformats.org/officeDocument/2006/relationships/image" Target="../media/image27.jpe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wm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image" Target="../media/image31.jpeg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0"/>
          <p:cNvSpPr/>
          <p:nvPr/>
        </p:nvSpPr>
        <p:spPr>
          <a:xfrm>
            <a:off x="7391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8ACC-EEF0-4BD7-93EA-D02DFB440586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1447920" y="0"/>
            <a:ext cx="769608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WordArt 16"/>
          <p:cNvSpPr txBox="1"/>
          <p:nvPr/>
        </p:nvSpPr>
        <p:spPr>
          <a:xfrm>
            <a:off x="571680" y="333360"/>
            <a:ext cx="7786440" cy="21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Цифровой образовательный ресур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</p:txBody>
      </p:sp>
      <p:sp>
        <p:nvSpPr>
          <p:cNvPr id="114" name="WordArt 18"/>
          <p:cNvSpPr txBox="1"/>
          <p:nvPr/>
        </p:nvSpPr>
        <p:spPr>
          <a:xfrm>
            <a:off x="1042920" y="2708280"/>
            <a:ext cx="741672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Юмор в рассказ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Н.Носов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</p:txBody>
      </p:sp>
      <p:pic>
        <p:nvPicPr>
          <p:cNvPr id="115" name="В траве сидел кузнечик.mp3" descr=""/>
          <p:cNvPicPr/>
          <p:nvPr/>
        </p:nvPicPr>
        <p:blipFill>
          <a:blip r:embed="rId1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6" name="WordArt 18"/>
          <p:cNvSpPr txBox="1"/>
          <p:nvPr/>
        </p:nvSpPr>
        <p:spPr>
          <a:xfrm>
            <a:off x="1042920" y="4437000"/>
            <a:ext cx="7416720" cy="200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"Фантазёры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омер слайда 6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B682-69AB-4F4D-A8B8-9FF073AA95BB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6633"/>
                </a:solidFill>
                <a:latin typeface="Times New Roman"/>
              </a:rPr>
              <a:t>Эти книги написал Николай Носов: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457520" y="1905120"/>
            <a:ext cx="4686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Приключения Незнайки и его друзей» (195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Незнайка в Солнечном городе» (195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Незнайка на Луне» (1964) За трилогию о Незнайке Носов получил премию им. Н.К.Крупск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Приключения Толи Клюквина» (196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Повесть о моем друге Игоре» (197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Тайна на дне колодца» (197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1619280" y="2060640"/>
            <a:ext cx="2590920" cy="209232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3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5767-F81D-4923-8253-20460B3E1C3F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4648320" y="228600"/>
            <a:ext cx="1904760" cy="2590920"/>
          </a:xfrm>
          <a:prstGeom prst="rect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4648320" y="3581280"/>
            <a:ext cx="1904760" cy="2590920"/>
          </a:xfrm>
          <a:prstGeom prst="rect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2438280" y="228600"/>
            <a:ext cx="1905120" cy="2590920"/>
          </a:xfrm>
          <a:prstGeom prst="rect">
            <a:avLst/>
          </a:prstGeom>
          <a:blipFill rotWithShape="0">
            <a:blip r:embed="rId4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228600" y="228600"/>
            <a:ext cx="1905120" cy="2590920"/>
          </a:xfrm>
          <a:prstGeom prst="rect">
            <a:avLst/>
          </a:prstGeom>
          <a:blipFill rotWithShape="0">
            <a:blip r:embed="rId5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304920" y="3962520"/>
            <a:ext cx="1981080" cy="2666880"/>
          </a:xfrm>
          <a:prstGeom prst="rect">
            <a:avLst/>
          </a:prstGeom>
          <a:blipFill rotWithShape="0">
            <a:blip r:embed="rId6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2590920" y="3581280"/>
            <a:ext cx="1904760" cy="2590920"/>
          </a:xfrm>
          <a:prstGeom prst="rect">
            <a:avLst/>
          </a:prstGeom>
          <a:blipFill rotWithShape="0">
            <a:blip r:embed="rId7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1828800" y="2209680"/>
            <a:ext cx="1905120" cy="2590920"/>
          </a:xfrm>
          <a:prstGeom prst="rect">
            <a:avLst/>
          </a:prstGeom>
          <a:blipFill rotWithShape="0">
            <a:blip r:embed="rId8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6934320" y="228600"/>
            <a:ext cx="1904760" cy="2590920"/>
          </a:xfrm>
          <a:prstGeom prst="rect">
            <a:avLst/>
          </a:prstGeom>
          <a:blipFill rotWithShape="0">
            <a:blip r:embed="rId9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7010280" y="3962520"/>
            <a:ext cx="1905120" cy="2590560"/>
          </a:xfrm>
          <a:prstGeom prst="rect">
            <a:avLst/>
          </a:prstGeom>
          <a:blipFill rotWithShape="0">
            <a:blip r:embed="rId10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4952880" y="2286000"/>
            <a:ext cx="1905120" cy="2590920"/>
          </a:xfrm>
          <a:prstGeom prst="rect">
            <a:avLst/>
          </a:prstGeom>
          <a:blipFill rotWithShape="0">
            <a:blip r:embed="rId11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7000"/>
                            </p:stCondLst>
                            <p:childTnLst>
                              <p:par>
                                <p:cTn id="22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8000"/>
                            </p:stCondLst>
                            <p:childTnLst>
                              <p:par>
                                <p:cTn id="23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9000"/>
                            </p:stCondLst>
                            <p:childTnLst>
                              <p:par>
                                <p:cTn id="23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Номер слайда 3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4305-9C89-4F2D-AC91-665171ACAE77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ilm"/>
          <p:cNvSpPr/>
          <p:nvPr/>
        </p:nvSpPr>
        <p:spPr>
          <a:xfrm flipV="1" rot="5400000">
            <a:off x="3895560" y="-3591720"/>
            <a:ext cx="1352520" cy="9144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857160" y="2643120"/>
            <a:ext cx="2133720" cy="2014560"/>
          </a:xfrm>
          <a:prstGeom prst="rect">
            <a:avLst/>
          </a:prstGeom>
          <a:ln w="0">
            <a:noFill/>
          </a:ln>
        </p:spPr>
      </p:pic>
      <p:sp>
        <p:nvSpPr>
          <p:cNvPr id="175" name="WordArt 6"/>
          <p:cNvSpPr txBox="1"/>
          <p:nvPr/>
        </p:nvSpPr>
        <p:spPr>
          <a:xfrm>
            <a:off x="1428840" y="380880"/>
            <a:ext cx="6267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ир кино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4343400" y="1801800"/>
            <a:ext cx="4572000" cy="39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льм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о книгам Носов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ва друга. По повести «Витя Малеев в в школе и дома»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5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ужок. По рассказам «Дружок» и «Мишкина каша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5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Живая радуг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82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знайка с нашего двора, 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8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ключения Толи Клюквин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64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пинамбуры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8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антазер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6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3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FB97-99AF-46C0-BD3D-8884EBE526BC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Film"/>
          <p:cNvSpPr/>
          <p:nvPr/>
        </p:nvSpPr>
        <p:spPr>
          <a:xfrm flipV="1" rot="5400000">
            <a:off x="3895560" y="-3591720"/>
            <a:ext cx="1352520" cy="9144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2133720" cy="2014560"/>
          </a:xfrm>
          <a:prstGeom prst="rect">
            <a:avLst/>
          </a:prstGeom>
          <a:ln w="0">
            <a:noFill/>
          </a:ln>
        </p:spPr>
      </p:pic>
      <p:sp>
        <p:nvSpPr>
          <p:cNvPr id="181" name="WordArt 5"/>
          <p:cNvSpPr txBox="1"/>
          <p:nvPr/>
        </p:nvSpPr>
        <p:spPr>
          <a:xfrm>
            <a:off x="2743200" y="380880"/>
            <a:ext cx="4952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ир кино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4343400" y="1801800"/>
            <a:ext cx="480060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льтфиль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бик в гостях у Барбоса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нтик и Шпунтик – веселые мастер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6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знайка в Солнечном городе. В 10 сериях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76-7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знайка учит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6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унтик и огурцы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6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знайка на Луне, 199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380880" y="2286000"/>
            <a:ext cx="3429000" cy="3429000"/>
          </a:xfrm>
          <a:prstGeom prst="rect">
            <a:avLst/>
          </a:prstGeom>
          <a:blipFill rotWithShape="0">
            <a:blip r:embed="rId9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1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26F5-55C4-4E04-9693-B7B47543C3B2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523880" y="2214720"/>
          <a:ext cx="7405920" cy="3851280"/>
        </p:xfrm>
        <a:graphic>
          <a:graphicData uri="http://schemas.openxmlformats.org/drawingml/2006/table">
            <a:tbl>
              <a:tblPr/>
              <a:tblGrid>
                <a:gridCol w="3762360"/>
                <a:gridCol w="3643560"/>
              </a:tblGrid>
              <a:tr h="507960">
                <a:tc>
                  <a:txBody>
                    <a:bodyPr lIns="93240" rIns="9324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Божья коровк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240" marR="93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3240" rIns="9324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на травке сиди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240" marR="93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507240">
                <a:tc>
                  <a:txBody>
                    <a:bodyPr lIns="93240" rIns="9324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Собака сердит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240" marR="93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3240" rIns="9324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под забором  рычи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240" marR="93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28440">
                <a:tc>
                  <a:txBody>
                    <a:bodyPr lIns="93240" rIns="9324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Поросёнок несмышлёны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240" marR="93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240" rIns="9324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в корыте лежи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240" marR="93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07240">
                <a:tc>
                  <a:txBody>
                    <a:bodyPr lIns="93240" rIns="9324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Цыплёнок маленьк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240" marR="93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3240" rIns="9324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за курицей бежи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240" marR="93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507960">
                <a:tc>
                  <a:txBody>
                    <a:bodyPr lIns="93240" rIns="9324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Петух очень грозны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240" marR="93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240" rIns="9324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за порядком следи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240" marR="93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07960">
                <a:tc>
                  <a:txBody>
                    <a:bodyPr lIns="93240" rIns="9324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А сам Емел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240" marR="93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3240" rIns="9324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газету читае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240" marR="93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84480">
                <a:tc>
                  <a:txBody>
                    <a:bodyPr lIns="93240" rIns="9324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240" marR="93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3240" rIns="9324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240" marR="93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  <p:sp>
        <p:nvSpPr>
          <p:cNvPr id="186" name="Rectangle 1"/>
          <p:cNvSpPr/>
          <p:nvPr/>
        </p:nvSpPr>
        <p:spPr>
          <a:xfrm>
            <a:off x="253440" y="5040"/>
            <a:ext cx="8110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Во дворе у Емел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каждый зверь при своём дел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31640" y="620640"/>
            <a:ext cx="459396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6633"/>
                </a:solidFill>
                <a:latin typeface="Times New Roman"/>
              </a:rPr>
              <a:t>Собрать пословицы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02920" y="2421000"/>
            <a:ext cx="7456680" cy="31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7a2"/>
                </a:solidFill>
                <a:latin typeface="Times New Roman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руязь позтсянаю в деб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ерниепе и друт вёс репетру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еворе дежитсяр кормяни, а векочел друмизья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612720" y="1484280"/>
            <a:ext cx="18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5" descr="Пара"/>
          <p:cNvPicPr/>
          <p:nvPr/>
        </p:nvPicPr>
        <p:blipFill>
          <a:blip r:embed="rId1"/>
          <a:stretch/>
        </p:blipFill>
        <p:spPr>
          <a:xfrm>
            <a:off x="5796000" y="115920"/>
            <a:ext cx="3241800" cy="291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50"/>
                            </p:stCondLst>
                            <p:childTnLst>
                              <p:par>
                                <p:cTn id="29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950"/>
                            </p:stCondLst>
                            <p:childTnLst>
                              <p:par>
                                <p:cTn id="29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650"/>
                            </p:stCondLst>
                            <p:childTnLst>
                              <p:par>
                                <p:cTn id="30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31640" y="620640"/>
            <a:ext cx="459396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6633"/>
                </a:solidFill>
                <a:latin typeface="Times New Roman"/>
              </a:rPr>
              <a:t>Собрать пословицы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02920" y="2421000"/>
            <a:ext cx="7456680" cy="286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7a2"/>
                </a:solidFill>
                <a:latin typeface="Times New Roman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рузья познаются в бед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рпение и труд всё перетру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рево держится корнями, а человек друзьям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612720" y="1484280"/>
            <a:ext cx="18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5" descr="Пара"/>
          <p:cNvPicPr/>
          <p:nvPr/>
        </p:nvPicPr>
        <p:blipFill>
          <a:blip r:embed="rId1"/>
          <a:stretch/>
        </p:blipFill>
        <p:spPr>
          <a:xfrm>
            <a:off x="5796000" y="115920"/>
            <a:ext cx="3241800" cy="291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50"/>
                            </p:stCondLst>
                            <p:childTnLst>
                              <p:par>
                                <p:cTn id="32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950"/>
                            </p:stCondLst>
                            <p:childTnLst>
                              <p:par>
                                <p:cTn id="33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650"/>
                            </p:stCondLst>
                            <p:childTnLst>
                              <p:par>
                                <p:cTn id="34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6600"/>
                </a:solidFill>
                <a:latin typeface="Times New Roman"/>
              </a:rPr>
              <a:t>Николай Носов</a:t>
            </a:r>
            <a:endParaRPr b="0" i="1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3300"/>
                </a:solidFill>
                <a:latin typeface="Times New Roman"/>
              </a:rPr>
              <a:t>«Фантазёры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фантазёры_отрывок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4" dur="143282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Училка"/>
          <p:cNvPicPr/>
          <p:nvPr/>
        </p:nvPicPr>
        <p:blipFill>
          <a:blip r:embed="rId1"/>
          <a:stretch/>
        </p:blipFill>
        <p:spPr>
          <a:xfrm>
            <a:off x="3203640" y="1989000"/>
            <a:ext cx="3645000" cy="3889440"/>
          </a:xfrm>
          <a:prstGeom prst="rect">
            <a:avLst/>
          </a:prstGeom>
          <a:ln w="0">
            <a:noFill/>
          </a:ln>
        </p:spPr>
      </p:pic>
      <p:sp>
        <p:nvSpPr>
          <p:cNvPr id="199" name="WordArt 3"/>
          <p:cNvSpPr txBox="1"/>
          <p:nvPr/>
        </p:nvSpPr>
        <p:spPr>
          <a:xfrm>
            <a:off x="1547640" y="549360"/>
            <a:ext cx="7272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996633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пасибо за урок ! </a:t>
            </a:r>
            <a:endParaRPr b="0" lang="en-US" sz="2400" spc="1" strike="noStrike">
              <a:ln w="0">
                <a:noFill/>
              </a:ln>
              <a:solidFill>
                <a:srgbClr val="996633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0" name="WordArt 5"/>
          <p:cNvSpPr txBox="1"/>
          <p:nvPr/>
        </p:nvSpPr>
        <p:spPr>
          <a:xfrm>
            <a:off x="1403280" y="5877000"/>
            <a:ext cx="7488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996633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Читайте книги!</a:t>
            </a:r>
            <a:endParaRPr b="0" lang="en-US" sz="2400" spc="1" strike="noStrike">
              <a:ln w="0">
                <a:noFill/>
              </a:ln>
              <a:solidFill>
                <a:srgbClr val="996633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6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1D4E-BA43-41ED-9462-DB1F16B54CF9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996633"/>
                </a:solidFill>
                <a:latin typeface="Times New Roman"/>
              </a:rPr>
              <a:t>Николай Носов</a:t>
            </a:r>
            <a:endParaRPr b="0" i="1" lang="en-US" sz="5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 Сочинять для детей — наилучшая работа. Она требует очень много знаний (…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авное – любви к ним. И уважения. Я понял, когда у меня рос сын, что к детям нужно относиться с самым большим и очень теплым уважением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1676520" y="1981080"/>
            <a:ext cx="3733560" cy="382428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75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3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A313-7132-43CD-964F-B4CD5CB70AA7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4427640" y="836640"/>
            <a:ext cx="4267080" cy="297180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2"/>
          <a:stretch/>
        </p:blipFill>
        <p:spPr>
          <a:xfrm>
            <a:off x="1547640" y="333360"/>
            <a:ext cx="3067200" cy="386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4" name="Rectangle 4"/>
          <p:cNvSpPr/>
          <p:nvPr/>
        </p:nvSpPr>
        <p:spPr>
          <a:xfrm>
            <a:off x="539640" y="2781360"/>
            <a:ext cx="2895840" cy="3809880"/>
          </a:xfrm>
          <a:prstGeom prst="rect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4427640" y="436572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дился Николай Носов      23 ноября 1908 года             на Украине в Киев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6"/>
          <p:cNvSpPr/>
          <p:nvPr/>
        </p:nvSpPr>
        <p:spPr>
          <a:xfrm>
            <a:off x="72388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7C08-3E57-4F1C-A50C-71394AD520D5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3" descr="PE03254_"/>
          <p:cNvPicPr/>
          <p:nvPr/>
        </p:nvPicPr>
        <p:blipFill>
          <a:blip r:embed="rId1"/>
          <a:stretch/>
        </p:blipFill>
        <p:spPr>
          <a:xfrm>
            <a:off x="1258920" y="2708280"/>
            <a:ext cx="3962520" cy="35053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Школьные годы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111280" y="1628640"/>
            <a:ext cx="4032360" cy="46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влечения школьных лет были многообразны: музыка, пение, любительский театр, сочинительство для рукописного журнала «Икс», а также химия, шахматы, радио, электроника, фотограф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зже Носов продавал газеты, был чернорабочим, землекопом, косарем, возчиком бреве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5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A5BA-9D7D-421A-98DF-EDCC06E1B77B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4038480" y="22860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3300"/>
                </a:solidFill>
                <a:latin typeface="Tahoma"/>
              </a:rPr>
              <a:t>Москва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380880"/>
            <a:ext cx="2666880" cy="3200400"/>
          </a:xfrm>
          <a:prstGeom prst="rect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600200" y="2819520"/>
            <a:ext cx="2362320" cy="3124080"/>
          </a:xfrm>
          <a:prstGeom prst="rect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211640" y="1773360"/>
            <a:ext cx="468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ле окончания школы Николай поступил в Киевский художественный институт, а в 1929 году перевелся в Институт кинематографии в Москв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тем стал работать в кино, снимать разные учебные, научные и мультипликационные фильм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3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79DC-F7C8-4EA8-9CAE-0163877160C0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7618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3"/>
          <p:cNvSpPr/>
          <p:nvPr/>
        </p:nvSpPr>
        <p:spPr>
          <a:xfrm>
            <a:off x="533520" y="2590920"/>
            <a:ext cx="2819160" cy="30477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1143000" y="5334120"/>
            <a:ext cx="5029200" cy="838080"/>
          </a:xfrm>
          <a:custGeom>
            <a:avLst/>
            <a:gdLst>
              <a:gd name="textAreaLeft" fmla="*/ 747360 w 5029200"/>
              <a:gd name="textAreaRight" fmla="*/ 4281840 w 5029200"/>
              <a:gd name="textAreaTop" fmla="*/ 10476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36" y="0"/>
                </a:lnTo>
                <a:arcTo wR="675" hR="675" stAng="16200000" swAng="5400000"/>
                <a:lnTo>
                  <a:pt x="5911" y="2700"/>
                </a:lnTo>
                <a:lnTo>
                  <a:pt x="15689" y="2700"/>
                </a:lnTo>
                <a:lnTo>
                  <a:pt x="15689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89" y="18900"/>
                </a:lnTo>
                <a:lnTo>
                  <a:pt x="18389" y="20925"/>
                </a:lnTo>
                <a:arcTo wR="675" hR="675" stAng="0" swAng="5400000"/>
                <a:lnTo>
                  <a:pt x="3886" y="21600"/>
                </a:lnTo>
                <a:arcTo wR="675" hR="675" stAng="5400000" swAng="5400000"/>
                <a:lnTo>
                  <a:pt x="3211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11" y="675"/>
                </a:moveTo>
                <a:arcTo wR="675" hR="675" stAng="0" swAng="5400000"/>
                <a:lnTo>
                  <a:pt x="3886" y="1350"/>
                </a:lnTo>
                <a:arcTo wR="675" hR="675" stAng="16200000" swAng="-5400000"/>
                <a:arcTo wR="675" hR="675" stAng="10800000" swAng="-5400000"/>
                <a:lnTo>
                  <a:pt x="5911" y="2700"/>
                </a:lnTo>
              </a:path>
              <a:path fill="none" w="21600" h="21600">
                <a:moveTo>
                  <a:pt x="15689" y="675"/>
                </a:moveTo>
                <a:arcTo wR="675" hR="675" stAng="10800000" swAng="-5400000"/>
                <a:lnTo>
                  <a:pt x="17714" y="1350"/>
                </a:lnTo>
                <a:arcTo wR="675" hR="675" stAng="16200000" swAng="5400000"/>
                <a:arcTo wR="675" hR="675" stAng="0" swAng="5400000"/>
                <a:lnTo>
                  <a:pt x="15689" y="2700"/>
                </a:lnTo>
              </a:path>
              <a:path fill="none" w="21600" h="21600">
                <a:moveTo>
                  <a:pt x="3211" y="2025"/>
                </a:moveTo>
                <a:lnTo>
                  <a:pt x="3211" y="18900"/>
                </a:lnTo>
              </a:path>
              <a:path fill="none" w="21600" h="21600">
                <a:moveTo>
                  <a:pt x="18389" y="2025"/>
                </a:moveTo>
                <a:lnTo>
                  <a:pt x="18389" y="1890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4572000" y="304920"/>
            <a:ext cx="40384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годы Великой отечественной войны Николай Носов поставил несколько учебных фильмов для Советской Армии. Был награжден орденом Красной звезды (1943 г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905120" y="556272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ahoma"/>
              </a:rPr>
              <a:t>Орден Красной Звез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75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75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омер слайда 5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DF5E-5501-419C-AE37-899FC4370589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0" y="1981080"/>
            <a:ext cx="4176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исатель соответствовал своей фамилии. У Носова действительно был нос и совсем не маленький, а крупный такой, заметный, и большая голова, и широкие плечи… И все это совершенно не вязалось с невысоким ростом и тихим глуховатым голосом. На первый взгляд – неказистый такой человек. Очень молчаливый, очень замкнуты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ые называли его «хмурым ворчуном». Но что они знали, эти иные? Они, наверное, и книг-то его никогда не читали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692360" y="2133720"/>
            <a:ext cx="2895480" cy="419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Веселая фамилия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6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E20C-2213-49A0-A09B-5E8F3C927A94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Первый рассказ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876560" y="1980720"/>
            <a:ext cx="42289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и многие знаменитые писатели, Николай Носов сначала сочинял сказки и рассказы просто так – для своего маленького сынишки. А потом один свой рассказ, он назывался «Затейники», он отнес в журнал «Мурзилка». Рассказ напечатали. Это было в 1938 год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1600200" y="1981080"/>
            <a:ext cx="3276720" cy="441972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1828800" y="2666880"/>
            <a:ext cx="533520" cy="30492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9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8" dur="75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Номер слайда 6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98C4-7772-4750-9EB0-9ACF0AC2A5C3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6633"/>
                </a:solidFill>
                <a:latin typeface="Times New Roman"/>
              </a:rPr>
              <a:t>Эти книги написал Николай Носов: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0" y="1981080"/>
            <a:ext cx="4533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Тук-тук-тук» (194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Ступеньки», «Веселые рассказы» (194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Веселая семейка» (194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Дневник Коли Синицына»(195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Витя Малеев в школе и дома» (1950) Книга получила Государственную премию ССС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1619280" y="2060640"/>
            <a:ext cx="2590920" cy="209232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9" dur="75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2T08:26:34Z</dcterms:created>
  <dc:creator>Пользователь</dc:creator>
  <dc:description/>
  <dc:language>en-US</dc:language>
  <cp:lastModifiedBy>Ушакова ГИ</cp:lastModifiedBy>
  <dcterms:modified xsi:type="dcterms:W3CDTF">2020-04-03T10:15:43Z</dcterms:modified>
  <cp:revision>132</cp:revision>
  <dc:subject/>
  <dc:title>Презентация PowerPoint</dc:title>
</cp:coreProperties>
</file>