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camera.wav" ContentType="audio/x-wav"/>
  <Override PartName="/ppt/media/image21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1CF-12AD-4249-ABEB-D642848B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6C4-A2E2-4194-A160-993BD063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60E-2339-49B1-AD22-98B7521F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6C6-7B32-431B-8620-F722FC0D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D35-A691-4304-936F-AF375A8C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B39-5728-4D8C-A3B6-D7677E4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5C1-6662-4DA5-94FE-41465E0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9215-1D33-46A3-A5C8-6A9CE39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4F42-A882-4622-ACF1-BD687743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477-957C-4230-8831-044A36F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968E-31B1-4FEE-9B86-70F31EC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FC2-5728-4C0D-A7DC-B493359F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563-EC08-4E05-A495-57AA937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815-EBFE-4D2C-A036-A427A414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9C1-21D0-46DB-B7F5-7F17F93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9D6-958B-4DFD-9478-683B2696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0C3-BC74-4B49-BC7B-2FF98D24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B65-DEDF-4DBC-8C53-FC232FB0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BF7-944F-454D-B3AF-9E3B52DB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F71-F16F-423D-8073-E815E2BC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076-F476-4124-B023-4658F069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38E-D28D-4321-A7F7-10DCDB6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D2E-EB35-4BF7-B5BF-D63F8AB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467-3C1A-4887-9C1A-B58B8E3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0014-2824-4BDC-A71E-15A9B6C142A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3BE-A7CE-4B3D-9F25-243AAECC805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0"/>
          <p:cNvSpPr/>
          <p:nvPr/>
        </p:nvSpPr>
        <p:spPr>
          <a:xfrm>
            <a:off x="7391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FD6-A94B-4BD7-95C4-BAB827EA511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447920" y="0"/>
            <a:ext cx="76960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571680" y="333360"/>
            <a:ext cx="778644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Цифровой образовательный рес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1042920" y="2708280"/>
            <a:ext cx="741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Юмор в рассказ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Н.Носо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115" name="В траве сидел кузнечик.mp3" descr=""/>
          <p:cNvPicPr/>
          <p:nvPr/>
        </p:nvPicPr>
        <p:blipFill>
          <a:blip r:embed="rId1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8"/>
          <p:cNvSpPr txBox="1"/>
          <p:nvPr/>
        </p:nvSpPr>
        <p:spPr>
          <a:xfrm>
            <a:off x="1042920" y="4437000"/>
            <a:ext cx="741672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"Фантазёры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F01-12A1-4861-9591-9CDEFE5104B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Эти книги написал Николай Носов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57520" y="1905120"/>
            <a:ext cx="468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риключения Незнайки и его друзей» (195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знайка в Солнечном городе» (19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знайка на Луне» (1964) За трилогию о Незнайке Носов получил премию им. Н.К.Круп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риключения Толи Клюквина» (196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овесть о моем друге Игоре» (19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айна на дне колодца» (197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619280" y="2060640"/>
            <a:ext cx="2590920" cy="209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918-3F3E-4631-8CB2-AAEEC04B0C7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48320" y="228600"/>
            <a:ext cx="1904760" cy="2590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48320" y="3581280"/>
            <a:ext cx="1904760" cy="25909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438280" y="228600"/>
            <a:ext cx="1905120" cy="25909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28600" y="228600"/>
            <a:ext cx="1905120" cy="25909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4920" y="3962520"/>
            <a:ext cx="1981080" cy="26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90920" y="3581280"/>
            <a:ext cx="1904760" cy="2590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828800" y="2209680"/>
            <a:ext cx="1905120" cy="25909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34320" y="228600"/>
            <a:ext cx="1904760" cy="259092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010280" y="3962520"/>
            <a:ext cx="1905120" cy="259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952880" y="2286000"/>
            <a:ext cx="1905120" cy="2590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BBFF-89EF-4F87-A294-E4912F1E8A5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ilm"/>
          <p:cNvSpPr/>
          <p:nvPr/>
        </p:nvSpPr>
        <p:spPr>
          <a:xfrm flipV="1" rot="5400000">
            <a:off x="3895560" y="-3591720"/>
            <a:ext cx="1352520" cy="914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57160" y="264312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6"/>
          <p:cNvSpPr txBox="1"/>
          <p:nvPr/>
        </p:nvSpPr>
        <p:spPr>
          <a:xfrm>
            <a:off x="1428840" y="380880"/>
            <a:ext cx="62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ки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343400" y="1801800"/>
            <a:ext cx="45720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ь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 книгам Носо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а друга. По повести «Витя Малеев в в школе и дома»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5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ок. По рассказам «Дружок» и «Мишкина каш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вая раду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8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найка с нашего двора,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лючения Толи Клюкви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пинамбур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нтазе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1AF2-BFFA-4876-BDF2-F33CB369737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ilm"/>
          <p:cNvSpPr/>
          <p:nvPr/>
        </p:nvSpPr>
        <p:spPr>
          <a:xfrm flipV="1" rot="5400000">
            <a:off x="3895560" y="-3591720"/>
            <a:ext cx="1352520" cy="914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27432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ки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343400" y="1801800"/>
            <a:ext cx="4800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филь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бик в гостях у Барбос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нтик и Шпунтик – веселые маст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в Солнечном городе. В 10 сериях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6-7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учи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тик и огурцы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найка на Луне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0880" y="2286000"/>
            <a:ext cx="3429000" cy="3429000"/>
          </a:xfrm>
          <a:prstGeom prst="rect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638-0E41-40BE-A449-85535BC9701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2214720"/>
          <a:ext cx="7405920" cy="3851280"/>
        </p:xfrm>
        <a:graphic>
          <a:graphicData uri="http://schemas.openxmlformats.org/drawingml/2006/table">
            <a:tbl>
              <a:tblPr/>
              <a:tblGrid>
                <a:gridCol w="3762360"/>
                <a:gridCol w="3643560"/>
              </a:tblGrid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Божья коров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 травке с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072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бака сердит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од забором  рыч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284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оросёнок несмышлё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корыте леж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0724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Цыплёнок малень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а курицей беж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етух очень гроз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за порядком сле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0796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А сам Ем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азету чита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84480"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3240" rIns="9324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240" marR="93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1"/>
          <p:cNvSpPr/>
          <p:nvPr/>
        </p:nvSpPr>
        <p:spPr>
          <a:xfrm>
            <a:off x="253440" y="5040"/>
            <a:ext cx="81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о дворе у Еме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зверь при своём дел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45939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Собрать пословиц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456680" cy="31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7a2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уязь позтсянаю в деб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рниепе и друт вёс репетру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ре дежитсяр кормяни, а векочел друмизь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12720" y="1484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Пара"/>
          <p:cNvPicPr/>
          <p:nvPr/>
        </p:nvPicPr>
        <p:blipFill>
          <a:blip r:embed="rId1"/>
          <a:stretch/>
        </p:blipFill>
        <p:spPr>
          <a:xfrm>
            <a:off x="5796000" y="115920"/>
            <a:ext cx="324180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950"/>
                            </p:stCondLst>
                            <p:childTnLst>
                              <p:par>
                                <p:cTn id="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650"/>
                            </p:stCondLst>
                            <p:childTnLst>
                              <p:par>
                                <p:cTn id="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459396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Собрать пословиц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7456680" cy="28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7a2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зья познаются в бе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пение и труд всё перетр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рево держится корнями, а человек друзь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12720" y="148428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Пара"/>
          <p:cNvPicPr/>
          <p:nvPr/>
        </p:nvPicPr>
        <p:blipFill>
          <a:blip r:embed="rId1"/>
          <a:stretch/>
        </p:blipFill>
        <p:spPr>
          <a:xfrm>
            <a:off x="5796000" y="115920"/>
            <a:ext cx="3241800" cy="29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"/>
                            </p:stCondLst>
                            <p:childTnLst>
                              <p:par>
                                <p:cTn id="3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50"/>
                            </p:stCondLst>
                            <p:childTnLst>
                              <p:par>
                                <p:cTn id="3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650"/>
                            </p:stCondLst>
                            <p:childTnLst>
                              <p:par>
                                <p:cTn id="3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Николай Носов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imes New Roman"/>
              </a:rPr>
              <a:t>«Фантазёры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фантазёры_отрывок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4328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Училка"/>
          <p:cNvPicPr/>
          <p:nvPr/>
        </p:nvPicPr>
        <p:blipFill>
          <a:blip r:embed="rId1"/>
          <a:stretch/>
        </p:blipFill>
        <p:spPr>
          <a:xfrm>
            <a:off x="3203640" y="1989000"/>
            <a:ext cx="3645000" cy="38894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3"/>
          <p:cNvSpPr txBox="1"/>
          <p:nvPr/>
        </p:nvSpPr>
        <p:spPr>
          <a:xfrm>
            <a:off x="1547640" y="54936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урок ! 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1403280" y="5877000"/>
            <a:ext cx="748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итайте книги!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8D8B-76FB-4556-8A1E-C023B804999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6633"/>
                </a:solidFill>
                <a:latin typeface="Times New Roman"/>
              </a:rPr>
              <a:t>Николай Носов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Сочинять для детей — наилучшая работа. Она требует очень много знаний (…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 – любви к ним. И уважения. Я понял, когда у меня рос сын, что к детям нужно относиться с самым большим и очень теплым уважением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676520" y="1981080"/>
            <a:ext cx="3733560" cy="382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154-E1DC-4846-B41A-BA7FBF82FEA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427640" y="836640"/>
            <a:ext cx="4267080" cy="29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306720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4"/>
          <p:cNvSpPr/>
          <p:nvPr/>
        </p:nvSpPr>
        <p:spPr>
          <a:xfrm>
            <a:off x="539640" y="2781360"/>
            <a:ext cx="2895840" cy="38098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427640" y="43657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Николай Носов      23 ноября 1908 года             на Украине в Кие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72388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0E0F-4AC9-4284-87F7-1A2F77DBB48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PE03254_"/>
          <p:cNvPicPr/>
          <p:nvPr/>
        </p:nvPicPr>
        <p:blipFill>
          <a:blip r:embed="rId1"/>
          <a:stretch/>
        </p:blipFill>
        <p:spPr>
          <a:xfrm>
            <a:off x="1258920" y="270828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Школьные годы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11280" y="1628640"/>
            <a:ext cx="4032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лечения школьных лет были многообразны: музыка, пение, любительский театр, сочинительство для рукописного журнала «Икс», а также химия, шахматы, радио, электроника, фотограф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же Носов продавал газеты, был чернорабочим, землекопом, косарем, возчиком брев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07CC-406F-4BF5-A2A5-976D2F21592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3848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Москв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380880"/>
            <a:ext cx="266688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00200" y="2819520"/>
            <a:ext cx="23623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11640" y="177336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окончания школы Николай поступил в Киевский художественный институт, а в 1929 году перевелся в Институт кинематографии в Моск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ем стал работать в кино, снимать разные учебные, научные и мультипликационные филь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1DF-D9B6-495B-99C9-12199DFC26B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533520" y="2590920"/>
            <a:ext cx="2819160" cy="3047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5334120"/>
            <a:ext cx="5029200" cy="838080"/>
          </a:xfrm>
          <a:custGeom>
            <a:avLst/>
            <a:gdLst>
              <a:gd name="textAreaLeft" fmla="*/ 747360 w 5029200"/>
              <a:gd name="textAreaRight" fmla="*/ 4281840 w 502920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36" y="0"/>
                </a:lnTo>
                <a:arcTo wR="675" hR="675" stAng="16200000" swAng="5400000"/>
                <a:lnTo>
                  <a:pt x="5911" y="2700"/>
                </a:lnTo>
                <a:lnTo>
                  <a:pt x="15689" y="2700"/>
                </a:lnTo>
                <a:lnTo>
                  <a:pt x="15689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89" y="18900"/>
                </a:lnTo>
                <a:lnTo>
                  <a:pt x="18389" y="20925"/>
                </a:lnTo>
                <a:arcTo wR="675" hR="675" stAng="0" swAng="5400000"/>
                <a:lnTo>
                  <a:pt x="3886" y="21600"/>
                </a:lnTo>
                <a:arcTo wR="675" hR="675" stAng="5400000" swAng="5400000"/>
                <a:lnTo>
                  <a:pt x="3211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11" y="675"/>
                </a:moveTo>
                <a:arcTo wR="675" hR="675" stAng="0" swAng="5400000"/>
                <a:lnTo>
                  <a:pt x="3886" y="1350"/>
                </a:lnTo>
                <a:arcTo wR="675" hR="675" stAng="16200000" swAng="-5400000"/>
                <a:arcTo wR="675" hR="675" stAng="10800000" swAng="-5400000"/>
                <a:lnTo>
                  <a:pt x="5911" y="2700"/>
                </a:lnTo>
              </a:path>
              <a:path fill="none" w="21600" h="21600">
                <a:moveTo>
                  <a:pt x="15689" y="675"/>
                </a:moveTo>
                <a:arcTo wR="675" hR="675" stAng="10800000" swAng="-5400000"/>
                <a:lnTo>
                  <a:pt x="17714" y="1350"/>
                </a:lnTo>
                <a:arcTo wR="675" hR="675" stAng="16200000" swAng="5400000"/>
                <a:arcTo wR="675" hR="675" stAng="0" swAng="5400000"/>
                <a:lnTo>
                  <a:pt x="15689" y="2700"/>
                </a:lnTo>
              </a:path>
              <a:path fill="none" w="21600" h="21600">
                <a:moveTo>
                  <a:pt x="3211" y="2025"/>
                </a:moveTo>
                <a:lnTo>
                  <a:pt x="3211" y="18900"/>
                </a:lnTo>
              </a:path>
              <a:path fill="none" w="21600" h="21600">
                <a:moveTo>
                  <a:pt x="18389" y="2025"/>
                </a:moveTo>
                <a:lnTo>
                  <a:pt x="18389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72000" y="304920"/>
            <a:ext cx="4038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ды Великой отечественной войны Николай Носов поставил несколько учебных фильмов для Советской Армии. Был награжден орденом Красной звезды (1943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905120" y="5562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Орден Красной Звез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F70C-1D13-4E59-8CEB-23208CD39A1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0" y="19810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атель соответствовал своей фамилии. У Носова действительно был нос и совсем не маленький, а крупный такой, заметный, и большая голова, и широкие плечи… И все это совершенно не вязалось с невысоким ростом и тихим глуховатым голосом. На первый взгляд – неказистый такой человек. Очень молчаливый, очень замкнут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ые называли его «хмурым ворчуном». Но что они знали, эти иные? Они, наверное, и книг-то его никогда не читал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692360" y="2133720"/>
            <a:ext cx="2895480" cy="419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еселая фамил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2C7-1324-4796-910C-D68C0B7989D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ервый расска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76560" y="1980720"/>
            <a:ext cx="4228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и многие знаменитые писатели, Николай Носов сначала сочинял сказки и рассказы просто так – для своего маленького сынишки. А потом один свой рассказ, он назывался «Затейники», он отнес в журнал «Мурзилка». Рассказ напечатали. Это было в 1938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0200" y="1981080"/>
            <a:ext cx="3276720" cy="441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828800" y="26668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6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95E5-F927-4453-8FD1-ABDFDB9DA8D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Эти книги написал Николай Носов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Тук-тук-тук» (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тупеньки», «Веселые рассказы» (19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еселая семейка» (19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невник Коли Синицына»(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итя Малеев в школе и дома» (1950) Книга получила Государственную премию СС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2060640"/>
            <a:ext cx="2590920" cy="209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8:26:34Z</dcterms:created>
  <dc:creator>Пользователь</dc:creator>
  <dc:description/>
  <dc:language>en-US</dc:language>
  <cp:lastModifiedBy>Ушакова ГИ</cp:lastModifiedBy>
  <dcterms:modified xsi:type="dcterms:W3CDTF">2020-04-03T10:15:43Z</dcterms:modified>
  <cp:revision>132</cp:revision>
  <dc:subject/>
  <dc:title>Презентация PowerPoint</dc:title>
</cp:coreProperties>
</file>