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E0CA-BBFB-4F71-8C26-BF07E5E8A3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миллионов деревьев, произрастающих на Земле, встречаются странные создания с  необычными формами и удивительными приспособлениями к среде обитания. Есть деревья с необычными стволами, которые растут как будто "вверх ногами". Деревья с плодами на листьях, стволах или корнях. . Ради чего все это? Конечно, ради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BABB-BB7F-492F-8911-B2F421D5BD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554-6158-4F8D-8F74-4B630559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FA4-0DD1-44B9-8D13-45888A8A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E61-8ECD-46FE-827F-9FADC794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0067-5720-43E0-81D4-3AE082AE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71B-5261-41D3-A53D-744D223D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0F5-02A7-42E1-A6C1-329EF4B0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EE4-6531-4AFF-9674-7C5215C3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911-3894-4437-B449-69C62011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89C-CCD0-47C9-87C7-1BA68BEB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226-B2FE-4C98-89E1-F85E964E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183-D544-4D82-92FA-21F6729D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259-DBA8-4AD2-9D16-12DBFADC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ccff99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D0F9-B7B6-42C0-B994-F7A205EC85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" Target="slide10.xml"/><Relationship Id="rId8" Type="http://schemas.openxmlformats.org/officeDocument/2006/relationships/slide" Target="slide6.xml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" Target="slide8.xml"/><Relationship Id="rId12" Type="http://schemas.openxmlformats.org/officeDocument/2006/relationships/slide" Target="slide12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42920" y="6021360"/>
            <a:ext cx="6049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ЮНЫЙ ЦВЕТОВОД», 2 Г.О., 1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2160" y="3499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Удивительные деревья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56437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mbria"/>
              </a:rPr>
              <a:t>Молочное  дере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Common\Мои документы\Мама\мол дер.jpg"/>
          <p:cNvPicPr/>
          <p:nvPr/>
        </p:nvPicPr>
        <p:blipFill>
          <a:blip r:embed="rId1"/>
          <a:stretch/>
        </p:blipFill>
        <p:spPr>
          <a:xfrm>
            <a:off x="5214960" y="1143000"/>
            <a:ext cx="3481200" cy="53071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7"/>
          <p:cNvSpPr/>
          <p:nvPr/>
        </p:nvSpPr>
        <p:spPr>
          <a:xfrm>
            <a:off x="571680" y="1143000"/>
            <a:ext cx="3643200" cy="155700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Молочные дере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растут в странах Центральной и Южной Аме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285840" y="3000240"/>
            <a:ext cx="4286160" cy="155700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Это невысокие деревья с блестящими и толстыми листьями с несъедобными плод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9"/>
          <p:cNvSpPr/>
          <p:nvPr/>
        </p:nvSpPr>
        <p:spPr>
          <a:xfrm>
            <a:off x="571680" y="4857840"/>
            <a:ext cx="3714480" cy="155700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Местные жители употребляют сок этого растения как моло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Common\Мои документы\Мама\post-1191-1197814039.jpg"/>
          <p:cNvPicPr/>
          <p:nvPr/>
        </p:nvPicPr>
        <p:blipFill>
          <a:blip r:embed="rId1"/>
          <a:stretch/>
        </p:blipFill>
        <p:spPr>
          <a:xfrm>
            <a:off x="285840" y="285840"/>
            <a:ext cx="4500360" cy="60008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5072040" y="928800"/>
            <a:ext cx="3857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При испарении из сока выделяется воск, из которого местные жители делают свечи. Кроме всего, древесина из этих деревьев прекрасно подходит в качестве строительн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ятиугольник 3"/>
          <p:cNvSpPr/>
          <p:nvPr/>
        </p:nvSpPr>
        <p:spPr>
          <a:xfrm rot="10800000">
            <a:off x="8071920" y="6143400"/>
            <a:ext cx="785880" cy="484200"/>
          </a:xfrm>
          <a:custGeom>
            <a:avLst/>
            <a:gdLst>
              <a:gd name="textAreaLeft" fmla="*/ 0 w 785880"/>
              <a:gd name="textAreaRight" fmla="*/ 786240 w 7858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45" y="0"/>
                </a:lnTo>
                <a:lnTo>
                  <a:pt x="21600" y="10800"/>
                </a:lnTo>
                <a:lnTo>
                  <a:pt x="14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86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mbria"/>
              </a:rPr>
              <a:t>Шоколадное  дерево или кака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11" t="1361" r="0" b="0"/>
          <a:stretch/>
        </p:blipFill>
        <p:spPr>
          <a:xfrm>
            <a:off x="500040" y="1071720"/>
            <a:ext cx="3857760" cy="5157720"/>
          </a:xfrm>
          <a:prstGeom prst="rect">
            <a:avLst/>
          </a:prstGeom>
          <a:ln w="12600">
            <a:solidFill>
              <a:srgbClr val="77933c"/>
            </a:solidFill>
            <a:miter/>
          </a:ln>
        </p:spPr>
      </p:pic>
      <p:sp>
        <p:nvSpPr>
          <p:cNvPr id="104" name="Прямоугольник 4"/>
          <p:cNvSpPr/>
          <p:nvPr/>
        </p:nvSpPr>
        <p:spPr>
          <a:xfrm>
            <a:off x="4857840" y="1500120"/>
            <a:ext cx="3714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В Европу зёрна какао привёз Кортес, завоеватель Мексики. Родина какао или шоколадного дерева -  тропические районы Южной Америки.  Теперь какао выращивают во многих странах с тропическим клима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4357800" y="285840"/>
            <a:ext cx="4370400" cy="3405240"/>
          </a:xfrm>
          <a:prstGeom prst="rect">
            <a:avLst/>
          </a:prstGeom>
          <a:ln w="12600">
            <a:solidFill>
              <a:srgbClr val="77933c"/>
            </a:solidFill>
            <a:miter/>
          </a:ln>
        </p:spPr>
      </p:pic>
      <p:sp>
        <p:nvSpPr>
          <p:cNvPr id="106" name="Прямоугольник 4"/>
          <p:cNvSpPr/>
          <p:nvPr/>
        </p:nvSpPr>
        <p:spPr>
          <a:xfrm>
            <a:off x="4357800" y="4071960"/>
            <a:ext cx="3714480" cy="2654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Плоды шоколадного дерева внутри окружены мякотью, в которой спрятаны пять гнёзд, наполненных множеством сем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428760" y="4429080"/>
            <a:ext cx="3357360" cy="2288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Очень крупный яйцевидный плод на очень коротком черешке прикреплён прямо к ств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3286080" cy="3840120"/>
          </a:xfrm>
          <a:prstGeom prst="rect">
            <a:avLst/>
          </a:prstGeom>
          <a:ln w="9360">
            <a:solidFill>
              <a:srgbClr val="ccff99"/>
            </a:solidFill>
            <a:miter/>
          </a:ln>
        </p:spPr>
      </p:pic>
      <p:sp>
        <p:nvSpPr>
          <p:cNvPr id="109" name="Пятиугольник 5"/>
          <p:cNvSpPr/>
          <p:nvPr/>
        </p:nvSpPr>
        <p:spPr>
          <a:xfrm rot="10800000">
            <a:off x="8214840" y="6143400"/>
            <a:ext cx="785880" cy="484200"/>
          </a:xfrm>
          <a:custGeom>
            <a:avLst/>
            <a:gdLst>
              <a:gd name="textAreaLeft" fmla="*/ 0 w 785880"/>
              <a:gd name="textAreaRight" fmla="*/ 786240 w 7858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45" y="0"/>
                </a:lnTo>
                <a:lnTo>
                  <a:pt x="21600" y="10800"/>
                </a:lnTo>
                <a:lnTo>
                  <a:pt x="14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56437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mbria"/>
              </a:rPr>
              <a:t>Мыльное  дере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C:\Documents and Settings\Common\Мои документы\Мама\мыльное дер.jpg"/>
          <p:cNvPicPr/>
          <p:nvPr/>
        </p:nvPicPr>
        <p:blipFill>
          <a:blip r:embed="rId1"/>
          <a:stretch/>
        </p:blipFill>
        <p:spPr>
          <a:xfrm>
            <a:off x="357120" y="1071720"/>
            <a:ext cx="4429080" cy="53593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5072040" y="1643040"/>
            <a:ext cx="3571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 течение многих столетий в Америке и Азии плоды растения применялись как естественное моющее средство при стирки тканей и одеж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Common\Мои документы\Мама\плоды мыл дер.jpg"/>
          <p:cNvPicPr/>
          <p:nvPr/>
        </p:nvPicPr>
        <p:blipFill>
          <a:blip r:embed="rId1"/>
          <a:stretch/>
        </p:blipFill>
        <p:spPr>
          <a:xfrm>
            <a:off x="3762360" y="214200"/>
            <a:ext cx="5143680" cy="38577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3786120" y="4429080"/>
            <a:ext cx="4071960" cy="222696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Плоды мыльного дерева также широко применяются в медицине</a:t>
            </a: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214200" y="857160"/>
            <a:ext cx="3357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Если растереть его плоды, образуется обильная мыльная пена. Ткани, выстиранные таким мылом, никогда не линяют и не блекнут, и другим мылом местные жители Флориды и островов Вест-Индии не пользу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ятиугольник 4"/>
          <p:cNvSpPr/>
          <p:nvPr/>
        </p:nvSpPr>
        <p:spPr>
          <a:xfrm rot="10800000">
            <a:off x="8071920" y="6143400"/>
            <a:ext cx="785880" cy="484200"/>
          </a:xfrm>
          <a:custGeom>
            <a:avLst/>
            <a:gdLst>
              <a:gd name="textAreaLeft" fmla="*/ 0 w 785880"/>
              <a:gd name="textAreaRight" fmla="*/ 786240 w 7858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45" y="0"/>
                </a:lnTo>
                <a:lnTo>
                  <a:pt x="21600" y="10800"/>
                </a:lnTo>
                <a:lnTo>
                  <a:pt x="14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72000" y="4436640"/>
            <a:ext cx="2646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льные орешки продаются и в России 340 рублей –»Экологически чистое средство для стирки белья»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125280" y="189000"/>
            <a:ext cx="8893440" cy="1008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"/>
          <p:cNvPicPr/>
          <p:nvPr/>
        </p:nvPicPr>
        <p:blipFill>
          <a:blip r:embed="rId2"/>
          <a:stretch/>
        </p:blipFill>
        <p:spPr>
          <a:xfrm>
            <a:off x="4835520" y="4451400"/>
            <a:ext cx="1536840" cy="22748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5" descr=""/>
          <p:cNvPicPr/>
          <p:nvPr/>
        </p:nvPicPr>
        <p:blipFill>
          <a:blip r:embed="rId3"/>
          <a:stretch/>
        </p:blipFill>
        <p:spPr>
          <a:xfrm>
            <a:off x="4427640" y="1028880"/>
            <a:ext cx="4316400" cy="32367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"/>
          <p:cNvPicPr/>
          <p:nvPr/>
        </p:nvPicPr>
        <p:blipFill>
          <a:blip r:embed="rId4"/>
          <a:stretch/>
        </p:blipFill>
        <p:spPr>
          <a:xfrm>
            <a:off x="-23760" y="2131920"/>
            <a:ext cx="4427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590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mbri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одзаголовок 2"/>
          <p:cNvSpPr/>
          <p:nvPr/>
        </p:nvSpPr>
        <p:spPr>
          <a:xfrm>
            <a:off x="3276720" y="6519960"/>
            <a:ext cx="25905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2771640" y="2990880"/>
            <a:ext cx="382284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Common\Мои документы\Мама\Удивительные деревья\хл дер.jpeg"/>
          <p:cNvPicPr/>
          <p:nvPr/>
        </p:nvPicPr>
        <p:blipFill>
          <a:blip r:embed="rId1"/>
          <a:srcRect l="0" t="0" r="-75" b="33"/>
          <a:stretch/>
        </p:blipFill>
        <p:spPr>
          <a:xfrm>
            <a:off x="500040" y="785880"/>
            <a:ext cx="1357200" cy="2073240"/>
          </a:xfrm>
          <a:prstGeom prst="rect">
            <a:avLst/>
          </a:prstGeom>
          <a:ln w="9360">
            <a:solidFill>
              <a:srgbClr val="ccff99"/>
            </a:solidFill>
            <a:miter/>
          </a:ln>
        </p:spPr>
      </p:pic>
      <p:pic>
        <p:nvPicPr>
          <p:cNvPr id="52" name="Picture 2" descr="C:\Documents and Settings\Common\Мои документы\Мама\Удивительные деревья\колбаса.jpg"/>
          <p:cNvPicPr/>
          <p:nvPr/>
        </p:nvPicPr>
        <p:blipFill>
          <a:blip r:embed="rId2"/>
          <a:stretch/>
        </p:blipFill>
        <p:spPr>
          <a:xfrm>
            <a:off x="2643120" y="3500280"/>
            <a:ext cx="169704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Common\Мои документы\Мама\Удивительные деревья\бутылочное дер.jpg"/>
          <p:cNvPicPr/>
          <p:nvPr/>
        </p:nvPicPr>
        <p:blipFill>
          <a:blip r:embed="rId3"/>
          <a:stretch/>
        </p:blipFill>
        <p:spPr>
          <a:xfrm>
            <a:off x="428760" y="4214880"/>
            <a:ext cx="1998360" cy="150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Documents and Settings\Common\Мои документы\Мама\RxhAdL.JPG"/>
          <p:cNvPicPr/>
          <p:nvPr/>
        </p:nvPicPr>
        <p:blipFill>
          <a:blip r:embed="rId4"/>
          <a:stretch/>
        </p:blipFill>
        <p:spPr>
          <a:xfrm>
            <a:off x="4786200" y="4214880"/>
            <a:ext cx="1785960" cy="1454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642960" y="2142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Какие из этих деревьев существу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>
            <a:hlinkClick r:id="rId5" action="ppaction://hlinksldjump"/>
          </p:cNvPr>
          <p:cNvSpPr/>
          <p:nvPr/>
        </p:nvSpPr>
        <p:spPr>
          <a:xfrm>
            <a:off x="222120" y="314316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хлеб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>
            <a:hlinkClick r:id="rId6" action="ppaction://hlinksldjump"/>
          </p:cNvPr>
          <p:cNvSpPr/>
          <p:nvPr/>
        </p:nvSpPr>
        <p:spPr>
          <a:xfrm>
            <a:off x="2495520" y="507204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колбас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>
            <a:hlinkClick r:id="rId7" action="ppaction://hlinksldjump"/>
          </p:cNvPr>
          <p:cNvSpPr/>
          <p:nvPr/>
        </p:nvSpPr>
        <p:spPr>
          <a:xfrm>
            <a:off x="4632120" y="578628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молоч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>
            <a:hlinkClick r:id="rId8" action="ppaction://hlinksldjump"/>
          </p:cNvPr>
          <p:cNvSpPr/>
          <p:nvPr/>
        </p:nvSpPr>
        <p:spPr>
          <a:xfrm>
            <a:off x="268920" y="5857920"/>
            <a:ext cx="24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бутылоч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C:\Documents and Settings\Common\Мои документы\Мама\2c354de3c534.jpg"/>
          <p:cNvPicPr/>
          <p:nvPr/>
        </p:nvPicPr>
        <p:blipFill>
          <a:blip r:embed="rId9"/>
          <a:stretch/>
        </p:blipFill>
        <p:spPr>
          <a:xfrm>
            <a:off x="2357280" y="857160"/>
            <a:ext cx="1905120" cy="1524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Documents and Settings\Common\Мои документы\Мама\shokolad11.jpg"/>
          <p:cNvPicPr/>
          <p:nvPr/>
        </p:nvPicPr>
        <p:blipFill>
          <a:blip r:embed="rId10"/>
          <a:stretch/>
        </p:blipFill>
        <p:spPr>
          <a:xfrm>
            <a:off x="4929120" y="857160"/>
            <a:ext cx="1414440" cy="19224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2">
            <a:hlinkClick r:id="rId11" action="ppaction://hlinksldjump"/>
          </p:cNvPr>
          <p:cNvSpPr/>
          <p:nvPr/>
        </p:nvSpPr>
        <p:spPr>
          <a:xfrm>
            <a:off x="2139480" y="25002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конфе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3">
            <a:hlinkClick r:id="rId12" action="ppaction://hlinksldjump"/>
          </p:cNvPr>
          <p:cNvSpPr/>
          <p:nvPr/>
        </p:nvSpPr>
        <p:spPr>
          <a:xfrm>
            <a:off x="4339440" y="300024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шоколад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C:\Documents and Settings\Common\Мои документы\1073739b.jpg"/>
          <p:cNvPicPr/>
          <p:nvPr/>
        </p:nvPicPr>
        <p:blipFill>
          <a:blip r:embed="rId13"/>
          <a:stretch/>
        </p:blipFill>
        <p:spPr>
          <a:xfrm>
            <a:off x="6929280" y="928800"/>
            <a:ext cx="1595520" cy="13017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6"/>
          <p:cNvSpPr/>
          <p:nvPr/>
        </p:nvSpPr>
        <p:spPr>
          <a:xfrm>
            <a:off x="6846840" y="250020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мы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6"/>
          <p:cNvSpPr/>
          <p:nvPr/>
        </p:nvSpPr>
        <p:spPr>
          <a:xfrm>
            <a:off x="6929280" y="4714920"/>
            <a:ext cx="1928880" cy="1214280"/>
          </a:xfrm>
          <a:prstGeom prst="rect">
            <a:avLst/>
          </a:prstGeom>
          <a:solidFill>
            <a:srgbClr val="e9f5db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деревья-чемпи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Documents and Settings\Common\Мои документы\Мама\Удивительные деревья\хлебное дерево.jpg"/>
          <p:cNvPicPr/>
          <p:nvPr/>
        </p:nvPicPr>
        <p:blipFill>
          <a:blip r:embed="rId1"/>
          <a:stretch/>
        </p:blipFill>
        <p:spPr>
          <a:xfrm>
            <a:off x="4562640" y="214200"/>
            <a:ext cx="4243320" cy="6357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41148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Хлебное дере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400" y="1285920"/>
            <a:ext cx="375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mbria"/>
              </a:rPr>
              <a:t>Хлебное дерево приносит до 200 плодов за сезон. И является одним из самых урожайных деревьев, тем более что каждая булка хлеба весит 3-4 килограм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4643280" y="1428840"/>
            <a:ext cx="450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mbria"/>
              </a:rPr>
              <a:t>Эти плоды являются основным продуктом питания для жителей тропических островов, где растут хлебные деревья. Плоды едят и жареными, и печёными, и варё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Documents and Settings\Common\Мои документы\Мама\artocarpus_altilis_2.jpg"/>
          <p:cNvPicPr/>
          <p:nvPr/>
        </p:nvPicPr>
        <p:blipFill>
          <a:blip r:embed="rId1"/>
          <a:stretch/>
        </p:blipFill>
        <p:spPr>
          <a:xfrm>
            <a:off x="285840" y="4071960"/>
            <a:ext cx="4160880" cy="237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Common\Мои документы\Мама\222.jpg"/>
          <p:cNvPicPr/>
          <p:nvPr/>
        </p:nvPicPr>
        <p:blipFill>
          <a:blip r:embed="rId2"/>
          <a:stretch/>
        </p:blipFill>
        <p:spPr>
          <a:xfrm>
            <a:off x="285840" y="285840"/>
            <a:ext cx="4194000" cy="2786040"/>
          </a:xfrm>
          <a:prstGeom prst="rect">
            <a:avLst/>
          </a:prstGeom>
          <a:ln w="0">
            <a:noFill/>
          </a:ln>
        </p:spPr>
      </p:pic>
      <p:sp>
        <p:nvSpPr>
          <p:cNvPr id="73" name="Пятиугольник 4"/>
          <p:cNvSpPr/>
          <p:nvPr/>
        </p:nvSpPr>
        <p:spPr>
          <a:xfrm rot="10800000">
            <a:off x="8071920" y="6143400"/>
            <a:ext cx="785880" cy="484200"/>
          </a:xfrm>
          <a:custGeom>
            <a:avLst/>
            <a:gdLst>
              <a:gd name="textAreaLeft" fmla="*/ 0 w 785880"/>
              <a:gd name="textAreaRight" fmla="*/ 786240 w 7858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45" y="0"/>
                </a:lnTo>
                <a:lnTo>
                  <a:pt x="21600" y="10800"/>
                </a:lnTo>
                <a:lnTo>
                  <a:pt x="14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5800" y="214200"/>
            <a:ext cx="4643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mbria"/>
              </a:rPr>
              <a:t>Колбасное дере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C:\Documents and Settings\Common\Мои документы\Мама\Удивительные деревья\колбас дер.jpg"/>
          <p:cNvPicPr/>
          <p:nvPr/>
        </p:nvPicPr>
        <p:blipFill>
          <a:blip r:embed="rId1"/>
          <a:stretch/>
        </p:blipFill>
        <p:spPr>
          <a:xfrm>
            <a:off x="4286160" y="1214280"/>
            <a:ext cx="4641840" cy="3786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14200" y="1214280"/>
            <a:ext cx="39290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На территории экваториальной Африки на высоких деревьях растут несъедобные плоды, которые очень напоминают ливерную колбасу.  Эти деревья называются кигелиями, или «колбасными» деревь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3929040" y="535788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mbria"/>
              </a:rPr>
              <a:t>Плоды кигелии совершенно несъедоб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ятиугольник 5"/>
          <p:cNvSpPr/>
          <p:nvPr/>
        </p:nvSpPr>
        <p:spPr>
          <a:xfrm rot="10800000">
            <a:off x="8071920" y="6143400"/>
            <a:ext cx="785880" cy="484200"/>
          </a:xfrm>
          <a:custGeom>
            <a:avLst/>
            <a:gdLst>
              <a:gd name="textAreaLeft" fmla="*/ 0 w 785880"/>
              <a:gd name="textAreaRight" fmla="*/ 786240 w 7858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45" y="0"/>
                </a:lnTo>
                <a:lnTo>
                  <a:pt x="21600" y="10800"/>
                </a:lnTo>
                <a:lnTo>
                  <a:pt x="14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572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mbria"/>
              </a:rPr>
              <a:t>Баобаб или бутылочное дере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285840" y="178596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mbria"/>
              </a:rPr>
              <a:t>Это удивительное дерево достигает 30 метров в высоту и 11 метров в ширину. Раздутый ствол – вместилище для воды. Баобаб может хранить целых 120 000 литров воды, чтобы вынести резкие условия засу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:\Documents and Settings\Common\Мои документы\Мама\92d879a23e264cfc23d07549fc696a4f_full.jpg"/>
          <p:cNvPicPr/>
          <p:nvPr/>
        </p:nvPicPr>
        <p:blipFill>
          <a:blip r:embed="rId1"/>
          <a:stretch/>
        </p:blipFill>
        <p:spPr>
          <a:xfrm>
            <a:off x="5072040" y="1500120"/>
            <a:ext cx="38098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214200" y="3143160"/>
            <a:ext cx="43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Когда листья баобаба опадают, ветви оголяются и дерево принимает совершенно фантастический вид: толстый ствол, а вверху длинные, корявые и изогнутые ветки, похожие на кор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:\Documents and Settings\Common\Мои документы\Мама\0624392a9ee4.jpg"/>
          <p:cNvPicPr/>
          <p:nvPr/>
        </p:nvPicPr>
        <p:blipFill>
          <a:blip r:embed="rId1"/>
          <a:stretch/>
        </p:blipFill>
        <p:spPr>
          <a:xfrm>
            <a:off x="0" y="0"/>
            <a:ext cx="4714920" cy="2971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Documents and Settings\Common\Мои документы\Мама\baobabstone.jpg"/>
          <p:cNvPicPr/>
          <p:nvPr/>
        </p:nvPicPr>
        <p:blipFill>
          <a:blip r:embed="rId2"/>
          <a:stretch/>
        </p:blipFill>
        <p:spPr>
          <a:xfrm>
            <a:off x="4714920" y="2147760"/>
            <a:ext cx="4429080" cy="4710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4846680" y="64296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Во время засухи баоба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сбрасывает ли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ятиугольник 5"/>
          <p:cNvSpPr/>
          <p:nvPr/>
        </p:nvSpPr>
        <p:spPr>
          <a:xfrm rot="10800000">
            <a:off x="8071920" y="6143400"/>
            <a:ext cx="785880" cy="484200"/>
          </a:xfrm>
          <a:custGeom>
            <a:avLst/>
            <a:gdLst>
              <a:gd name="textAreaLeft" fmla="*/ 0 w 785880"/>
              <a:gd name="textAreaRight" fmla="*/ 786240 w 7858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45" y="0"/>
                </a:lnTo>
                <a:lnTo>
                  <a:pt x="21600" y="10800"/>
                </a:lnTo>
                <a:lnTo>
                  <a:pt x="14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56437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mbria"/>
              </a:rPr>
              <a:t>Конфетное  дере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Common\Мои документы\Мама\gov_4.jpg"/>
          <p:cNvPicPr/>
          <p:nvPr/>
        </p:nvPicPr>
        <p:blipFill>
          <a:blip r:embed="rId1"/>
          <a:stretch/>
        </p:blipFill>
        <p:spPr>
          <a:xfrm>
            <a:off x="214200" y="1143000"/>
            <a:ext cx="5524560" cy="41432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6"/>
          <p:cNvSpPr/>
          <p:nvPr/>
        </p:nvSpPr>
        <p:spPr>
          <a:xfrm>
            <a:off x="6000840" y="2214720"/>
            <a:ext cx="2786040" cy="192276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Конфетное дерево растёт в лесах тропической Аме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428760" y="55008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Внешне оно очень похоже на липу, с большим количеством цветов, богатых некта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Common\Мои документы\Мама\ca1c41d9f517b849ae.jpg"/>
          <p:cNvPicPr/>
          <p:nvPr/>
        </p:nvPicPr>
        <p:blipFill>
          <a:blip r:embed="rId1"/>
          <a:stretch/>
        </p:blipFill>
        <p:spPr>
          <a:xfrm>
            <a:off x="4071960" y="642960"/>
            <a:ext cx="4861080" cy="54291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214200" y="214200"/>
            <a:ext cx="37148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В конце осени на дереве созревают «конфеты» – высохшие серые стручки, которые содержат много сахара и по вкусу очень похожи на изюм. Не только плоды, но и крепкая и лёгкая древесина этого дерева используется местными жителями: они изготавливают из нее музыкальные инструменты и некоторые виды меб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ятиугольник 3"/>
          <p:cNvSpPr/>
          <p:nvPr/>
        </p:nvSpPr>
        <p:spPr>
          <a:xfrm rot="10800000">
            <a:off x="8071920" y="6143400"/>
            <a:ext cx="785880" cy="484200"/>
          </a:xfrm>
          <a:custGeom>
            <a:avLst/>
            <a:gdLst>
              <a:gd name="textAreaLeft" fmla="*/ 0 w 785880"/>
              <a:gd name="textAreaRight" fmla="*/ 786240 w 7858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45" y="0"/>
                </a:lnTo>
                <a:lnTo>
                  <a:pt x="21600" y="10800"/>
                </a:lnTo>
                <a:lnTo>
                  <a:pt x="14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2:52:12Z</dcterms:created>
  <dc:creator>AdmiN</dc:creator>
  <dc:description/>
  <dc:language>en-US</dc:language>
  <cp:lastModifiedBy>натальяfyyf новокрещенова</cp:lastModifiedBy>
  <dcterms:modified xsi:type="dcterms:W3CDTF">2020-04-01T11:10:35Z</dcterms:modified>
  <cp:revision>47</cp:revision>
  <dc:subject/>
  <dc:title>Удивительные дере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110000000000010290110207f7000400038000</vt:lpwstr>
  </property>
</Properties>
</file>