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ED4-0885-49C0-ACDB-1F4545A3B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миллионов деревьев, произрастающих на Земле, встречаются странные создания с  необычными формами и удивительными приспособлениями к среде обитания. Есть деревья с необычными стволами, которые растут как будто "вверх ногами". Деревья с плодами на листьях, стволах или корнях. . Ради чего все это? Конечно, рад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A4C-9D6B-49F0-AE90-667672B4C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F85-1778-4548-BB1B-7D0C68C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19B-E767-4995-A704-184BD41E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2A8-F381-4DFB-8ECE-D224C7F8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1DC-D084-4505-839D-75E61E2F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3DD-F73C-497D-AFFE-B2FB620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5EE-3AFC-4E88-BBC7-A7E69B7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316-84E5-4DB0-BC9A-4C15DAF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C9C-9254-4F00-9801-D3F9142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F14-C61F-48B2-AD57-DA64600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04A-A0A3-485A-942F-A2A6C41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069-7B47-4D4A-BB49-6EBC2C3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0BE-4B8E-4836-AF16-37DC1A6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cc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8A0A-C3ED-4850-A531-7391C7C3E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10.xml"/><Relationship Id="rId8" Type="http://schemas.openxmlformats.org/officeDocument/2006/relationships/slide" Target="slide6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" Target="slide8.xml"/><Relationship Id="rId12" Type="http://schemas.openxmlformats.org/officeDocument/2006/relationships/slide" Target="slide12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6021360"/>
            <a:ext cx="6049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ЮНЫЙ ЦВЕТОВОД», 2 Г.О.,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349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Удивительные деревья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Молоч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Common\Мои документы\Мама\мол дер.jpg"/>
          <p:cNvPicPr/>
          <p:nvPr/>
        </p:nvPicPr>
        <p:blipFill>
          <a:blip r:embed="rId1"/>
          <a:stretch/>
        </p:blipFill>
        <p:spPr>
          <a:xfrm>
            <a:off x="5214960" y="1143000"/>
            <a:ext cx="3481200" cy="5307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571680" y="1143000"/>
            <a:ext cx="364320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олочные дере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растут в странах Центральной и Южн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285840" y="3000240"/>
            <a:ext cx="428616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Это невысокие деревья с блестящими и толстыми листьями с несъедобными пл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571680" y="4857840"/>
            <a:ext cx="3714480" cy="155700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естные жители употребляют сок этого растения как моло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Common\Мои документы\Мама\post-1191-1197814039.jpg"/>
          <p:cNvPicPr/>
          <p:nvPr/>
        </p:nvPicPr>
        <p:blipFill>
          <a:blip r:embed="rId1"/>
          <a:stretch/>
        </p:blipFill>
        <p:spPr>
          <a:xfrm>
            <a:off x="285840" y="285840"/>
            <a:ext cx="45003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5072040" y="92880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и испарении из сока выделяется воск, из которого местные жители делают свечи. Кроме всего, древесина из этих деревьев прекрасно подходит в качестве строитель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ятиугольник 3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8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Шоколадное  дерево или кака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11" t="1361" r="0" b="0"/>
          <a:stretch/>
        </p:blipFill>
        <p:spPr>
          <a:xfrm>
            <a:off x="500040" y="1071720"/>
            <a:ext cx="3857760" cy="5157720"/>
          </a:xfrm>
          <a:prstGeom prst="rect">
            <a:avLst/>
          </a:prstGeom>
          <a:ln w="12600">
            <a:solidFill>
              <a:srgbClr val="77933c"/>
            </a:solidFill>
            <a:miter/>
          </a:ln>
        </p:spPr>
      </p:pic>
      <p:sp>
        <p:nvSpPr>
          <p:cNvPr id="104" name="Прямоугольник 4"/>
          <p:cNvSpPr/>
          <p:nvPr/>
        </p:nvSpPr>
        <p:spPr>
          <a:xfrm>
            <a:off x="4857840" y="1500120"/>
            <a:ext cx="371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 Европу зёрна какао привёз Кортес, завоеватель Мексики. Родина какао или шоколадного дерева -  тропические районы Южной Америки.  Теперь какао выращивают во многих странах с тропическим клим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357800" y="285840"/>
            <a:ext cx="4370400" cy="3405240"/>
          </a:xfrm>
          <a:prstGeom prst="rect">
            <a:avLst/>
          </a:prstGeom>
          <a:ln w="12600">
            <a:solidFill>
              <a:srgbClr val="77933c"/>
            </a:solidFill>
            <a:miter/>
          </a:ln>
        </p:spPr>
      </p:pic>
      <p:sp>
        <p:nvSpPr>
          <p:cNvPr id="106" name="Прямоугольник 4"/>
          <p:cNvSpPr/>
          <p:nvPr/>
        </p:nvSpPr>
        <p:spPr>
          <a:xfrm>
            <a:off x="4357800" y="4071960"/>
            <a:ext cx="37144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лоды шоколадного дерева внутри окружены мякотью, в которой спрятаны пять гнёзд, наполненных множеством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28760" y="4429080"/>
            <a:ext cx="335736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чень крупный яйцевидный плод на очень коротком черешке прикреплён прямо к ств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286080" cy="384012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sp>
        <p:nvSpPr>
          <p:cNvPr id="109" name="Пятиугольник 5"/>
          <p:cNvSpPr/>
          <p:nvPr/>
        </p:nvSpPr>
        <p:spPr>
          <a:xfrm rot="10800000">
            <a:off x="821484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Мыль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:\Documents and Settings\Common\Мои документы\Мама\мыльное дер.jpg"/>
          <p:cNvPicPr/>
          <p:nvPr/>
        </p:nvPicPr>
        <p:blipFill>
          <a:blip r:embed="rId1"/>
          <a:stretch/>
        </p:blipFill>
        <p:spPr>
          <a:xfrm>
            <a:off x="357120" y="1071720"/>
            <a:ext cx="4429080" cy="5359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5072040" y="1643040"/>
            <a:ext cx="357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 течение многих столетий в Америке и Азии плоды растения применялись как естественное моющее средство при стирки тканей и одеж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Common\Мои документы\Мама\плоды мыл дер.jpg"/>
          <p:cNvPicPr/>
          <p:nvPr/>
        </p:nvPicPr>
        <p:blipFill>
          <a:blip r:embed="rId1"/>
          <a:stretch/>
        </p:blipFill>
        <p:spPr>
          <a:xfrm>
            <a:off x="376236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786120" y="4429080"/>
            <a:ext cx="4071960" cy="222696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лоды мыльного дерева также широко применяются в медицине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14200" y="857160"/>
            <a:ext cx="3357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Если растереть его плоды, образуется обильная мыльная пена. Ткани, выстиранные таким мылом, никогда не линяют и не блекнут, и другим мылом местные жители Флориды и островов Вест-Индии не польз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ятиугольник 4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72000" y="4436640"/>
            <a:ext cx="264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ьные орешки продаются и в России 340 рублей –»Экологически чистое средство для стирки белья»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125280" y="189000"/>
            <a:ext cx="8893440" cy="100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2"/>
          <a:stretch/>
        </p:blipFill>
        <p:spPr>
          <a:xfrm>
            <a:off x="4835520" y="4451400"/>
            <a:ext cx="1536840" cy="2274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3"/>
          <a:stretch/>
        </p:blipFill>
        <p:spPr>
          <a:xfrm>
            <a:off x="4427640" y="102888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4"/>
          <a:stretch/>
        </p:blipFill>
        <p:spPr>
          <a:xfrm>
            <a:off x="-23760" y="2131920"/>
            <a:ext cx="4427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одзаголовок 2"/>
          <p:cNvSpPr/>
          <p:nvPr/>
        </p:nvSpPr>
        <p:spPr>
          <a:xfrm>
            <a:off x="3276720" y="6519960"/>
            <a:ext cx="2590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771640" y="2990880"/>
            <a:ext cx="382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Common\Мои документы\Мама\Удивительные деревья\хл дер.jpeg"/>
          <p:cNvPicPr/>
          <p:nvPr/>
        </p:nvPicPr>
        <p:blipFill>
          <a:blip r:embed="rId1"/>
          <a:srcRect l="0" t="0" r="-75" b="33"/>
          <a:stretch/>
        </p:blipFill>
        <p:spPr>
          <a:xfrm>
            <a:off x="500040" y="785880"/>
            <a:ext cx="1357200" cy="2073240"/>
          </a:xfrm>
          <a:prstGeom prst="rect">
            <a:avLst/>
          </a:prstGeom>
          <a:ln w="9360">
            <a:solidFill>
              <a:srgbClr val="ccff99"/>
            </a:solidFill>
            <a:miter/>
          </a:ln>
        </p:spPr>
      </p:pic>
      <p:pic>
        <p:nvPicPr>
          <p:cNvPr id="52" name="Picture 2" descr="C:\Documents and Settings\Common\Мои документы\Мама\Удивительные деревья\колбаса.jpg"/>
          <p:cNvPicPr/>
          <p:nvPr/>
        </p:nvPicPr>
        <p:blipFill>
          <a:blip r:embed="rId2"/>
          <a:stretch/>
        </p:blipFill>
        <p:spPr>
          <a:xfrm>
            <a:off x="2643120" y="35002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Common\Мои документы\Мама\Удивительные деревья\бутылочное дер.jpg"/>
          <p:cNvPicPr/>
          <p:nvPr/>
        </p:nvPicPr>
        <p:blipFill>
          <a:blip r:embed="rId3"/>
          <a:stretch/>
        </p:blipFill>
        <p:spPr>
          <a:xfrm>
            <a:off x="428760" y="4214880"/>
            <a:ext cx="19983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Common\Мои документы\Мама\RxhAdL.JPG"/>
          <p:cNvPicPr/>
          <p:nvPr/>
        </p:nvPicPr>
        <p:blipFill>
          <a:blip r:embed="rId4"/>
          <a:stretch/>
        </p:blipFill>
        <p:spPr>
          <a:xfrm>
            <a:off x="4786200" y="4214880"/>
            <a:ext cx="1785960" cy="1454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акие из этих деревьев существу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>
            <a:hlinkClick r:id="rId5" action="ppaction://hlinksldjump"/>
          </p:cNvPr>
          <p:cNvSpPr/>
          <p:nvPr/>
        </p:nvSpPr>
        <p:spPr>
          <a:xfrm>
            <a:off x="222120" y="31431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хле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>
            <a:hlinkClick r:id="rId6" action="ppaction://hlinksldjump"/>
          </p:cNvPr>
          <p:cNvSpPr/>
          <p:nvPr/>
        </p:nvSpPr>
        <p:spPr>
          <a:xfrm>
            <a:off x="2495520" y="507204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олба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>
            <a:hlinkClick r:id="rId7" action="ppaction://hlinksldjump"/>
          </p:cNvPr>
          <p:cNvSpPr/>
          <p:nvPr/>
        </p:nvSpPr>
        <p:spPr>
          <a:xfrm>
            <a:off x="4632120" y="578628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мол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>
            <a:hlinkClick r:id="rId8" action="ppaction://hlinksldjump"/>
          </p:cNvPr>
          <p:cNvSpPr/>
          <p:nvPr/>
        </p:nvSpPr>
        <p:spPr>
          <a:xfrm>
            <a:off x="268920" y="585792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бутыл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Common\Мои документы\Мама\2c354de3c534.jpg"/>
          <p:cNvPicPr/>
          <p:nvPr/>
        </p:nvPicPr>
        <p:blipFill>
          <a:blip r:embed="rId9"/>
          <a:stretch/>
        </p:blipFill>
        <p:spPr>
          <a:xfrm>
            <a:off x="2357280" y="85716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Common\Мои документы\Мама\shokolad11.jpg"/>
          <p:cNvPicPr/>
          <p:nvPr/>
        </p:nvPicPr>
        <p:blipFill>
          <a:blip r:embed="rId10"/>
          <a:stretch/>
        </p:blipFill>
        <p:spPr>
          <a:xfrm>
            <a:off x="4929120" y="857160"/>
            <a:ext cx="1414440" cy="1922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2">
            <a:hlinkClick r:id="rId11" action="ppaction://hlinksldjump"/>
          </p:cNvPr>
          <p:cNvSpPr/>
          <p:nvPr/>
        </p:nvSpPr>
        <p:spPr>
          <a:xfrm>
            <a:off x="2139480" y="25002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онфе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>
            <a:hlinkClick r:id="rId12" action="ppaction://hlinksldjump"/>
          </p:cNvPr>
          <p:cNvSpPr/>
          <p:nvPr/>
        </p:nvSpPr>
        <p:spPr>
          <a:xfrm>
            <a:off x="4339440" y="300024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шокола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C:\Documents and Settings\Common\Мои документы\1073739b.jpg"/>
          <p:cNvPicPr/>
          <p:nvPr/>
        </p:nvPicPr>
        <p:blipFill>
          <a:blip r:embed="rId13"/>
          <a:stretch/>
        </p:blipFill>
        <p:spPr>
          <a:xfrm>
            <a:off x="6929280" y="928800"/>
            <a:ext cx="1595520" cy="1301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6"/>
          <p:cNvSpPr/>
          <p:nvPr/>
        </p:nvSpPr>
        <p:spPr>
          <a:xfrm>
            <a:off x="6846840" y="250020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мы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6929280" y="4714920"/>
            <a:ext cx="1928880" cy="1214280"/>
          </a:xfrm>
          <a:prstGeom prst="rect">
            <a:avLst/>
          </a:prstGeom>
          <a:solidFill>
            <a:srgbClr val="e9f5db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деревья-чемп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Common\Мои документы\Мама\Удивительные деревья\хлебное дерево.jpg"/>
          <p:cNvPicPr/>
          <p:nvPr/>
        </p:nvPicPr>
        <p:blipFill>
          <a:blip r:embed="rId1"/>
          <a:stretch/>
        </p:blipFill>
        <p:spPr>
          <a:xfrm>
            <a:off x="4562640" y="214200"/>
            <a:ext cx="4243320" cy="6357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4114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Хлебное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400" y="1285920"/>
            <a:ext cx="37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Хлебное дерево приносит до 200 плодов за сезон. И является одним из самых урожайных деревьев, тем более что каждая булка хлеба весит 3-4 кило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4643280" y="1428840"/>
            <a:ext cx="45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Эти плоды являются основным продуктом питания для жителей тропических островов, где растут хлебные деревья. Плоды едят и жареными, и печёными, и варё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Common\Мои документы\Мама\artocarpus_altilis_2.jpg"/>
          <p:cNvPicPr/>
          <p:nvPr/>
        </p:nvPicPr>
        <p:blipFill>
          <a:blip r:embed="rId1"/>
          <a:stretch/>
        </p:blipFill>
        <p:spPr>
          <a:xfrm>
            <a:off x="285840" y="4071960"/>
            <a:ext cx="416088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Common\Мои документы\Мама\222.jpg"/>
          <p:cNvPicPr/>
          <p:nvPr/>
        </p:nvPicPr>
        <p:blipFill>
          <a:blip r:embed="rId2"/>
          <a:stretch/>
        </p:blipFill>
        <p:spPr>
          <a:xfrm>
            <a:off x="285840" y="285840"/>
            <a:ext cx="4194000" cy="2786040"/>
          </a:xfrm>
          <a:prstGeom prst="rect">
            <a:avLst/>
          </a:prstGeom>
          <a:ln w="0">
            <a:noFill/>
          </a:ln>
        </p:spPr>
      </p:pic>
      <p:sp>
        <p:nvSpPr>
          <p:cNvPr id="73" name="Пятиугольник 4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5800" y="214200"/>
            <a:ext cx="4643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Колбас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Documents and Settings\Common\Мои документы\Мама\Удивительные деревья\колбас дер.jpg"/>
          <p:cNvPicPr/>
          <p:nvPr/>
        </p:nvPicPr>
        <p:blipFill>
          <a:blip r:embed="rId1"/>
          <a:stretch/>
        </p:blipFill>
        <p:spPr>
          <a:xfrm>
            <a:off x="4286160" y="1214280"/>
            <a:ext cx="4641840" cy="3786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200" y="121428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mbria"/>
              </a:rPr>
              <a:t>На территории экваториальной Африки на высоких деревьях растут несъедобные плоды, которые очень напоминают ливерную колбасу.  Эти деревья называются кигелиями, или «колбасными» деревь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929040" y="53578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Плоды кигелии совершенно несъедоб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иугольник 5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Баобаб или бутылочное дере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85840" y="178596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Это удивительное дерево достигает 30 метров в высоту и 11 метров в ширину. Раздутый ствол – вместилище для воды. Баобаб может хранить целых 120 000 литров воды, чтобы вынести резкие условия засу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Common\Мои документы\Мама\92d879a23e264cfc23d07549fc696a4f_full.jpg"/>
          <p:cNvPicPr/>
          <p:nvPr/>
        </p:nvPicPr>
        <p:blipFill>
          <a:blip r:embed="rId1"/>
          <a:stretch/>
        </p:blipFill>
        <p:spPr>
          <a:xfrm>
            <a:off x="5072040" y="1500120"/>
            <a:ext cx="38098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214200" y="314316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огда листья баобаба опадают, ветви оголяются и дерево принимает совершенно фантастический вид: толстый ствол, а вверху длинные, корявые и изогнутые ветки, похожие на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Documents and Settings\Common\Мои документы\Мама\0624392a9ee4.jpg"/>
          <p:cNvPicPr/>
          <p:nvPr/>
        </p:nvPicPr>
        <p:blipFill>
          <a:blip r:embed="rId1"/>
          <a:stretch/>
        </p:blipFill>
        <p:spPr>
          <a:xfrm>
            <a:off x="0" y="0"/>
            <a:ext cx="471492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Common\Мои документы\Мама\baobabstone.jpg"/>
          <p:cNvPicPr/>
          <p:nvPr/>
        </p:nvPicPr>
        <p:blipFill>
          <a:blip r:embed="rId2"/>
          <a:stretch/>
        </p:blipFill>
        <p:spPr>
          <a:xfrm>
            <a:off x="4714920" y="2147760"/>
            <a:ext cx="4429080" cy="471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4846680" y="64296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о время засухи баоба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брасывает ли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иугольник 5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56437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Конфетное  дер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mmon\Мои документы\Мама\gov_4.jpg"/>
          <p:cNvPicPr/>
          <p:nvPr/>
        </p:nvPicPr>
        <p:blipFill>
          <a:blip r:embed="rId1"/>
          <a:stretch/>
        </p:blipFill>
        <p:spPr>
          <a:xfrm>
            <a:off x="214200" y="1143000"/>
            <a:ext cx="5524560" cy="4143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6000840" y="2214720"/>
            <a:ext cx="2786040" cy="192276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онфетное дерево растёт в лесах тропической Аме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28760" y="55008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нешне оно очень похоже на липу, с большим количеством цветов, богатых нект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Common\Мои документы\Мама\ca1c41d9f517b849ae.jpg"/>
          <p:cNvPicPr/>
          <p:nvPr/>
        </p:nvPicPr>
        <p:blipFill>
          <a:blip r:embed="rId1"/>
          <a:stretch/>
        </p:blipFill>
        <p:spPr>
          <a:xfrm>
            <a:off x="4071960" y="642960"/>
            <a:ext cx="4861080" cy="5429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214200" y="214200"/>
            <a:ext cx="3714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 конце осени на дереве созревают «конфеты» – высохшие серые стручки, которые содержат много сахара и по вкусу очень похожи на изюм. Не только плоды, но и крепкая и лёгкая древесина этого дерева используется местными жителями: они изготавливают из нее музыкальные инструменты и некоторые виды меб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3"/>
          <p:cNvSpPr/>
          <p:nvPr/>
        </p:nvSpPr>
        <p:spPr>
          <a:xfrm rot="10800000">
            <a:off x="8071920" y="6143400"/>
            <a:ext cx="785880" cy="484200"/>
          </a:xfrm>
          <a:custGeom>
            <a:avLst/>
            <a:gdLst>
              <a:gd name="textAreaLeft" fmla="*/ 0 w 785880"/>
              <a:gd name="textAreaRight" fmla="*/ 786240 w 7858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2:52:12Z</dcterms:created>
  <dc:creator>AdmiN</dc:creator>
  <dc:description/>
  <dc:language>en-US</dc:language>
  <cp:lastModifiedBy>натальяfyyf новокрещенова</cp:lastModifiedBy>
  <dcterms:modified xsi:type="dcterms:W3CDTF">2020-04-01T11:10:35Z</dcterms:modified>
  <cp:revision>47</cp:revision>
  <dc:subject/>
  <dc:title>Удивительные дере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10000000000010290110207f7000400038000</vt:lpwstr>
  </property>
</Properties>
</file>