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3C2A-AC4E-4DA4-BA82-C68376C9F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4F1-8B9C-49F0-839E-99185808C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856-B76F-42A0-B7A6-C069DE83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729-855C-43E4-9A1B-692991A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B0D-E9D0-47DA-9782-EF52E587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D44-58C0-4D2F-BD3E-AB710C84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4E0-014D-497D-AF11-65B95F6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82E-6605-4DFF-9E33-439B88BD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92C-9286-40F4-BB56-428F037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A46-4C1E-4355-A7AE-6E7EEB3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2C5-9C18-4FC2-87AB-21795E8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1EB-41CD-400A-8D16-15AC5BD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199-2EA3-466F-930B-88D403A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2B9-464A-40E4-BF0A-5C06C99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02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025-FD76-45BF-B782-3B4DC7F525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76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cd5b5"/>
                </a:solidFill>
                <a:latin typeface="Arial"/>
              </a:rPr>
              <a:t>Урало-Сибирская роспи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6417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7"/>
          <p:cNvPicPr/>
          <p:nvPr/>
        </p:nvPicPr>
        <p:blipFill>
          <a:blip r:embed="rId1"/>
          <a:stretch/>
        </p:blipFill>
        <p:spPr>
          <a:xfrm>
            <a:off x="4648320" y="838080"/>
            <a:ext cx="4073400" cy="533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6"/>
          <p:cNvPicPr/>
          <p:nvPr/>
        </p:nvPicPr>
        <p:blipFill>
          <a:blip r:embed="rId2"/>
          <a:stretch/>
        </p:blipFill>
        <p:spPr>
          <a:xfrm>
            <a:off x="304920" y="2209680"/>
            <a:ext cx="40384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2274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295280" y="2514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 rot="21135000">
            <a:off x="6868800" y="3635280"/>
            <a:ext cx="210348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304920" y="150840"/>
            <a:ext cx="4114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оративная роспись Урала - одно из самобытнейших явлений русского народного искусства. Она включает в себя гармоничную и поразительную по своей цельности роспись бытовых вещей: берестяной посуды, деревянной утвари, металлических изделий и распространённый среди крестьянства обычай расписывать свои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4952880" y="339840"/>
            <a:ext cx="38592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2962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родная декоративная роспись была тесно связана с иконописью, так как украшением бытовой утвари и интерьеров, как правило, занимались иконописцы. Разнообразию травных орнаментов способствовала специализация в изготовлении икон. Среди иконописцев были «травники»,  «личники», « доличник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6572160" y="212760"/>
            <a:ext cx="2571840" cy="3157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6416640" y="3386160"/>
            <a:ext cx="271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3124440" cy="2511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927520" cy="4119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1066680" y="533520"/>
            <a:ext cx="3429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52280" y="685800"/>
            <a:ext cx="4648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любимой и чаще всего используемой была композиция цветущего дерева с сидящими на нём птицами. В уральской росписи предпочитали холодные тона и в окраске фона прялки преобладали синие, голубые и зелёные цве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298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08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312408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он, бумага, гуа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2036880" y="1143000"/>
            <a:ext cx="52228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609480" y="152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но «Урало-сибирская роспис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90720" y="6477120"/>
            <a:ext cx="73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рево, масло, хол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421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5"/>
          <p:cNvPicPr/>
          <p:nvPr/>
        </p:nvPicPr>
        <p:blipFill>
          <a:blip r:embed="rId1"/>
          <a:stretch/>
        </p:blipFill>
        <p:spPr>
          <a:xfrm>
            <a:off x="4648320" y="1447920"/>
            <a:ext cx="4257720" cy="44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1"/>
          <p:cNvPicPr/>
          <p:nvPr/>
        </p:nvPicPr>
        <p:blipFill>
          <a:blip r:embed="rId2"/>
          <a:srcRect l="0" t="10774" r="0" b="0"/>
          <a:stretch/>
        </p:blipFill>
        <p:spPr>
          <a:xfrm>
            <a:off x="380880" y="1523880"/>
            <a:ext cx="4114800" cy="126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12"/>
          <p:cNvPicPr/>
          <p:nvPr/>
        </p:nvPicPr>
        <p:blipFill>
          <a:blip r:embed="rId3"/>
          <a:stretch/>
        </p:blipFill>
        <p:spPr>
          <a:xfrm>
            <a:off x="304920" y="2971800"/>
            <a:ext cx="4157640" cy="11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4"/>
          <p:cNvPicPr/>
          <p:nvPr/>
        </p:nvPicPr>
        <p:blipFill>
          <a:blip r:embed="rId4"/>
          <a:stretch/>
        </p:blipFill>
        <p:spPr>
          <a:xfrm>
            <a:off x="228600" y="4419720"/>
            <a:ext cx="4178160" cy="1474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1447920" y="304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ёмы работы кистевой росписи двумя цве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9202</dc:creator>
  <dc:description/>
  <dc:language>en-US</dc:language>
  <cp:lastModifiedBy>RePack by Diakov</cp:lastModifiedBy>
  <dcterms:modified xsi:type="dcterms:W3CDTF">2020-04-03T17:56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